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gif" ContentType="image/gif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505-1608-41BC-B432-1B99138F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A96-5EA9-4810-9A1F-637D4354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8AE0-536E-42D4-84B0-0593799F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162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11552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724-94C9-4521-96B7-6ED4F88C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FFD-561D-4E8D-9CBF-5EE91481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624-8F1E-454D-A993-566A9E0A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610-F44C-4675-AD38-48F43E61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DDC-7633-4EDD-AB7B-55C9DFE5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0E0-783D-46E5-889D-CC9C96DD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EF4B-5982-4CC8-A680-CCD642A3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11552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F80D-EFB9-4329-AE4B-9D246A08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162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155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0C3D-0AAA-4D30-9EA4-EF6A04CA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5046840" cy="6856560"/>
          </a:xfrm>
          <a:custGeom>
            <a:avLst/>
            <a:gdLst/>
            <a:ahLst/>
            <a:rect l="l" t="t" r="r" b="b"/>
            <a:pathLst>
              <a:path w="2858" h="3901">
                <a:moveTo>
                  <a:pt x="0" y="0"/>
                </a:moveTo>
                <a:lnTo>
                  <a:pt x="2858" y="0"/>
                </a:lnTo>
                <a:lnTo>
                  <a:pt x="1724" y="3901"/>
                </a:lnTo>
                <a:lnTo>
                  <a:pt x="0" y="3901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4B74-123C-4474-92CC-9A6B3AAC5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803920" cy="768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724360" y="189000"/>
            <a:ext cx="3419640" cy="766800"/>
          </a:xfrm>
          <a:prstGeom prst="rect">
            <a:avLst/>
          </a:prstGeom>
          <a:solidFill>
            <a:srgbClr val="d35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259760" y="333360"/>
            <a:ext cx="1415880" cy="498600"/>
          </a:xfrm>
          <a:custGeom>
            <a:avLst/>
            <a:gdLst/>
            <a:ahLst/>
            <a:rect l="l" t="t" r="r" b="b"/>
            <a:pathLst>
              <a:path w="2230" h="784">
                <a:moveTo>
                  <a:pt x="2230" y="556"/>
                </a:moveTo>
                <a:lnTo>
                  <a:pt x="1934" y="556"/>
                </a:lnTo>
                <a:lnTo>
                  <a:pt x="1934" y="563"/>
                </a:lnTo>
                <a:lnTo>
                  <a:pt x="1934" y="573"/>
                </a:lnTo>
                <a:lnTo>
                  <a:pt x="1934" y="580"/>
                </a:lnTo>
                <a:lnTo>
                  <a:pt x="1937" y="587"/>
                </a:lnTo>
                <a:lnTo>
                  <a:pt x="1937" y="594"/>
                </a:lnTo>
                <a:lnTo>
                  <a:pt x="1939" y="601"/>
                </a:lnTo>
                <a:lnTo>
                  <a:pt x="1939" y="606"/>
                </a:lnTo>
                <a:lnTo>
                  <a:pt x="1941" y="613"/>
                </a:lnTo>
                <a:lnTo>
                  <a:pt x="1944" y="617"/>
                </a:lnTo>
                <a:lnTo>
                  <a:pt x="1944" y="624"/>
                </a:lnTo>
                <a:lnTo>
                  <a:pt x="1946" y="629"/>
                </a:lnTo>
                <a:lnTo>
                  <a:pt x="1948" y="634"/>
                </a:lnTo>
                <a:lnTo>
                  <a:pt x="1951" y="638"/>
                </a:lnTo>
                <a:lnTo>
                  <a:pt x="1955" y="643"/>
                </a:lnTo>
                <a:lnTo>
                  <a:pt x="1958" y="648"/>
                </a:lnTo>
                <a:lnTo>
                  <a:pt x="1960" y="653"/>
                </a:lnTo>
                <a:lnTo>
                  <a:pt x="1965" y="657"/>
                </a:lnTo>
                <a:lnTo>
                  <a:pt x="1967" y="660"/>
                </a:lnTo>
                <a:lnTo>
                  <a:pt x="1972" y="664"/>
                </a:lnTo>
                <a:lnTo>
                  <a:pt x="1977" y="667"/>
                </a:lnTo>
                <a:lnTo>
                  <a:pt x="1981" y="669"/>
                </a:lnTo>
                <a:lnTo>
                  <a:pt x="1984" y="671"/>
                </a:lnTo>
                <a:lnTo>
                  <a:pt x="1988" y="674"/>
                </a:lnTo>
                <a:lnTo>
                  <a:pt x="1993" y="676"/>
                </a:lnTo>
                <a:lnTo>
                  <a:pt x="2000" y="678"/>
                </a:lnTo>
                <a:lnTo>
                  <a:pt x="2005" y="681"/>
                </a:lnTo>
                <a:lnTo>
                  <a:pt x="2009" y="681"/>
                </a:lnTo>
                <a:lnTo>
                  <a:pt x="2017" y="683"/>
                </a:lnTo>
                <a:lnTo>
                  <a:pt x="2021" y="683"/>
                </a:lnTo>
                <a:lnTo>
                  <a:pt x="2028" y="683"/>
                </a:lnTo>
                <a:lnTo>
                  <a:pt x="2033" y="685"/>
                </a:lnTo>
                <a:lnTo>
                  <a:pt x="2040" y="685"/>
                </a:lnTo>
                <a:lnTo>
                  <a:pt x="2049" y="685"/>
                </a:lnTo>
                <a:lnTo>
                  <a:pt x="2061" y="683"/>
                </a:lnTo>
                <a:lnTo>
                  <a:pt x="2071" y="683"/>
                </a:lnTo>
                <a:lnTo>
                  <a:pt x="2078" y="681"/>
                </a:lnTo>
                <a:lnTo>
                  <a:pt x="2087" y="681"/>
                </a:lnTo>
                <a:lnTo>
                  <a:pt x="2096" y="678"/>
                </a:lnTo>
                <a:lnTo>
                  <a:pt x="2106" y="674"/>
                </a:lnTo>
                <a:lnTo>
                  <a:pt x="2113" y="671"/>
                </a:lnTo>
                <a:lnTo>
                  <a:pt x="2122" y="669"/>
                </a:lnTo>
                <a:lnTo>
                  <a:pt x="2129" y="664"/>
                </a:lnTo>
                <a:lnTo>
                  <a:pt x="2136" y="660"/>
                </a:lnTo>
                <a:lnTo>
                  <a:pt x="2143" y="655"/>
                </a:lnTo>
                <a:lnTo>
                  <a:pt x="2153" y="650"/>
                </a:lnTo>
                <a:lnTo>
                  <a:pt x="2160" y="645"/>
                </a:lnTo>
                <a:lnTo>
                  <a:pt x="2165" y="638"/>
                </a:lnTo>
                <a:lnTo>
                  <a:pt x="2172" y="634"/>
                </a:lnTo>
                <a:lnTo>
                  <a:pt x="2223" y="714"/>
                </a:lnTo>
                <a:lnTo>
                  <a:pt x="2219" y="718"/>
                </a:lnTo>
                <a:lnTo>
                  <a:pt x="2214" y="723"/>
                </a:lnTo>
                <a:lnTo>
                  <a:pt x="2207" y="725"/>
                </a:lnTo>
                <a:lnTo>
                  <a:pt x="2202" y="730"/>
                </a:lnTo>
                <a:lnTo>
                  <a:pt x="2197" y="735"/>
                </a:lnTo>
                <a:lnTo>
                  <a:pt x="2190" y="737"/>
                </a:lnTo>
                <a:lnTo>
                  <a:pt x="2186" y="742"/>
                </a:lnTo>
                <a:lnTo>
                  <a:pt x="2181" y="744"/>
                </a:lnTo>
                <a:lnTo>
                  <a:pt x="2174" y="749"/>
                </a:lnTo>
                <a:lnTo>
                  <a:pt x="2169" y="751"/>
                </a:lnTo>
                <a:lnTo>
                  <a:pt x="2165" y="753"/>
                </a:lnTo>
                <a:lnTo>
                  <a:pt x="2158" y="756"/>
                </a:lnTo>
                <a:lnTo>
                  <a:pt x="2153" y="758"/>
                </a:lnTo>
                <a:lnTo>
                  <a:pt x="2146" y="761"/>
                </a:lnTo>
                <a:lnTo>
                  <a:pt x="2141" y="765"/>
                </a:lnTo>
                <a:lnTo>
                  <a:pt x="2134" y="765"/>
                </a:lnTo>
                <a:lnTo>
                  <a:pt x="2129" y="768"/>
                </a:lnTo>
                <a:lnTo>
                  <a:pt x="2122" y="770"/>
                </a:lnTo>
                <a:lnTo>
                  <a:pt x="2118" y="772"/>
                </a:lnTo>
                <a:lnTo>
                  <a:pt x="2113" y="775"/>
                </a:lnTo>
                <a:lnTo>
                  <a:pt x="2106" y="775"/>
                </a:lnTo>
                <a:lnTo>
                  <a:pt x="2101" y="777"/>
                </a:lnTo>
                <a:lnTo>
                  <a:pt x="2094" y="779"/>
                </a:lnTo>
                <a:lnTo>
                  <a:pt x="2087" y="779"/>
                </a:lnTo>
                <a:lnTo>
                  <a:pt x="2082" y="782"/>
                </a:lnTo>
                <a:lnTo>
                  <a:pt x="2075" y="782"/>
                </a:lnTo>
                <a:lnTo>
                  <a:pt x="2071" y="782"/>
                </a:lnTo>
                <a:lnTo>
                  <a:pt x="2064" y="784"/>
                </a:lnTo>
                <a:lnTo>
                  <a:pt x="2059" y="784"/>
                </a:lnTo>
                <a:lnTo>
                  <a:pt x="2052" y="784"/>
                </a:lnTo>
                <a:lnTo>
                  <a:pt x="2047" y="784"/>
                </a:lnTo>
                <a:lnTo>
                  <a:pt x="2040" y="784"/>
                </a:lnTo>
                <a:lnTo>
                  <a:pt x="2031" y="784"/>
                </a:lnTo>
                <a:lnTo>
                  <a:pt x="2024" y="784"/>
                </a:lnTo>
                <a:lnTo>
                  <a:pt x="2014" y="784"/>
                </a:lnTo>
                <a:lnTo>
                  <a:pt x="2007" y="782"/>
                </a:lnTo>
                <a:lnTo>
                  <a:pt x="1998" y="782"/>
                </a:lnTo>
                <a:lnTo>
                  <a:pt x="1991" y="782"/>
                </a:lnTo>
                <a:lnTo>
                  <a:pt x="1984" y="779"/>
                </a:lnTo>
                <a:lnTo>
                  <a:pt x="1974" y="777"/>
                </a:lnTo>
                <a:lnTo>
                  <a:pt x="1967" y="777"/>
                </a:lnTo>
                <a:lnTo>
                  <a:pt x="1960" y="775"/>
                </a:lnTo>
                <a:lnTo>
                  <a:pt x="1953" y="772"/>
                </a:lnTo>
                <a:lnTo>
                  <a:pt x="1946" y="770"/>
                </a:lnTo>
                <a:lnTo>
                  <a:pt x="1939" y="768"/>
                </a:lnTo>
                <a:lnTo>
                  <a:pt x="1932" y="765"/>
                </a:lnTo>
                <a:lnTo>
                  <a:pt x="1925" y="763"/>
                </a:lnTo>
                <a:lnTo>
                  <a:pt x="1920" y="761"/>
                </a:lnTo>
                <a:lnTo>
                  <a:pt x="1913" y="756"/>
                </a:lnTo>
                <a:lnTo>
                  <a:pt x="1906" y="753"/>
                </a:lnTo>
                <a:lnTo>
                  <a:pt x="1901" y="751"/>
                </a:lnTo>
                <a:lnTo>
                  <a:pt x="1894" y="746"/>
                </a:lnTo>
                <a:lnTo>
                  <a:pt x="1890" y="742"/>
                </a:lnTo>
                <a:lnTo>
                  <a:pt x="1885" y="739"/>
                </a:lnTo>
                <a:lnTo>
                  <a:pt x="1878" y="735"/>
                </a:lnTo>
                <a:lnTo>
                  <a:pt x="1873" y="730"/>
                </a:lnTo>
                <a:lnTo>
                  <a:pt x="1868" y="725"/>
                </a:lnTo>
                <a:lnTo>
                  <a:pt x="1864" y="721"/>
                </a:lnTo>
                <a:lnTo>
                  <a:pt x="1859" y="716"/>
                </a:lnTo>
                <a:lnTo>
                  <a:pt x="1854" y="711"/>
                </a:lnTo>
                <a:lnTo>
                  <a:pt x="1850" y="707"/>
                </a:lnTo>
                <a:lnTo>
                  <a:pt x="1845" y="699"/>
                </a:lnTo>
                <a:lnTo>
                  <a:pt x="1840" y="695"/>
                </a:lnTo>
                <a:lnTo>
                  <a:pt x="1836" y="688"/>
                </a:lnTo>
                <a:lnTo>
                  <a:pt x="1831" y="681"/>
                </a:lnTo>
                <a:lnTo>
                  <a:pt x="1826" y="671"/>
                </a:lnTo>
                <a:lnTo>
                  <a:pt x="1821" y="662"/>
                </a:lnTo>
                <a:lnTo>
                  <a:pt x="1817" y="653"/>
                </a:lnTo>
                <a:lnTo>
                  <a:pt x="1812" y="643"/>
                </a:lnTo>
                <a:lnTo>
                  <a:pt x="1807" y="631"/>
                </a:lnTo>
                <a:lnTo>
                  <a:pt x="1805" y="622"/>
                </a:lnTo>
                <a:lnTo>
                  <a:pt x="1800" y="610"/>
                </a:lnTo>
                <a:lnTo>
                  <a:pt x="1798" y="601"/>
                </a:lnTo>
                <a:lnTo>
                  <a:pt x="1796" y="589"/>
                </a:lnTo>
                <a:lnTo>
                  <a:pt x="1793" y="580"/>
                </a:lnTo>
                <a:lnTo>
                  <a:pt x="1793" y="568"/>
                </a:lnTo>
                <a:lnTo>
                  <a:pt x="1791" y="556"/>
                </a:lnTo>
                <a:lnTo>
                  <a:pt x="1791" y="545"/>
                </a:lnTo>
                <a:lnTo>
                  <a:pt x="1791" y="533"/>
                </a:lnTo>
                <a:lnTo>
                  <a:pt x="1789" y="519"/>
                </a:lnTo>
                <a:lnTo>
                  <a:pt x="1789" y="512"/>
                </a:lnTo>
                <a:lnTo>
                  <a:pt x="1791" y="505"/>
                </a:lnTo>
                <a:lnTo>
                  <a:pt x="1791" y="498"/>
                </a:lnTo>
                <a:lnTo>
                  <a:pt x="1791" y="491"/>
                </a:lnTo>
                <a:lnTo>
                  <a:pt x="1791" y="483"/>
                </a:lnTo>
                <a:lnTo>
                  <a:pt x="1791" y="474"/>
                </a:lnTo>
                <a:lnTo>
                  <a:pt x="1793" y="469"/>
                </a:lnTo>
                <a:lnTo>
                  <a:pt x="1793" y="462"/>
                </a:lnTo>
                <a:lnTo>
                  <a:pt x="1793" y="455"/>
                </a:lnTo>
                <a:lnTo>
                  <a:pt x="1796" y="448"/>
                </a:lnTo>
                <a:lnTo>
                  <a:pt x="1796" y="441"/>
                </a:lnTo>
                <a:lnTo>
                  <a:pt x="1798" y="434"/>
                </a:lnTo>
                <a:lnTo>
                  <a:pt x="1798" y="427"/>
                </a:lnTo>
                <a:lnTo>
                  <a:pt x="1800" y="422"/>
                </a:lnTo>
                <a:lnTo>
                  <a:pt x="1803" y="415"/>
                </a:lnTo>
                <a:lnTo>
                  <a:pt x="1805" y="408"/>
                </a:lnTo>
                <a:lnTo>
                  <a:pt x="1805" y="404"/>
                </a:lnTo>
                <a:lnTo>
                  <a:pt x="1807" y="397"/>
                </a:lnTo>
                <a:lnTo>
                  <a:pt x="1810" y="392"/>
                </a:lnTo>
                <a:lnTo>
                  <a:pt x="1812" y="385"/>
                </a:lnTo>
                <a:lnTo>
                  <a:pt x="1814" y="380"/>
                </a:lnTo>
                <a:lnTo>
                  <a:pt x="1817" y="375"/>
                </a:lnTo>
                <a:lnTo>
                  <a:pt x="1819" y="368"/>
                </a:lnTo>
                <a:lnTo>
                  <a:pt x="1821" y="364"/>
                </a:lnTo>
                <a:lnTo>
                  <a:pt x="1824" y="359"/>
                </a:lnTo>
                <a:lnTo>
                  <a:pt x="1829" y="354"/>
                </a:lnTo>
                <a:lnTo>
                  <a:pt x="1831" y="347"/>
                </a:lnTo>
                <a:lnTo>
                  <a:pt x="1833" y="343"/>
                </a:lnTo>
                <a:lnTo>
                  <a:pt x="1838" y="338"/>
                </a:lnTo>
                <a:lnTo>
                  <a:pt x="1840" y="333"/>
                </a:lnTo>
                <a:lnTo>
                  <a:pt x="1843" y="329"/>
                </a:lnTo>
                <a:lnTo>
                  <a:pt x="1847" y="324"/>
                </a:lnTo>
                <a:lnTo>
                  <a:pt x="1850" y="319"/>
                </a:lnTo>
                <a:lnTo>
                  <a:pt x="1854" y="314"/>
                </a:lnTo>
                <a:lnTo>
                  <a:pt x="1859" y="310"/>
                </a:lnTo>
                <a:lnTo>
                  <a:pt x="1864" y="307"/>
                </a:lnTo>
                <a:lnTo>
                  <a:pt x="1866" y="303"/>
                </a:lnTo>
                <a:lnTo>
                  <a:pt x="1871" y="298"/>
                </a:lnTo>
                <a:lnTo>
                  <a:pt x="1876" y="296"/>
                </a:lnTo>
                <a:lnTo>
                  <a:pt x="1880" y="291"/>
                </a:lnTo>
                <a:lnTo>
                  <a:pt x="1885" y="286"/>
                </a:lnTo>
                <a:lnTo>
                  <a:pt x="1890" y="284"/>
                </a:lnTo>
                <a:lnTo>
                  <a:pt x="1894" y="282"/>
                </a:lnTo>
                <a:lnTo>
                  <a:pt x="1899" y="277"/>
                </a:lnTo>
                <a:lnTo>
                  <a:pt x="1904" y="275"/>
                </a:lnTo>
                <a:lnTo>
                  <a:pt x="1908" y="272"/>
                </a:lnTo>
                <a:lnTo>
                  <a:pt x="1913" y="270"/>
                </a:lnTo>
                <a:lnTo>
                  <a:pt x="1918" y="267"/>
                </a:lnTo>
                <a:lnTo>
                  <a:pt x="1925" y="265"/>
                </a:lnTo>
                <a:lnTo>
                  <a:pt x="1930" y="263"/>
                </a:lnTo>
                <a:lnTo>
                  <a:pt x="1934" y="260"/>
                </a:lnTo>
                <a:lnTo>
                  <a:pt x="1941" y="258"/>
                </a:lnTo>
                <a:lnTo>
                  <a:pt x="1946" y="258"/>
                </a:lnTo>
                <a:lnTo>
                  <a:pt x="1951" y="256"/>
                </a:lnTo>
                <a:lnTo>
                  <a:pt x="1958" y="253"/>
                </a:lnTo>
                <a:lnTo>
                  <a:pt x="1962" y="253"/>
                </a:lnTo>
                <a:lnTo>
                  <a:pt x="1970" y="251"/>
                </a:lnTo>
                <a:lnTo>
                  <a:pt x="1974" y="251"/>
                </a:lnTo>
                <a:lnTo>
                  <a:pt x="1981" y="249"/>
                </a:lnTo>
                <a:lnTo>
                  <a:pt x="1988" y="249"/>
                </a:lnTo>
                <a:lnTo>
                  <a:pt x="1995" y="249"/>
                </a:lnTo>
                <a:lnTo>
                  <a:pt x="2000" y="249"/>
                </a:lnTo>
                <a:lnTo>
                  <a:pt x="2007" y="249"/>
                </a:lnTo>
                <a:lnTo>
                  <a:pt x="2014" y="249"/>
                </a:lnTo>
                <a:lnTo>
                  <a:pt x="2017" y="249"/>
                </a:lnTo>
                <a:lnTo>
                  <a:pt x="2021" y="249"/>
                </a:lnTo>
                <a:lnTo>
                  <a:pt x="2024" y="249"/>
                </a:lnTo>
                <a:lnTo>
                  <a:pt x="2028" y="249"/>
                </a:lnTo>
                <a:lnTo>
                  <a:pt x="2031" y="249"/>
                </a:lnTo>
                <a:lnTo>
                  <a:pt x="2033" y="249"/>
                </a:lnTo>
                <a:lnTo>
                  <a:pt x="2038" y="249"/>
                </a:lnTo>
                <a:lnTo>
                  <a:pt x="2040" y="249"/>
                </a:lnTo>
                <a:lnTo>
                  <a:pt x="2042" y="249"/>
                </a:lnTo>
                <a:lnTo>
                  <a:pt x="2047" y="249"/>
                </a:lnTo>
                <a:lnTo>
                  <a:pt x="2049" y="251"/>
                </a:lnTo>
                <a:lnTo>
                  <a:pt x="2052" y="251"/>
                </a:lnTo>
                <a:lnTo>
                  <a:pt x="2056" y="251"/>
                </a:lnTo>
                <a:lnTo>
                  <a:pt x="2059" y="251"/>
                </a:lnTo>
                <a:lnTo>
                  <a:pt x="2061" y="251"/>
                </a:lnTo>
                <a:lnTo>
                  <a:pt x="2064" y="251"/>
                </a:lnTo>
                <a:lnTo>
                  <a:pt x="2068" y="253"/>
                </a:lnTo>
                <a:lnTo>
                  <a:pt x="2071" y="253"/>
                </a:lnTo>
                <a:lnTo>
                  <a:pt x="2073" y="253"/>
                </a:lnTo>
                <a:lnTo>
                  <a:pt x="2075" y="253"/>
                </a:lnTo>
                <a:lnTo>
                  <a:pt x="2080" y="256"/>
                </a:lnTo>
                <a:lnTo>
                  <a:pt x="2082" y="256"/>
                </a:lnTo>
                <a:lnTo>
                  <a:pt x="2085" y="256"/>
                </a:lnTo>
                <a:lnTo>
                  <a:pt x="2087" y="258"/>
                </a:lnTo>
                <a:lnTo>
                  <a:pt x="2089" y="258"/>
                </a:lnTo>
                <a:lnTo>
                  <a:pt x="2092" y="258"/>
                </a:lnTo>
                <a:lnTo>
                  <a:pt x="2096" y="260"/>
                </a:lnTo>
                <a:lnTo>
                  <a:pt x="2099" y="260"/>
                </a:lnTo>
                <a:lnTo>
                  <a:pt x="2101" y="263"/>
                </a:lnTo>
                <a:lnTo>
                  <a:pt x="2103" y="263"/>
                </a:lnTo>
                <a:lnTo>
                  <a:pt x="2106" y="263"/>
                </a:lnTo>
                <a:lnTo>
                  <a:pt x="2108" y="265"/>
                </a:lnTo>
                <a:lnTo>
                  <a:pt x="2111" y="265"/>
                </a:lnTo>
                <a:lnTo>
                  <a:pt x="2113" y="267"/>
                </a:lnTo>
                <a:lnTo>
                  <a:pt x="2115" y="267"/>
                </a:lnTo>
                <a:lnTo>
                  <a:pt x="2118" y="270"/>
                </a:lnTo>
                <a:lnTo>
                  <a:pt x="2120" y="270"/>
                </a:lnTo>
                <a:lnTo>
                  <a:pt x="2122" y="272"/>
                </a:lnTo>
                <a:lnTo>
                  <a:pt x="2125" y="272"/>
                </a:lnTo>
                <a:lnTo>
                  <a:pt x="2127" y="275"/>
                </a:lnTo>
                <a:lnTo>
                  <a:pt x="2129" y="277"/>
                </a:lnTo>
                <a:lnTo>
                  <a:pt x="2132" y="277"/>
                </a:lnTo>
                <a:lnTo>
                  <a:pt x="2134" y="279"/>
                </a:lnTo>
                <a:lnTo>
                  <a:pt x="2136" y="279"/>
                </a:lnTo>
                <a:lnTo>
                  <a:pt x="2139" y="282"/>
                </a:lnTo>
                <a:lnTo>
                  <a:pt x="2141" y="284"/>
                </a:lnTo>
                <a:lnTo>
                  <a:pt x="2143" y="284"/>
                </a:lnTo>
                <a:lnTo>
                  <a:pt x="2146" y="286"/>
                </a:lnTo>
                <a:lnTo>
                  <a:pt x="2148" y="289"/>
                </a:lnTo>
                <a:lnTo>
                  <a:pt x="2150" y="289"/>
                </a:lnTo>
                <a:lnTo>
                  <a:pt x="2150" y="291"/>
                </a:lnTo>
                <a:lnTo>
                  <a:pt x="2153" y="293"/>
                </a:lnTo>
                <a:lnTo>
                  <a:pt x="2155" y="293"/>
                </a:lnTo>
                <a:lnTo>
                  <a:pt x="2158" y="296"/>
                </a:lnTo>
                <a:lnTo>
                  <a:pt x="2160" y="298"/>
                </a:lnTo>
                <a:lnTo>
                  <a:pt x="2162" y="300"/>
                </a:lnTo>
                <a:lnTo>
                  <a:pt x="2162" y="303"/>
                </a:lnTo>
                <a:lnTo>
                  <a:pt x="2165" y="303"/>
                </a:lnTo>
                <a:lnTo>
                  <a:pt x="2167" y="305"/>
                </a:lnTo>
                <a:lnTo>
                  <a:pt x="2169" y="307"/>
                </a:lnTo>
                <a:lnTo>
                  <a:pt x="2172" y="310"/>
                </a:lnTo>
                <a:lnTo>
                  <a:pt x="2172" y="312"/>
                </a:lnTo>
                <a:lnTo>
                  <a:pt x="2174" y="314"/>
                </a:lnTo>
                <a:lnTo>
                  <a:pt x="2176" y="317"/>
                </a:lnTo>
                <a:lnTo>
                  <a:pt x="2176" y="317"/>
                </a:lnTo>
                <a:lnTo>
                  <a:pt x="2179" y="319"/>
                </a:lnTo>
                <a:lnTo>
                  <a:pt x="2181" y="321"/>
                </a:lnTo>
                <a:lnTo>
                  <a:pt x="2183" y="324"/>
                </a:lnTo>
                <a:lnTo>
                  <a:pt x="2183" y="326"/>
                </a:lnTo>
                <a:lnTo>
                  <a:pt x="2186" y="329"/>
                </a:lnTo>
                <a:lnTo>
                  <a:pt x="2188" y="331"/>
                </a:lnTo>
                <a:lnTo>
                  <a:pt x="2188" y="333"/>
                </a:lnTo>
                <a:lnTo>
                  <a:pt x="2190" y="336"/>
                </a:lnTo>
                <a:lnTo>
                  <a:pt x="2190" y="338"/>
                </a:lnTo>
                <a:lnTo>
                  <a:pt x="2193" y="340"/>
                </a:lnTo>
                <a:lnTo>
                  <a:pt x="2195" y="343"/>
                </a:lnTo>
                <a:lnTo>
                  <a:pt x="2195" y="347"/>
                </a:lnTo>
                <a:lnTo>
                  <a:pt x="2197" y="350"/>
                </a:lnTo>
                <a:lnTo>
                  <a:pt x="2197" y="352"/>
                </a:lnTo>
                <a:lnTo>
                  <a:pt x="2200" y="354"/>
                </a:lnTo>
                <a:lnTo>
                  <a:pt x="2200" y="357"/>
                </a:lnTo>
                <a:lnTo>
                  <a:pt x="2202" y="359"/>
                </a:lnTo>
                <a:lnTo>
                  <a:pt x="2202" y="361"/>
                </a:lnTo>
                <a:lnTo>
                  <a:pt x="2205" y="364"/>
                </a:lnTo>
                <a:lnTo>
                  <a:pt x="2205" y="368"/>
                </a:lnTo>
                <a:lnTo>
                  <a:pt x="2207" y="371"/>
                </a:lnTo>
                <a:lnTo>
                  <a:pt x="2207" y="373"/>
                </a:lnTo>
                <a:lnTo>
                  <a:pt x="2209" y="375"/>
                </a:lnTo>
                <a:lnTo>
                  <a:pt x="2209" y="380"/>
                </a:lnTo>
                <a:lnTo>
                  <a:pt x="2212" y="383"/>
                </a:lnTo>
                <a:lnTo>
                  <a:pt x="2212" y="385"/>
                </a:lnTo>
                <a:lnTo>
                  <a:pt x="2212" y="387"/>
                </a:lnTo>
                <a:lnTo>
                  <a:pt x="2214" y="392"/>
                </a:lnTo>
                <a:lnTo>
                  <a:pt x="2214" y="394"/>
                </a:lnTo>
                <a:lnTo>
                  <a:pt x="2216" y="397"/>
                </a:lnTo>
                <a:lnTo>
                  <a:pt x="2216" y="401"/>
                </a:lnTo>
                <a:lnTo>
                  <a:pt x="2216" y="404"/>
                </a:lnTo>
                <a:lnTo>
                  <a:pt x="2219" y="406"/>
                </a:lnTo>
                <a:lnTo>
                  <a:pt x="2219" y="411"/>
                </a:lnTo>
                <a:lnTo>
                  <a:pt x="2219" y="413"/>
                </a:lnTo>
                <a:lnTo>
                  <a:pt x="2221" y="418"/>
                </a:lnTo>
                <a:lnTo>
                  <a:pt x="2221" y="420"/>
                </a:lnTo>
                <a:lnTo>
                  <a:pt x="2221" y="425"/>
                </a:lnTo>
                <a:lnTo>
                  <a:pt x="2221" y="427"/>
                </a:lnTo>
                <a:lnTo>
                  <a:pt x="2223" y="429"/>
                </a:lnTo>
                <a:lnTo>
                  <a:pt x="2223" y="434"/>
                </a:lnTo>
                <a:lnTo>
                  <a:pt x="2223" y="437"/>
                </a:lnTo>
                <a:lnTo>
                  <a:pt x="2223" y="441"/>
                </a:lnTo>
                <a:lnTo>
                  <a:pt x="2226" y="446"/>
                </a:lnTo>
                <a:lnTo>
                  <a:pt x="2226" y="448"/>
                </a:lnTo>
                <a:lnTo>
                  <a:pt x="2226" y="453"/>
                </a:lnTo>
                <a:lnTo>
                  <a:pt x="2226" y="455"/>
                </a:lnTo>
                <a:lnTo>
                  <a:pt x="2226" y="460"/>
                </a:lnTo>
                <a:lnTo>
                  <a:pt x="2228" y="462"/>
                </a:lnTo>
                <a:lnTo>
                  <a:pt x="2228" y="467"/>
                </a:lnTo>
                <a:lnTo>
                  <a:pt x="2228" y="472"/>
                </a:lnTo>
                <a:lnTo>
                  <a:pt x="2228" y="474"/>
                </a:lnTo>
                <a:lnTo>
                  <a:pt x="2228" y="479"/>
                </a:lnTo>
                <a:lnTo>
                  <a:pt x="2228" y="483"/>
                </a:lnTo>
                <a:lnTo>
                  <a:pt x="2228" y="486"/>
                </a:lnTo>
                <a:lnTo>
                  <a:pt x="2228" y="491"/>
                </a:lnTo>
                <a:lnTo>
                  <a:pt x="2230" y="495"/>
                </a:lnTo>
                <a:lnTo>
                  <a:pt x="2230" y="498"/>
                </a:lnTo>
                <a:lnTo>
                  <a:pt x="2230" y="502"/>
                </a:lnTo>
                <a:lnTo>
                  <a:pt x="2230" y="507"/>
                </a:lnTo>
                <a:lnTo>
                  <a:pt x="2230" y="512"/>
                </a:lnTo>
                <a:lnTo>
                  <a:pt x="2230" y="514"/>
                </a:lnTo>
                <a:lnTo>
                  <a:pt x="2230" y="519"/>
                </a:lnTo>
                <a:lnTo>
                  <a:pt x="2230" y="556"/>
                </a:lnTo>
                <a:close/>
                <a:moveTo>
                  <a:pt x="1260" y="547"/>
                </a:moveTo>
                <a:lnTo>
                  <a:pt x="1260" y="552"/>
                </a:lnTo>
                <a:lnTo>
                  <a:pt x="1260" y="554"/>
                </a:lnTo>
                <a:lnTo>
                  <a:pt x="1260" y="559"/>
                </a:lnTo>
                <a:lnTo>
                  <a:pt x="1260" y="563"/>
                </a:lnTo>
                <a:lnTo>
                  <a:pt x="1260" y="566"/>
                </a:lnTo>
                <a:lnTo>
                  <a:pt x="1258" y="570"/>
                </a:lnTo>
                <a:lnTo>
                  <a:pt x="1258" y="573"/>
                </a:lnTo>
                <a:lnTo>
                  <a:pt x="1258" y="577"/>
                </a:lnTo>
                <a:lnTo>
                  <a:pt x="1258" y="580"/>
                </a:lnTo>
                <a:lnTo>
                  <a:pt x="1258" y="582"/>
                </a:lnTo>
                <a:lnTo>
                  <a:pt x="1258" y="587"/>
                </a:lnTo>
                <a:lnTo>
                  <a:pt x="1258" y="589"/>
                </a:lnTo>
                <a:lnTo>
                  <a:pt x="1258" y="594"/>
                </a:lnTo>
                <a:lnTo>
                  <a:pt x="1255" y="596"/>
                </a:lnTo>
                <a:lnTo>
                  <a:pt x="1255" y="601"/>
                </a:lnTo>
                <a:lnTo>
                  <a:pt x="1255" y="603"/>
                </a:lnTo>
                <a:lnTo>
                  <a:pt x="1255" y="606"/>
                </a:lnTo>
                <a:lnTo>
                  <a:pt x="1253" y="610"/>
                </a:lnTo>
                <a:lnTo>
                  <a:pt x="1253" y="613"/>
                </a:lnTo>
                <a:lnTo>
                  <a:pt x="1253" y="615"/>
                </a:lnTo>
                <a:lnTo>
                  <a:pt x="1253" y="620"/>
                </a:lnTo>
                <a:lnTo>
                  <a:pt x="1250" y="622"/>
                </a:lnTo>
                <a:lnTo>
                  <a:pt x="1250" y="624"/>
                </a:lnTo>
                <a:lnTo>
                  <a:pt x="1250" y="629"/>
                </a:lnTo>
                <a:lnTo>
                  <a:pt x="1248" y="631"/>
                </a:lnTo>
                <a:lnTo>
                  <a:pt x="1248" y="634"/>
                </a:lnTo>
                <a:lnTo>
                  <a:pt x="1246" y="636"/>
                </a:lnTo>
                <a:lnTo>
                  <a:pt x="1246" y="641"/>
                </a:lnTo>
                <a:lnTo>
                  <a:pt x="1246" y="643"/>
                </a:lnTo>
                <a:lnTo>
                  <a:pt x="1243" y="645"/>
                </a:lnTo>
                <a:lnTo>
                  <a:pt x="1243" y="648"/>
                </a:lnTo>
                <a:lnTo>
                  <a:pt x="1241" y="650"/>
                </a:lnTo>
                <a:lnTo>
                  <a:pt x="1241" y="655"/>
                </a:lnTo>
                <a:lnTo>
                  <a:pt x="1239" y="657"/>
                </a:lnTo>
                <a:lnTo>
                  <a:pt x="1239" y="660"/>
                </a:lnTo>
                <a:lnTo>
                  <a:pt x="1236" y="662"/>
                </a:lnTo>
                <a:lnTo>
                  <a:pt x="1236" y="664"/>
                </a:lnTo>
                <a:lnTo>
                  <a:pt x="1234" y="667"/>
                </a:lnTo>
                <a:lnTo>
                  <a:pt x="1234" y="669"/>
                </a:lnTo>
                <a:lnTo>
                  <a:pt x="1232" y="671"/>
                </a:lnTo>
                <a:lnTo>
                  <a:pt x="1232" y="674"/>
                </a:lnTo>
                <a:lnTo>
                  <a:pt x="1229" y="678"/>
                </a:lnTo>
                <a:lnTo>
                  <a:pt x="1227" y="681"/>
                </a:lnTo>
                <a:lnTo>
                  <a:pt x="1227" y="683"/>
                </a:lnTo>
                <a:lnTo>
                  <a:pt x="1225" y="685"/>
                </a:lnTo>
                <a:lnTo>
                  <a:pt x="1222" y="688"/>
                </a:lnTo>
                <a:lnTo>
                  <a:pt x="1222" y="690"/>
                </a:lnTo>
                <a:lnTo>
                  <a:pt x="1220" y="692"/>
                </a:lnTo>
                <a:lnTo>
                  <a:pt x="1218" y="695"/>
                </a:lnTo>
                <a:lnTo>
                  <a:pt x="1218" y="697"/>
                </a:lnTo>
                <a:lnTo>
                  <a:pt x="1215" y="699"/>
                </a:lnTo>
                <a:lnTo>
                  <a:pt x="1213" y="699"/>
                </a:lnTo>
                <a:lnTo>
                  <a:pt x="1211" y="702"/>
                </a:lnTo>
                <a:lnTo>
                  <a:pt x="1211" y="704"/>
                </a:lnTo>
                <a:lnTo>
                  <a:pt x="1208" y="707"/>
                </a:lnTo>
                <a:lnTo>
                  <a:pt x="1206" y="709"/>
                </a:lnTo>
                <a:lnTo>
                  <a:pt x="1203" y="711"/>
                </a:lnTo>
                <a:lnTo>
                  <a:pt x="1201" y="714"/>
                </a:lnTo>
                <a:lnTo>
                  <a:pt x="1201" y="716"/>
                </a:lnTo>
                <a:lnTo>
                  <a:pt x="1199" y="718"/>
                </a:lnTo>
                <a:lnTo>
                  <a:pt x="1196" y="718"/>
                </a:lnTo>
                <a:lnTo>
                  <a:pt x="1194" y="721"/>
                </a:lnTo>
                <a:lnTo>
                  <a:pt x="1192" y="723"/>
                </a:lnTo>
                <a:lnTo>
                  <a:pt x="1189" y="725"/>
                </a:lnTo>
                <a:lnTo>
                  <a:pt x="1187" y="728"/>
                </a:lnTo>
                <a:lnTo>
                  <a:pt x="1185" y="728"/>
                </a:lnTo>
                <a:lnTo>
                  <a:pt x="1182" y="730"/>
                </a:lnTo>
                <a:lnTo>
                  <a:pt x="1180" y="732"/>
                </a:lnTo>
                <a:lnTo>
                  <a:pt x="1178" y="735"/>
                </a:lnTo>
                <a:lnTo>
                  <a:pt x="1175" y="735"/>
                </a:lnTo>
                <a:lnTo>
                  <a:pt x="1173" y="737"/>
                </a:lnTo>
                <a:lnTo>
                  <a:pt x="1171" y="739"/>
                </a:lnTo>
                <a:lnTo>
                  <a:pt x="1168" y="739"/>
                </a:lnTo>
                <a:lnTo>
                  <a:pt x="1166" y="742"/>
                </a:lnTo>
                <a:lnTo>
                  <a:pt x="1164" y="744"/>
                </a:lnTo>
                <a:lnTo>
                  <a:pt x="1161" y="744"/>
                </a:lnTo>
                <a:lnTo>
                  <a:pt x="1159" y="746"/>
                </a:lnTo>
                <a:lnTo>
                  <a:pt x="1156" y="749"/>
                </a:lnTo>
                <a:lnTo>
                  <a:pt x="1154" y="749"/>
                </a:lnTo>
                <a:lnTo>
                  <a:pt x="1152" y="751"/>
                </a:lnTo>
                <a:lnTo>
                  <a:pt x="1147" y="751"/>
                </a:lnTo>
                <a:lnTo>
                  <a:pt x="1145" y="753"/>
                </a:lnTo>
                <a:lnTo>
                  <a:pt x="1142" y="756"/>
                </a:lnTo>
                <a:lnTo>
                  <a:pt x="1140" y="756"/>
                </a:lnTo>
                <a:lnTo>
                  <a:pt x="1138" y="758"/>
                </a:lnTo>
                <a:lnTo>
                  <a:pt x="1133" y="758"/>
                </a:lnTo>
                <a:lnTo>
                  <a:pt x="1131" y="761"/>
                </a:lnTo>
                <a:lnTo>
                  <a:pt x="1128" y="761"/>
                </a:lnTo>
                <a:lnTo>
                  <a:pt x="1126" y="763"/>
                </a:lnTo>
                <a:lnTo>
                  <a:pt x="1121" y="763"/>
                </a:lnTo>
                <a:lnTo>
                  <a:pt x="1119" y="765"/>
                </a:lnTo>
                <a:lnTo>
                  <a:pt x="1117" y="765"/>
                </a:lnTo>
                <a:lnTo>
                  <a:pt x="1112" y="765"/>
                </a:lnTo>
                <a:lnTo>
                  <a:pt x="1109" y="768"/>
                </a:lnTo>
                <a:lnTo>
                  <a:pt x="1107" y="768"/>
                </a:lnTo>
                <a:lnTo>
                  <a:pt x="1102" y="770"/>
                </a:lnTo>
                <a:lnTo>
                  <a:pt x="1100" y="770"/>
                </a:lnTo>
                <a:lnTo>
                  <a:pt x="1095" y="770"/>
                </a:lnTo>
                <a:lnTo>
                  <a:pt x="1093" y="772"/>
                </a:lnTo>
                <a:lnTo>
                  <a:pt x="1091" y="772"/>
                </a:lnTo>
                <a:lnTo>
                  <a:pt x="1086" y="775"/>
                </a:lnTo>
                <a:lnTo>
                  <a:pt x="1084" y="775"/>
                </a:lnTo>
                <a:lnTo>
                  <a:pt x="1079" y="775"/>
                </a:lnTo>
                <a:lnTo>
                  <a:pt x="1077" y="775"/>
                </a:lnTo>
                <a:lnTo>
                  <a:pt x="1072" y="777"/>
                </a:lnTo>
                <a:lnTo>
                  <a:pt x="1070" y="777"/>
                </a:lnTo>
                <a:lnTo>
                  <a:pt x="1065" y="777"/>
                </a:lnTo>
                <a:lnTo>
                  <a:pt x="1062" y="779"/>
                </a:lnTo>
                <a:lnTo>
                  <a:pt x="1058" y="779"/>
                </a:lnTo>
                <a:lnTo>
                  <a:pt x="1053" y="779"/>
                </a:lnTo>
                <a:lnTo>
                  <a:pt x="1051" y="779"/>
                </a:lnTo>
                <a:lnTo>
                  <a:pt x="1046" y="779"/>
                </a:lnTo>
                <a:lnTo>
                  <a:pt x="1044" y="782"/>
                </a:lnTo>
                <a:lnTo>
                  <a:pt x="1039" y="782"/>
                </a:lnTo>
                <a:lnTo>
                  <a:pt x="1034" y="782"/>
                </a:lnTo>
                <a:lnTo>
                  <a:pt x="1032" y="782"/>
                </a:lnTo>
                <a:lnTo>
                  <a:pt x="1027" y="782"/>
                </a:lnTo>
                <a:lnTo>
                  <a:pt x="1023" y="782"/>
                </a:lnTo>
                <a:lnTo>
                  <a:pt x="1020" y="782"/>
                </a:lnTo>
                <a:lnTo>
                  <a:pt x="1015" y="784"/>
                </a:lnTo>
                <a:lnTo>
                  <a:pt x="1011" y="784"/>
                </a:lnTo>
                <a:lnTo>
                  <a:pt x="1006" y="784"/>
                </a:lnTo>
                <a:lnTo>
                  <a:pt x="1004" y="784"/>
                </a:lnTo>
                <a:lnTo>
                  <a:pt x="999" y="784"/>
                </a:lnTo>
                <a:lnTo>
                  <a:pt x="994" y="784"/>
                </a:lnTo>
                <a:lnTo>
                  <a:pt x="990" y="784"/>
                </a:lnTo>
                <a:lnTo>
                  <a:pt x="985" y="784"/>
                </a:lnTo>
                <a:lnTo>
                  <a:pt x="983" y="784"/>
                </a:lnTo>
                <a:lnTo>
                  <a:pt x="978" y="784"/>
                </a:lnTo>
                <a:lnTo>
                  <a:pt x="973" y="784"/>
                </a:lnTo>
                <a:lnTo>
                  <a:pt x="968" y="784"/>
                </a:lnTo>
                <a:lnTo>
                  <a:pt x="964" y="784"/>
                </a:lnTo>
                <a:lnTo>
                  <a:pt x="959" y="784"/>
                </a:lnTo>
                <a:lnTo>
                  <a:pt x="957" y="784"/>
                </a:lnTo>
                <a:lnTo>
                  <a:pt x="952" y="784"/>
                </a:lnTo>
                <a:lnTo>
                  <a:pt x="947" y="784"/>
                </a:lnTo>
                <a:lnTo>
                  <a:pt x="943" y="782"/>
                </a:lnTo>
                <a:lnTo>
                  <a:pt x="940" y="782"/>
                </a:lnTo>
                <a:lnTo>
                  <a:pt x="936" y="782"/>
                </a:lnTo>
                <a:lnTo>
                  <a:pt x="931" y="782"/>
                </a:lnTo>
                <a:lnTo>
                  <a:pt x="929" y="782"/>
                </a:lnTo>
                <a:lnTo>
                  <a:pt x="924" y="782"/>
                </a:lnTo>
                <a:lnTo>
                  <a:pt x="919" y="782"/>
                </a:lnTo>
                <a:lnTo>
                  <a:pt x="917" y="779"/>
                </a:lnTo>
                <a:lnTo>
                  <a:pt x="912" y="779"/>
                </a:lnTo>
                <a:lnTo>
                  <a:pt x="910" y="779"/>
                </a:lnTo>
                <a:lnTo>
                  <a:pt x="905" y="779"/>
                </a:lnTo>
                <a:lnTo>
                  <a:pt x="900" y="779"/>
                </a:lnTo>
                <a:lnTo>
                  <a:pt x="898" y="777"/>
                </a:lnTo>
                <a:lnTo>
                  <a:pt x="893" y="777"/>
                </a:lnTo>
                <a:lnTo>
                  <a:pt x="891" y="777"/>
                </a:lnTo>
                <a:lnTo>
                  <a:pt x="886" y="775"/>
                </a:lnTo>
                <a:lnTo>
                  <a:pt x="884" y="775"/>
                </a:lnTo>
                <a:lnTo>
                  <a:pt x="879" y="775"/>
                </a:lnTo>
                <a:lnTo>
                  <a:pt x="877" y="775"/>
                </a:lnTo>
                <a:lnTo>
                  <a:pt x="872" y="772"/>
                </a:lnTo>
                <a:lnTo>
                  <a:pt x="870" y="772"/>
                </a:lnTo>
                <a:lnTo>
                  <a:pt x="867" y="770"/>
                </a:lnTo>
                <a:lnTo>
                  <a:pt x="863" y="770"/>
                </a:lnTo>
                <a:lnTo>
                  <a:pt x="860" y="770"/>
                </a:lnTo>
                <a:lnTo>
                  <a:pt x="856" y="768"/>
                </a:lnTo>
                <a:lnTo>
                  <a:pt x="853" y="768"/>
                </a:lnTo>
                <a:lnTo>
                  <a:pt x="851" y="765"/>
                </a:lnTo>
                <a:lnTo>
                  <a:pt x="846" y="765"/>
                </a:lnTo>
                <a:lnTo>
                  <a:pt x="844" y="765"/>
                </a:lnTo>
                <a:lnTo>
                  <a:pt x="842" y="763"/>
                </a:lnTo>
                <a:lnTo>
                  <a:pt x="837" y="763"/>
                </a:lnTo>
                <a:lnTo>
                  <a:pt x="835" y="761"/>
                </a:lnTo>
                <a:lnTo>
                  <a:pt x="832" y="761"/>
                </a:lnTo>
                <a:lnTo>
                  <a:pt x="830" y="758"/>
                </a:lnTo>
                <a:lnTo>
                  <a:pt x="825" y="758"/>
                </a:lnTo>
                <a:lnTo>
                  <a:pt x="823" y="756"/>
                </a:lnTo>
                <a:lnTo>
                  <a:pt x="820" y="756"/>
                </a:lnTo>
                <a:lnTo>
                  <a:pt x="818" y="753"/>
                </a:lnTo>
                <a:lnTo>
                  <a:pt x="816" y="751"/>
                </a:lnTo>
                <a:lnTo>
                  <a:pt x="811" y="751"/>
                </a:lnTo>
                <a:lnTo>
                  <a:pt x="809" y="749"/>
                </a:lnTo>
                <a:lnTo>
                  <a:pt x="806" y="749"/>
                </a:lnTo>
                <a:lnTo>
                  <a:pt x="804" y="746"/>
                </a:lnTo>
                <a:lnTo>
                  <a:pt x="802" y="744"/>
                </a:lnTo>
                <a:lnTo>
                  <a:pt x="799" y="744"/>
                </a:lnTo>
                <a:lnTo>
                  <a:pt x="797" y="742"/>
                </a:lnTo>
                <a:lnTo>
                  <a:pt x="795" y="739"/>
                </a:lnTo>
                <a:lnTo>
                  <a:pt x="792" y="739"/>
                </a:lnTo>
                <a:lnTo>
                  <a:pt x="790" y="737"/>
                </a:lnTo>
                <a:lnTo>
                  <a:pt x="788" y="735"/>
                </a:lnTo>
                <a:lnTo>
                  <a:pt x="785" y="735"/>
                </a:lnTo>
                <a:lnTo>
                  <a:pt x="783" y="732"/>
                </a:lnTo>
                <a:lnTo>
                  <a:pt x="780" y="730"/>
                </a:lnTo>
                <a:lnTo>
                  <a:pt x="778" y="728"/>
                </a:lnTo>
                <a:lnTo>
                  <a:pt x="776" y="728"/>
                </a:lnTo>
                <a:lnTo>
                  <a:pt x="773" y="725"/>
                </a:lnTo>
                <a:lnTo>
                  <a:pt x="771" y="723"/>
                </a:lnTo>
                <a:lnTo>
                  <a:pt x="769" y="721"/>
                </a:lnTo>
                <a:lnTo>
                  <a:pt x="766" y="718"/>
                </a:lnTo>
                <a:lnTo>
                  <a:pt x="764" y="718"/>
                </a:lnTo>
                <a:lnTo>
                  <a:pt x="762" y="716"/>
                </a:lnTo>
                <a:lnTo>
                  <a:pt x="762" y="714"/>
                </a:lnTo>
                <a:lnTo>
                  <a:pt x="759" y="711"/>
                </a:lnTo>
                <a:lnTo>
                  <a:pt x="757" y="709"/>
                </a:lnTo>
                <a:lnTo>
                  <a:pt x="755" y="707"/>
                </a:lnTo>
                <a:lnTo>
                  <a:pt x="752" y="704"/>
                </a:lnTo>
                <a:lnTo>
                  <a:pt x="752" y="702"/>
                </a:lnTo>
                <a:lnTo>
                  <a:pt x="750" y="699"/>
                </a:lnTo>
                <a:lnTo>
                  <a:pt x="748" y="699"/>
                </a:lnTo>
                <a:lnTo>
                  <a:pt x="745" y="697"/>
                </a:lnTo>
                <a:lnTo>
                  <a:pt x="745" y="695"/>
                </a:lnTo>
                <a:lnTo>
                  <a:pt x="743" y="692"/>
                </a:lnTo>
                <a:lnTo>
                  <a:pt x="741" y="690"/>
                </a:lnTo>
                <a:lnTo>
                  <a:pt x="741" y="688"/>
                </a:lnTo>
                <a:lnTo>
                  <a:pt x="738" y="685"/>
                </a:lnTo>
                <a:lnTo>
                  <a:pt x="736" y="683"/>
                </a:lnTo>
                <a:lnTo>
                  <a:pt x="736" y="681"/>
                </a:lnTo>
                <a:lnTo>
                  <a:pt x="734" y="678"/>
                </a:lnTo>
                <a:lnTo>
                  <a:pt x="731" y="674"/>
                </a:lnTo>
                <a:lnTo>
                  <a:pt x="731" y="671"/>
                </a:lnTo>
                <a:lnTo>
                  <a:pt x="729" y="669"/>
                </a:lnTo>
                <a:lnTo>
                  <a:pt x="729" y="667"/>
                </a:lnTo>
                <a:lnTo>
                  <a:pt x="726" y="664"/>
                </a:lnTo>
                <a:lnTo>
                  <a:pt x="726" y="662"/>
                </a:lnTo>
                <a:lnTo>
                  <a:pt x="724" y="660"/>
                </a:lnTo>
                <a:lnTo>
                  <a:pt x="724" y="657"/>
                </a:lnTo>
                <a:lnTo>
                  <a:pt x="722" y="655"/>
                </a:lnTo>
                <a:lnTo>
                  <a:pt x="722" y="650"/>
                </a:lnTo>
                <a:lnTo>
                  <a:pt x="719" y="648"/>
                </a:lnTo>
                <a:lnTo>
                  <a:pt x="719" y="645"/>
                </a:lnTo>
                <a:lnTo>
                  <a:pt x="717" y="643"/>
                </a:lnTo>
                <a:lnTo>
                  <a:pt x="717" y="641"/>
                </a:lnTo>
                <a:lnTo>
                  <a:pt x="717" y="636"/>
                </a:lnTo>
                <a:lnTo>
                  <a:pt x="715" y="634"/>
                </a:lnTo>
                <a:lnTo>
                  <a:pt x="715" y="631"/>
                </a:lnTo>
                <a:lnTo>
                  <a:pt x="712" y="629"/>
                </a:lnTo>
                <a:lnTo>
                  <a:pt x="712" y="624"/>
                </a:lnTo>
                <a:lnTo>
                  <a:pt x="712" y="622"/>
                </a:lnTo>
                <a:lnTo>
                  <a:pt x="710" y="620"/>
                </a:lnTo>
                <a:lnTo>
                  <a:pt x="710" y="615"/>
                </a:lnTo>
                <a:lnTo>
                  <a:pt x="710" y="613"/>
                </a:lnTo>
                <a:lnTo>
                  <a:pt x="710" y="610"/>
                </a:lnTo>
                <a:lnTo>
                  <a:pt x="708" y="606"/>
                </a:lnTo>
                <a:lnTo>
                  <a:pt x="708" y="603"/>
                </a:lnTo>
                <a:lnTo>
                  <a:pt x="708" y="601"/>
                </a:lnTo>
                <a:lnTo>
                  <a:pt x="708" y="596"/>
                </a:lnTo>
                <a:lnTo>
                  <a:pt x="708" y="594"/>
                </a:lnTo>
                <a:lnTo>
                  <a:pt x="705" y="589"/>
                </a:lnTo>
                <a:lnTo>
                  <a:pt x="705" y="587"/>
                </a:lnTo>
                <a:lnTo>
                  <a:pt x="705" y="582"/>
                </a:lnTo>
                <a:lnTo>
                  <a:pt x="705" y="580"/>
                </a:lnTo>
                <a:lnTo>
                  <a:pt x="705" y="577"/>
                </a:lnTo>
                <a:lnTo>
                  <a:pt x="705" y="573"/>
                </a:lnTo>
                <a:lnTo>
                  <a:pt x="705" y="570"/>
                </a:lnTo>
                <a:lnTo>
                  <a:pt x="703" y="566"/>
                </a:lnTo>
                <a:lnTo>
                  <a:pt x="703" y="563"/>
                </a:lnTo>
                <a:lnTo>
                  <a:pt x="703" y="559"/>
                </a:lnTo>
                <a:lnTo>
                  <a:pt x="703" y="554"/>
                </a:lnTo>
                <a:lnTo>
                  <a:pt x="703" y="552"/>
                </a:lnTo>
                <a:lnTo>
                  <a:pt x="703" y="547"/>
                </a:lnTo>
                <a:lnTo>
                  <a:pt x="703" y="0"/>
                </a:lnTo>
                <a:lnTo>
                  <a:pt x="874" y="0"/>
                </a:lnTo>
                <a:lnTo>
                  <a:pt x="874" y="509"/>
                </a:lnTo>
                <a:lnTo>
                  <a:pt x="874" y="516"/>
                </a:lnTo>
                <a:lnTo>
                  <a:pt x="874" y="523"/>
                </a:lnTo>
                <a:lnTo>
                  <a:pt x="877" y="533"/>
                </a:lnTo>
                <a:lnTo>
                  <a:pt x="877" y="540"/>
                </a:lnTo>
                <a:lnTo>
                  <a:pt x="877" y="547"/>
                </a:lnTo>
                <a:lnTo>
                  <a:pt x="879" y="554"/>
                </a:lnTo>
                <a:lnTo>
                  <a:pt x="879" y="559"/>
                </a:lnTo>
                <a:lnTo>
                  <a:pt x="882" y="566"/>
                </a:lnTo>
                <a:lnTo>
                  <a:pt x="884" y="573"/>
                </a:lnTo>
                <a:lnTo>
                  <a:pt x="886" y="577"/>
                </a:lnTo>
                <a:lnTo>
                  <a:pt x="889" y="582"/>
                </a:lnTo>
                <a:lnTo>
                  <a:pt x="891" y="589"/>
                </a:lnTo>
                <a:lnTo>
                  <a:pt x="893" y="594"/>
                </a:lnTo>
                <a:lnTo>
                  <a:pt x="896" y="599"/>
                </a:lnTo>
                <a:lnTo>
                  <a:pt x="898" y="603"/>
                </a:lnTo>
                <a:lnTo>
                  <a:pt x="903" y="606"/>
                </a:lnTo>
                <a:lnTo>
                  <a:pt x="905" y="610"/>
                </a:lnTo>
                <a:lnTo>
                  <a:pt x="910" y="615"/>
                </a:lnTo>
                <a:lnTo>
                  <a:pt x="912" y="617"/>
                </a:lnTo>
                <a:lnTo>
                  <a:pt x="917" y="622"/>
                </a:lnTo>
                <a:lnTo>
                  <a:pt x="921" y="624"/>
                </a:lnTo>
                <a:lnTo>
                  <a:pt x="926" y="627"/>
                </a:lnTo>
                <a:lnTo>
                  <a:pt x="931" y="629"/>
                </a:lnTo>
                <a:lnTo>
                  <a:pt x="936" y="631"/>
                </a:lnTo>
                <a:lnTo>
                  <a:pt x="940" y="634"/>
                </a:lnTo>
                <a:lnTo>
                  <a:pt x="945" y="634"/>
                </a:lnTo>
                <a:lnTo>
                  <a:pt x="950" y="636"/>
                </a:lnTo>
                <a:lnTo>
                  <a:pt x="957" y="638"/>
                </a:lnTo>
                <a:lnTo>
                  <a:pt x="961" y="638"/>
                </a:lnTo>
                <a:lnTo>
                  <a:pt x="968" y="638"/>
                </a:lnTo>
                <a:lnTo>
                  <a:pt x="976" y="638"/>
                </a:lnTo>
                <a:lnTo>
                  <a:pt x="983" y="638"/>
                </a:lnTo>
                <a:lnTo>
                  <a:pt x="987" y="638"/>
                </a:lnTo>
                <a:lnTo>
                  <a:pt x="994" y="638"/>
                </a:lnTo>
                <a:lnTo>
                  <a:pt x="1001" y="638"/>
                </a:lnTo>
                <a:lnTo>
                  <a:pt x="1006" y="638"/>
                </a:lnTo>
                <a:lnTo>
                  <a:pt x="1013" y="636"/>
                </a:lnTo>
                <a:lnTo>
                  <a:pt x="1018" y="634"/>
                </a:lnTo>
                <a:lnTo>
                  <a:pt x="1023" y="634"/>
                </a:lnTo>
                <a:lnTo>
                  <a:pt x="1027" y="631"/>
                </a:lnTo>
                <a:lnTo>
                  <a:pt x="1034" y="629"/>
                </a:lnTo>
                <a:lnTo>
                  <a:pt x="1039" y="627"/>
                </a:lnTo>
                <a:lnTo>
                  <a:pt x="1041" y="624"/>
                </a:lnTo>
                <a:lnTo>
                  <a:pt x="1046" y="622"/>
                </a:lnTo>
                <a:lnTo>
                  <a:pt x="1051" y="617"/>
                </a:lnTo>
                <a:lnTo>
                  <a:pt x="1055" y="615"/>
                </a:lnTo>
                <a:lnTo>
                  <a:pt x="1058" y="610"/>
                </a:lnTo>
                <a:lnTo>
                  <a:pt x="1062" y="606"/>
                </a:lnTo>
                <a:lnTo>
                  <a:pt x="1065" y="603"/>
                </a:lnTo>
                <a:lnTo>
                  <a:pt x="1067" y="599"/>
                </a:lnTo>
                <a:lnTo>
                  <a:pt x="1072" y="594"/>
                </a:lnTo>
                <a:lnTo>
                  <a:pt x="1074" y="589"/>
                </a:lnTo>
                <a:lnTo>
                  <a:pt x="1077" y="582"/>
                </a:lnTo>
                <a:lnTo>
                  <a:pt x="1079" y="577"/>
                </a:lnTo>
                <a:lnTo>
                  <a:pt x="1081" y="573"/>
                </a:lnTo>
                <a:lnTo>
                  <a:pt x="1081" y="566"/>
                </a:lnTo>
                <a:lnTo>
                  <a:pt x="1084" y="559"/>
                </a:lnTo>
                <a:lnTo>
                  <a:pt x="1086" y="554"/>
                </a:lnTo>
                <a:lnTo>
                  <a:pt x="1086" y="547"/>
                </a:lnTo>
                <a:lnTo>
                  <a:pt x="1086" y="540"/>
                </a:lnTo>
                <a:lnTo>
                  <a:pt x="1088" y="533"/>
                </a:lnTo>
                <a:lnTo>
                  <a:pt x="1088" y="523"/>
                </a:lnTo>
                <a:lnTo>
                  <a:pt x="1088" y="516"/>
                </a:lnTo>
                <a:lnTo>
                  <a:pt x="1088" y="509"/>
                </a:lnTo>
                <a:lnTo>
                  <a:pt x="1088" y="0"/>
                </a:lnTo>
                <a:lnTo>
                  <a:pt x="1260" y="0"/>
                </a:lnTo>
                <a:lnTo>
                  <a:pt x="1260" y="547"/>
                </a:lnTo>
                <a:close/>
                <a:moveTo>
                  <a:pt x="604" y="0"/>
                </a:moveTo>
                <a:lnTo>
                  <a:pt x="564" y="138"/>
                </a:lnTo>
                <a:lnTo>
                  <a:pt x="372" y="138"/>
                </a:lnTo>
                <a:lnTo>
                  <a:pt x="372" y="782"/>
                </a:lnTo>
                <a:lnTo>
                  <a:pt x="188" y="782"/>
                </a:lnTo>
                <a:lnTo>
                  <a:pt x="188" y="138"/>
                </a:lnTo>
                <a:lnTo>
                  <a:pt x="0" y="138"/>
                </a:lnTo>
                <a:lnTo>
                  <a:pt x="0" y="0"/>
                </a:lnTo>
                <a:lnTo>
                  <a:pt x="604" y="0"/>
                </a:lnTo>
                <a:close/>
                <a:moveTo>
                  <a:pt x="2092" y="460"/>
                </a:moveTo>
                <a:lnTo>
                  <a:pt x="2092" y="448"/>
                </a:lnTo>
                <a:lnTo>
                  <a:pt x="2092" y="434"/>
                </a:lnTo>
                <a:lnTo>
                  <a:pt x="2089" y="425"/>
                </a:lnTo>
                <a:lnTo>
                  <a:pt x="2089" y="413"/>
                </a:lnTo>
                <a:lnTo>
                  <a:pt x="2087" y="404"/>
                </a:lnTo>
                <a:lnTo>
                  <a:pt x="2085" y="394"/>
                </a:lnTo>
                <a:lnTo>
                  <a:pt x="2080" y="385"/>
                </a:lnTo>
                <a:lnTo>
                  <a:pt x="2075" y="378"/>
                </a:lnTo>
                <a:lnTo>
                  <a:pt x="2073" y="371"/>
                </a:lnTo>
                <a:lnTo>
                  <a:pt x="2066" y="366"/>
                </a:lnTo>
                <a:lnTo>
                  <a:pt x="2061" y="359"/>
                </a:lnTo>
                <a:lnTo>
                  <a:pt x="2054" y="357"/>
                </a:lnTo>
                <a:lnTo>
                  <a:pt x="2047" y="352"/>
                </a:lnTo>
                <a:lnTo>
                  <a:pt x="2040" y="350"/>
                </a:lnTo>
                <a:lnTo>
                  <a:pt x="2033" y="347"/>
                </a:lnTo>
                <a:lnTo>
                  <a:pt x="2024" y="347"/>
                </a:lnTo>
                <a:lnTo>
                  <a:pt x="2014" y="345"/>
                </a:lnTo>
                <a:lnTo>
                  <a:pt x="2005" y="347"/>
                </a:lnTo>
                <a:lnTo>
                  <a:pt x="1995" y="347"/>
                </a:lnTo>
                <a:lnTo>
                  <a:pt x="1988" y="350"/>
                </a:lnTo>
                <a:lnTo>
                  <a:pt x="1979" y="352"/>
                </a:lnTo>
                <a:lnTo>
                  <a:pt x="1974" y="357"/>
                </a:lnTo>
                <a:lnTo>
                  <a:pt x="1967" y="361"/>
                </a:lnTo>
                <a:lnTo>
                  <a:pt x="1960" y="366"/>
                </a:lnTo>
                <a:lnTo>
                  <a:pt x="1955" y="373"/>
                </a:lnTo>
                <a:lnTo>
                  <a:pt x="1951" y="380"/>
                </a:lnTo>
                <a:lnTo>
                  <a:pt x="1948" y="390"/>
                </a:lnTo>
                <a:lnTo>
                  <a:pt x="1944" y="399"/>
                </a:lnTo>
                <a:lnTo>
                  <a:pt x="1941" y="408"/>
                </a:lnTo>
                <a:lnTo>
                  <a:pt x="1939" y="420"/>
                </a:lnTo>
                <a:lnTo>
                  <a:pt x="1937" y="432"/>
                </a:lnTo>
                <a:lnTo>
                  <a:pt x="1937" y="444"/>
                </a:lnTo>
                <a:lnTo>
                  <a:pt x="1937" y="458"/>
                </a:lnTo>
                <a:lnTo>
                  <a:pt x="1937" y="460"/>
                </a:lnTo>
                <a:lnTo>
                  <a:pt x="2092" y="4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8100720" y="0"/>
            <a:ext cx="330120" cy="1125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981000"/>
            <a:ext cx="82072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349360"/>
            <a:ext cx="8207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07d"/>
                </a:solidFill>
                <a:latin typeface="Arial"/>
              </a:rPr>
              <a:t>A Conformal Intervertebral Disc Pros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acquiring and modeling of the geometry</a:t>
            </a:r>
            <a:r>
              <a:rPr b="0" lang="en-US" sz="2400" spc="-1" strike="noStrike">
                <a:solidFill>
                  <a:srgbClr val="006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4560" y="3933720"/>
            <a:ext cx="72738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dwin H.E. Bennink, Bart M. ter Haar Rom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indhoven University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ico F. Kamp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herlands Organization for Applied Research (T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643280" cy="1679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0" y="189000"/>
            <a:ext cx="4572000" cy="1681200"/>
          </a:xfrm>
          <a:prstGeom prst="rect">
            <a:avLst/>
          </a:prstGeom>
          <a:solidFill>
            <a:srgbClr val="dc7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59760" y="333360"/>
            <a:ext cx="1415880" cy="498600"/>
          </a:xfrm>
          <a:custGeom>
            <a:avLst/>
            <a:gdLst/>
            <a:ahLst/>
            <a:rect l="l" t="t" r="r" b="b"/>
            <a:pathLst>
              <a:path w="2230" h="784">
                <a:moveTo>
                  <a:pt x="2230" y="556"/>
                </a:moveTo>
                <a:lnTo>
                  <a:pt x="1934" y="556"/>
                </a:lnTo>
                <a:lnTo>
                  <a:pt x="1934" y="563"/>
                </a:lnTo>
                <a:lnTo>
                  <a:pt x="1934" y="573"/>
                </a:lnTo>
                <a:lnTo>
                  <a:pt x="1934" y="580"/>
                </a:lnTo>
                <a:lnTo>
                  <a:pt x="1937" y="587"/>
                </a:lnTo>
                <a:lnTo>
                  <a:pt x="1937" y="594"/>
                </a:lnTo>
                <a:lnTo>
                  <a:pt x="1939" y="601"/>
                </a:lnTo>
                <a:lnTo>
                  <a:pt x="1939" y="606"/>
                </a:lnTo>
                <a:lnTo>
                  <a:pt x="1941" y="613"/>
                </a:lnTo>
                <a:lnTo>
                  <a:pt x="1944" y="617"/>
                </a:lnTo>
                <a:lnTo>
                  <a:pt x="1944" y="624"/>
                </a:lnTo>
                <a:lnTo>
                  <a:pt x="1946" y="629"/>
                </a:lnTo>
                <a:lnTo>
                  <a:pt x="1948" y="634"/>
                </a:lnTo>
                <a:lnTo>
                  <a:pt x="1951" y="638"/>
                </a:lnTo>
                <a:lnTo>
                  <a:pt x="1955" y="643"/>
                </a:lnTo>
                <a:lnTo>
                  <a:pt x="1958" y="648"/>
                </a:lnTo>
                <a:lnTo>
                  <a:pt x="1960" y="653"/>
                </a:lnTo>
                <a:lnTo>
                  <a:pt x="1965" y="657"/>
                </a:lnTo>
                <a:lnTo>
                  <a:pt x="1967" y="660"/>
                </a:lnTo>
                <a:lnTo>
                  <a:pt x="1972" y="664"/>
                </a:lnTo>
                <a:lnTo>
                  <a:pt x="1977" y="667"/>
                </a:lnTo>
                <a:lnTo>
                  <a:pt x="1981" y="669"/>
                </a:lnTo>
                <a:lnTo>
                  <a:pt x="1984" y="671"/>
                </a:lnTo>
                <a:lnTo>
                  <a:pt x="1988" y="674"/>
                </a:lnTo>
                <a:lnTo>
                  <a:pt x="1993" y="676"/>
                </a:lnTo>
                <a:lnTo>
                  <a:pt x="2000" y="678"/>
                </a:lnTo>
                <a:lnTo>
                  <a:pt x="2005" y="681"/>
                </a:lnTo>
                <a:lnTo>
                  <a:pt x="2009" y="681"/>
                </a:lnTo>
                <a:lnTo>
                  <a:pt x="2017" y="683"/>
                </a:lnTo>
                <a:lnTo>
                  <a:pt x="2021" y="683"/>
                </a:lnTo>
                <a:lnTo>
                  <a:pt x="2028" y="683"/>
                </a:lnTo>
                <a:lnTo>
                  <a:pt x="2033" y="685"/>
                </a:lnTo>
                <a:lnTo>
                  <a:pt x="2040" y="685"/>
                </a:lnTo>
                <a:lnTo>
                  <a:pt x="2049" y="685"/>
                </a:lnTo>
                <a:lnTo>
                  <a:pt x="2061" y="683"/>
                </a:lnTo>
                <a:lnTo>
                  <a:pt x="2071" y="683"/>
                </a:lnTo>
                <a:lnTo>
                  <a:pt x="2078" y="681"/>
                </a:lnTo>
                <a:lnTo>
                  <a:pt x="2087" y="681"/>
                </a:lnTo>
                <a:lnTo>
                  <a:pt x="2096" y="678"/>
                </a:lnTo>
                <a:lnTo>
                  <a:pt x="2106" y="674"/>
                </a:lnTo>
                <a:lnTo>
                  <a:pt x="2113" y="671"/>
                </a:lnTo>
                <a:lnTo>
                  <a:pt x="2122" y="669"/>
                </a:lnTo>
                <a:lnTo>
                  <a:pt x="2129" y="664"/>
                </a:lnTo>
                <a:lnTo>
                  <a:pt x="2136" y="660"/>
                </a:lnTo>
                <a:lnTo>
                  <a:pt x="2143" y="655"/>
                </a:lnTo>
                <a:lnTo>
                  <a:pt x="2153" y="650"/>
                </a:lnTo>
                <a:lnTo>
                  <a:pt x="2160" y="645"/>
                </a:lnTo>
                <a:lnTo>
                  <a:pt x="2165" y="638"/>
                </a:lnTo>
                <a:lnTo>
                  <a:pt x="2172" y="634"/>
                </a:lnTo>
                <a:lnTo>
                  <a:pt x="2223" y="714"/>
                </a:lnTo>
                <a:lnTo>
                  <a:pt x="2219" y="718"/>
                </a:lnTo>
                <a:lnTo>
                  <a:pt x="2214" y="723"/>
                </a:lnTo>
                <a:lnTo>
                  <a:pt x="2207" y="725"/>
                </a:lnTo>
                <a:lnTo>
                  <a:pt x="2202" y="730"/>
                </a:lnTo>
                <a:lnTo>
                  <a:pt x="2197" y="735"/>
                </a:lnTo>
                <a:lnTo>
                  <a:pt x="2190" y="737"/>
                </a:lnTo>
                <a:lnTo>
                  <a:pt x="2186" y="742"/>
                </a:lnTo>
                <a:lnTo>
                  <a:pt x="2181" y="744"/>
                </a:lnTo>
                <a:lnTo>
                  <a:pt x="2174" y="749"/>
                </a:lnTo>
                <a:lnTo>
                  <a:pt x="2169" y="751"/>
                </a:lnTo>
                <a:lnTo>
                  <a:pt x="2165" y="753"/>
                </a:lnTo>
                <a:lnTo>
                  <a:pt x="2158" y="756"/>
                </a:lnTo>
                <a:lnTo>
                  <a:pt x="2153" y="758"/>
                </a:lnTo>
                <a:lnTo>
                  <a:pt x="2146" y="761"/>
                </a:lnTo>
                <a:lnTo>
                  <a:pt x="2141" y="765"/>
                </a:lnTo>
                <a:lnTo>
                  <a:pt x="2134" y="765"/>
                </a:lnTo>
                <a:lnTo>
                  <a:pt x="2129" y="768"/>
                </a:lnTo>
                <a:lnTo>
                  <a:pt x="2122" y="770"/>
                </a:lnTo>
                <a:lnTo>
                  <a:pt x="2118" y="772"/>
                </a:lnTo>
                <a:lnTo>
                  <a:pt x="2113" y="775"/>
                </a:lnTo>
                <a:lnTo>
                  <a:pt x="2106" y="775"/>
                </a:lnTo>
                <a:lnTo>
                  <a:pt x="2101" y="777"/>
                </a:lnTo>
                <a:lnTo>
                  <a:pt x="2094" y="779"/>
                </a:lnTo>
                <a:lnTo>
                  <a:pt x="2087" y="779"/>
                </a:lnTo>
                <a:lnTo>
                  <a:pt x="2082" y="782"/>
                </a:lnTo>
                <a:lnTo>
                  <a:pt x="2075" y="782"/>
                </a:lnTo>
                <a:lnTo>
                  <a:pt x="2071" y="782"/>
                </a:lnTo>
                <a:lnTo>
                  <a:pt x="2064" y="784"/>
                </a:lnTo>
                <a:lnTo>
                  <a:pt x="2059" y="784"/>
                </a:lnTo>
                <a:lnTo>
                  <a:pt x="2052" y="784"/>
                </a:lnTo>
                <a:lnTo>
                  <a:pt x="2047" y="784"/>
                </a:lnTo>
                <a:lnTo>
                  <a:pt x="2040" y="784"/>
                </a:lnTo>
                <a:lnTo>
                  <a:pt x="2031" y="784"/>
                </a:lnTo>
                <a:lnTo>
                  <a:pt x="2024" y="784"/>
                </a:lnTo>
                <a:lnTo>
                  <a:pt x="2014" y="784"/>
                </a:lnTo>
                <a:lnTo>
                  <a:pt x="2007" y="782"/>
                </a:lnTo>
                <a:lnTo>
                  <a:pt x="1998" y="782"/>
                </a:lnTo>
                <a:lnTo>
                  <a:pt x="1991" y="782"/>
                </a:lnTo>
                <a:lnTo>
                  <a:pt x="1984" y="779"/>
                </a:lnTo>
                <a:lnTo>
                  <a:pt x="1974" y="777"/>
                </a:lnTo>
                <a:lnTo>
                  <a:pt x="1967" y="777"/>
                </a:lnTo>
                <a:lnTo>
                  <a:pt x="1960" y="775"/>
                </a:lnTo>
                <a:lnTo>
                  <a:pt x="1953" y="772"/>
                </a:lnTo>
                <a:lnTo>
                  <a:pt x="1946" y="770"/>
                </a:lnTo>
                <a:lnTo>
                  <a:pt x="1939" y="768"/>
                </a:lnTo>
                <a:lnTo>
                  <a:pt x="1932" y="765"/>
                </a:lnTo>
                <a:lnTo>
                  <a:pt x="1925" y="763"/>
                </a:lnTo>
                <a:lnTo>
                  <a:pt x="1920" y="761"/>
                </a:lnTo>
                <a:lnTo>
                  <a:pt x="1913" y="756"/>
                </a:lnTo>
                <a:lnTo>
                  <a:pt x="1906" y="753"/>
                </a:lnTo>
                <a:lnTo>
                  <a:pt x="1901" y="751"/>
                </a:lnTo>
                <a:lnTo>
                  <a:pt x="1894" y="746"/>
                </a:lnTo>
                <a:lnTo>
                  <a:pt x="1890" y="742"/>
                </a:lnTo>
                <a:lnTo>
                  <a:pt x="1885" y="739"/>
                </a:lnTo>
                <a:lnTo>
                  <a:pt x="1878" y="735"/>
                </a:lnTo>
                <a:lnTo>
                  <a:pt x="1873" y="730"/>
                </a:lnTo>
                <a:lnTo>
                  <a:pt x="1868" y="725"/>
                </a:lnTo>
                <a:lnTo>
                  <a:pt x="1864" y="721"/>
                </a:lnTo>
                <a:lnTo>
                  <a:pt x="1859" y="716"/>
                </a:lnTo>
                <a:lnTo>
                  <a:pt x="1854" y="711"/>
                </a:lnTo>
                <a:lnTo>
                  <a:pt x="1850" y="707"/>
                </a:lnTo>
                <a:lnTo>
                  <a:pt x="1845" y="699"/>
                </a:lnTo>
                <a:lnTo>
                  <a:pt x="1840" y="695"/>
                </a:lnTo>
                <a:lnTo>
                  <a:pt x="1836" y="688"/>
                </a:lnTo>
                <a:lnTo>
                  <a:pt x="1831" y="681"/>
                </a:lnTo>
                <a:lnTo>
                  <a:pt x="1826" y="671"/>
                </a:lnTo>
                <a:lnTo>
                  <a:pt x="1821" y="662"/>
                </a:lnTo>
                <a:lnTo>
                  <a:pt x="1817" y="653"/>
                </a:lnTo>
                <a:lnTo>
                  <a:pt x="1812" y="643"/>
                </a:lnTo>
                <a:lnTo>
                  <a:pt x="1807" y="631"/>
                </a:lnTo>
                <a:lnTo>
                  <a:pt x="1805" y="622"/>
                </a:lnTo>
                <a:lnTo>
                  <a:pt x="1800" y="610"/>
                </a:lnTo>
                <a:lnTo>
                  <a:pt x="1798" y="601"/>
                </a:lnTo>
                <a:lnTo>
                  <a:pt x="1796" y="589"/>
                </a:lnTo>
                <a:lnTo>
                  <a:pt x="1793" y="580"/>
                </a:lnTo>
                <a:lnTo>
                  <a:pt x="1793" y="568"/>
                </a:lnTo>
                <a:lnTo>
                  <a:pt x="1791" y="556"/>
                </a:lnTo>
                <a:lnTo>
                  <a:pt x="1791" y="545"/>
                </a:lnTo>
                <a:lnTo>
                  <a:pt x="1791" y="533"/>
                </a:lnTo>
                <a:lnTo>
                  <a:pt x="1789" y="519"/>
                </a:lnTo>
                <a:lnTo>
                  <a:pt x="1789" y="512"/>
                </a:lnTo>
                <a:lnTo>
                  <a:pt x="1791" y="505"/>
                </a:lnTo>
                <a:lnTo>
                  <a:pt x="1791" y="498"/>
                </a:lnTo>
                <a:lnTo>
                  <a:pt x="1791" y="491"/>
                </a:lnTo>
                <a:lnTo>
                  <a:pt x="1791" y="483"/>
                </a:lnTo>
                <a:lnTo>
                  <a:pt x="1791" y="474"/>
                </a:lnTo>
                <a:lnTo>
                  <a:pt x="1793" y="469"/>
                </a:lnTo>
                <a:lnTo>
                  <a:pt x="1793" y="462"/>
                </a:lnTo>
                <a:lnTo>
                  <a:pt x="1793" y="455"/>
                </a:lnTo>
                <a:lnTo>
                  <a:pt x="1796" y="448"/>
                </a:lnTo>
                <a:lnTo>
                  <a:pt x="1796" y="441"/>
                </a:lnTo>
                <a:lnTo>
                  <a:pt x="1798" y="434"/>
                </a:lnTo>
                <a:lnTo>
                  <a:pt x="1798" y="427"/>
                </a:lnTo>
                <a:lnTo>
                  <a:pt x="1800" y="422"/>
                </a:lnTo>
                <a:lnTo>
                  <a:pt x="1803" y="415"/>
                </a:lnTo>
                <a:lnTo>
                  <a:pt x="1805" y="408"/>
                </a:lnTo>
                <a:lnTo>
                  <a:pt x="1805" y="404"/>
                </a:lnTo>
                <a:lnTo>
                  <a:pt x="1807" y="397"/>
                </a:lnTo>
                <a:lnTo>
                  <a:pt x="1810" y="392"/>
                </a:lnTo>
                <a:lnTo>
                  <a:pt x="1812" y="385"/>
                </a:lnTo>
                <a:lnTo>
                  <a:pt x="1814" y="380"/>
                </a:lnTo>
                <a:lnTo>
                  <a:pt x="1817" y="375"/>
                </a:lnTo>
                <a:lnTo>
                  <a:pt x="1819" y="368"/>
                </a:lnTo>
                <a:lnTo>
                  <a:pt x="1821" y="364"/>
                </a:lnTo>
                <a:lnTo>
                  <a:pt x="1824" y="359"/>
                </a:lnTo>
                <a:lnTo>
                  <a:pt x="1829" y="354"/>
                </a:lnTo>
                <a:lnTo>
                  <a:pt x="1831" y="347"/>
                </a:lnTo>
                <a:lnTo>
                  <a:pt x="1833" y="343"/>
                </a:lnTo>
                <a:lnTo>
                  <a:pt x="1838" y="338"/>
                </a:lnTo>
                <a:lnTo>
                  <a:pt x="1840" y="333"/>
                </a:lnTo>
                <a:lnTo>
                  <a:pt x="1843" y="329"/>
                </a:lnTo>
                <a:lnTo>
                  <a:pt x="1847" y="324"/>
                </a:lnTo>
                <a:lnTo>
                  <a:pt x="1850" y="319"/>
                </a:lnTo>
                <a:lnTo>
                  <a:pt x="1854" y="314"/>
                </a:lnTo>
                <a:lnTo>
                  <a:pt x="1859" y="310"/>
                </a:lnTo>
                <a:lnTo>
                  <a:pt x="1864" y="307"/>
                </a:lnTo>
                <a:lnTo>
                  <a:pt x="1866" y="303"/>
                </a:lnTo>
                <a:lnTo>
                  <a:pt x="1871" y="298"/>
                </a:lnTo>
                <a:lnTo>
                  <a:pt x="1876" y="296"/>
                </a:lnTo>
                <a:lnTo>
                  <a:pt x="1880" y="291"/>
                </a:lnTo>
                <a:lnTo>
                  <a:pt x="1885" y="286"/>
                </a:lnTo>
                <a:lnTo>
                  <a:pt x="1890" y="284"/>
                </a:lnTo>
                <a:lnTo>
                  <a:pt x="1894" y="282"/>
                </a:lnTo>
                <a:lnTo>
                  <a:pt x="1899" y="277"/>
                </a:lnTo>
                <a:lnTo>
                  <a:pt x="1904" y="275"/>
                </a:lnTo>
                <a:lnTo>
                  <a:pt x="1908" y="272"/>
                </a:lnTo>
                <a:lnTo>
                  <a:pt x="1913" y="270"/>
                </a:lnTo>
                <a:lnTo>
                  <a:pt x="1918" y="267"/>
                </a:lnTo>
                <a:lnTo>
                  <a:pt x="1925" y="265"/>
                </a:lnTo>
                <a:lnTo>
                  <a:pt x="1930" y="263"/>
                </a:lnTo>
                <a:lnTo>
                  <a:pt x="1934" y="260"/>
                </a:lnTo>
                <a:lnTo>
                  <a:pt x="1941" y="258"/>
                </a:lnTo>
                <a:lnTo>
                  <a:pt x="1946" y="258"/>
                </a:lnTo>
                <a:lnTo>
                  <a:pt x="1951" y="256"/>
                </a:lnTo>
                <a:lnTo>
                  <a:pt x="1958" y="253"/>
                </a:lnTo>
                <a:lnTo>
                  <a:pt x="1962" y="253"/>
                </a:lnTo>
                <a:lnTo>
                  <a:pt x="1970" y="251"/>
                </a:lnTo>
                <a:lnTo>
                  <a:pt x="1974" y="251"/>
                </a:lnTo>
                <a:lnTo>
                  <a:pt x="1981" y="249"/>
                </a:lnTo>
                <a:lnTo>
                  <a:pt x="1988" y="249"/>
                </a:lnTo>
                <a:lnTo>
                  <a:pt x="1995" y="249"/>
                </a:lnTo>
                <a:lnTo>
                  <a:pt x="2000" y="249"/>
                </a:lnTo>
                <a:lnTo>
                  <a:pt x="2007" y="249"/>
                </a:lnTo>
                <a:lnTo>
                  <a:pt x="2014" y="249"/>
                </a:lnTo>
                <a:lnTo>
                  <a:pt x="2017" y="249"/>
                </a:lnTo>
                <a:lnTo>
                  <a:pt x="2021" y="249"/>
                </a:lnTo>
                <a:lnTo>
                  <a:pt x="2024" y="249"/>
                </a:lnTo>
                <a:lnTo>
                  <a:pt x="2028" y="249"/>
                </a:lnTo>
                <a:lnTo>
                  <a:pt x="2031" y="249"/>
                </a:lnTo>
                <a:lnTo>
                  <a:pt x="2033" y="249"/>
                </a:lnTo>
                <a:lnTo>
                  <a:pt x="2038" y="249"/>
                </a:lnTo>
                <a:lnTo>
                  <a:pt x="2040" y="249"/>
                </a:lnTo>
                <a:lnTo>
                  <a:pt x="2042" y="249"/>
                </a:lnTo>
                <a:lnTo>
                  <a:pt x="2047" y="249"/>
                </a:lnTo>
                <a:lnTo>
                  <a:pt x="2049" y="251"/>
                </a:lnTo>
                <a:lnTo>
                  <a:pt x="2052" y="251"/>
                </a:lnTo>
                <a:lnTo>
                  <a:pt x="2056" y="251"/>
                </a:lnTo>
                <a:lnTo>
                  <a:pt x="2059" y="251"/>
                </a:lnTo>
                <a:lnTo>
                  <a:pt x="2061" y="251"/>
                </a:lnTo>
                <a:lnTo>
                  <a:pt x="2064" y="251"/>
                </a:lnTo>
                <a:lnTo>
                  <a:pt x="2068" y="253"/>
                </a:lnTo>
                <a:lnTo>
                  <a:pt x="2071" y="253"/>
                </a:lnTo>
                <a:lnTo>
                  <a:pt x="2073" y="253"/>
                </a:lnTo>
                <a:lnTo>
                  <a:pt x="2075" y="253"/>
                </a:lnTo>
                <a:lnTo>
                  <a:pt x="2080" y="256"/>
                </a:lnTo>
                <a:lnTo>
                  <a:pt x="2082" y="256"/>
                </a:lnTo>
                <a:lnTo>
                  <a:pt x="2085" y="256"/>
                </a:lnTo>
                <a:lnTo>
                  <a:pt x="2087" y="258"/>
                </a:lnTo>
                <a:lnTo>
                  <a:pt x="2089" y="258"/>
                </a:lnTo>
                <a:lnTo>
                  <a:pt x="2092" y="258"/>
                </a:lnTo>
                <a:lnTo>
                  <a:pt x="2096" y="260"/>
                </a:lnTo>
                <a:lnTo>
                  <a:pt x="2099" y="260"/>
                </a:lnTo>
                <a:lnTo>
                  <a:pt x="2101" y="263"/>
                </a:lnTo>
                <a:lnTo>
                  <a:pt x="2103" y="263"/>
                </a:lnTo>
                <a:lnTo>
                  <a:pt x="2106" y="263"/>
                </a:lnTo>
                <a:lnTo>
                  <a:pt x="2108" y="265"/>
                </a:lnTo>
                <a:lnTo>
                  <a:pt x="2111" y="265"/>
                </a:lnTo>
                <a:lnTo>
                  <a:pt x="2113" y="267"/>
                </a:lnTo>
                <a:lnTo>
                  <a:pt x="2115" y="267"/>
                </a:lnTo>
                <a:lnTo>
                  <a:pt x="2118" y="270"/>
                </a:lnTo>
                <a:lnTo>
                  <a:pt x="2120" y="270"/>
                </a:lnTo>
                <a:lnTo>
                  <a:pt x="2122" y="272"/>
                </a:lnTo>
                <a:lnTo>
                  <a:pt x="2125" y="272"/>
                </a:lnTo>
                <a:lnTo>
                  <a:pt x="2127" y="275"/>
                </a:lnTo>
                <a:lnTo>
                  <a:pt x="2129" y="277"/>
                </a:lnTo>
                <a:lnTo>
                  <a:pt x="2132" y="277"/>
                </a:lnTo>
                <a:lnTo>
                  <a:pt x="2134" y="279"/>
                </a:lnTo>
                <a:lnTo>
                  <a:pt x="2136" y="279"/>
                </a:lnTo>
                <a:lnTo>
                  <a:pt x="2139" y="282"/>
                </a:lnTo>
                <a:lnTo>
                  <a:pt x="2141" y="284"/>
                </a:lnTo>
                <a:lnTo>
                  <a:pt x="2143" y="284"/>
                </a:lnTo>
                <a:lnTo>
                  <a:pt x="2146" y="286"/>
                </a:lnTo>
                <a:lnTo>
                  <a:pt x="2148" y="289"/>
                </a:lnTo>
                <a:lnTo>
                  <a:pt x="2150" y="289"/>
                </a:lnTo>
                <a:lnTo>
                  <a:pt x="2150" y="291"/>
                </a:lnTo>
                <a:lnTo>
                  <a:pt x="2153" y="293"/>
                </a:lnTo>
                <a:lnTo>
                  <a:pt x="2155" y="293"/>
                </a:lnTo>
                <a:lnTo>
                  <a:pt x="2158" y="296"/>
                </a:lnTo>
                <a:lnTo>
                  <a:pt x="2160" y="298"/>
                </a:lnTo>
                <a:lnTo>
                  <a:pt x="2162" y="300"/>
                </a:lnTo>
                <a:lnTo>
                  <a:pt x="2162" y="303"/>
                </a:lnTo>
                <a:lnTo>
                  <a:pt x="2165" y="303"/>
                </a:lnTo>
                <a:lnTo>
                  <a:pt x="2167" y="305"/>
                </a:lnTo>
                <a:lnTo>
                  <a:pt x="2169" y="307"/>
                </a:lnTo>
                <a:lnTo>
                  <a:pt x="2172" y="310"/>
                </a:lnTo>
                <a:lnTo>
                  <a:pt x="2172" y="312"/>
                </a:lnTo>
                <a:lnTo>
                  <a:pt x="2174" y="314"/>
                </a:lnTo>
                <a:lnTo>
                  <a:pt x="2176" y="317"/>
                </a:lnTo>
                <a:lnTo>
                  <a:pt x="2176" y="317"/>
                </a:lnTo>
                <a:lnTo>
                  <a:pt x="2179" y="319"/>
                </a:lnTo>
                <a:lnTo>
                  <a:pt x="2181" y="321"/>
                </a:lnTo>
                <a:lnTo>
                  <a:pt x="2183" y="324"/>
                </a:lnTo>
                <a:lnTo>
                  <a:pt x="2183" y="326"/>
                </a:lnTo>
                <a:lnTo>
                  <a:pt x="2186" y="329"/>
                </a:lnTo>
                <a:lnTo>
                  <a:pt x="2188" y="331"/>
                </a:lnTo>
                <a:lnTo>
                  <a:pt x="2188" y="333"/>
                </a:lnTo>
                <a:lnTo>
                  <a:pt x="2190" y="336"/>
                </a:lnTo>
                <a:lnTo>
                  <a:pt x="2190" y="338"/>
                </a:lnTo>
                <a:lnTo>
                  <a:pt x="2193" y="340"/>
                </a:lnTo>
                <a:lnTo>
                  <a:pt x="2195" y="343"/>
                </a:lnTo>
                <a:lnTo>
                  <a:pt x="2195" y="347"/>
                </a:lnTo>
                <a:lnTo>
                  <a:pt x="2197" y="350"/>
                </a:lnTo>
                <a:lnTo>
                  <a:pt x="2197" y="352"/>
                </a:lnTo>
                <a:lnTo>
                  <a:pt x="2200" y="354"/>
                </a:lnTo>
                <a:lnTo>
                  <a:pt x="2200" y="357"/>
                </a:lnTo>
                <a:lnTo>
                  <a:pt x="2202" y="359"/>
                </a:lnTo>
                <a:lnTo>
                  <a:pt x="2202" y="361"/>
                </a:lnTo>
                <a:lnTo>
                  <a:pt x="2205" y="364"/>
                </a:lnTo>
                <a:lnTo>
                  <a:pt x="2205" y="368"/>
                </a:lnTo>
                <a:lnTo>
                  <a:pt x="2207" y="371"/>
                </a:lnTo>
                <a:lnTo>
                  <a:pt x="2207" y="373"/>
                </a:lnTo>
                <a:lnTo>
                  <a:pt x="2209" y="375"/>
                </a:lnTo>
                <a:lnTo>
                  <a:pt x="2209" y="380"/>
                </a:lnTo>
                <a:lnTo>
                  <a:pt x="2212" y="383"/>
                </a:lnTo>
                <a:lnTo>
                  <a:pt x="2212" y="385"/>
                </a:lnTo>
                <a:lnTo>
                  <a:pt x="2212" y="387"/>
                </a:lnTo>
                <a:lnTo>
                  <a:pt x="2214" y="392"/>
                </a:lnTo>
                <a:lnTo>
                  <a:pt x="2214" y="394"/>
                </a:lnTo>
                <a:lnTo>
                  <a:pt x="2216" y="397"/>
                </a:lnTo>
                <a:lnTo>
                  <a:pt x="2216" y="401"/>
                </a:lnTo>
                <a:lnTo>
                  <a:pt x="2216" y="404"/>
                </a:lnTo>
                <a:lnTo>
                  <a:pt x="2219" y="406"/>
                </a:lnTo>
                <a:lnTo>
                  <a:pt x="2219" y="411"/>
                </a:lnTo>
                <a:lnTo>
                  <a:pt x="2219" y="413"/>
                </a:lnTo>
                <a:lnTo>
                  <a:pt x="2221" y="418"/>
                </a:lnTo>
                <a:lnTo>
                  <a:pt x="2221" y="420"/>
                </a:lnTo>
                <a:lnTo>
                  <a:pt x="2221" y="425"/>
                </a:lnTo>
                <a:lnTo>
                  <a:pt x="2221" y="427"/>
                </a:lnTo>
                <a:lnTo>
                  <a:pt x="2223" y="429"/>
                </a:lnTo>
                <a:lnTo>
                  <a:pt x="2223" y="434"/>
                </a:lnTo>
                <a:lnTo>
                  <a:pt x="2223" y="437"/>
                </a:lnTo>
                <a:lnTo>
                  <a:pt x="2223" y="441"/>
                </a:lnTo>
                <a:lnTo>
                  <a:pt x="2226" y="446"/>
                </a:lnTo>
                <a:lnTo>
                  <a:pt x="2226" y="448"/>
                </a:lnTo>
                <a:lnTo>
                  <a:pt x="2226" y="453"/>
                </a:lnTo>
                <a:lnTo>
                  <a:pt x="2226" y="455"/>
                </a:lnTo>
                <a:lnTo>
                  <a:pt x="2226" y="460"/>
                </a:lnTo>
                <a:lnTo>
                  <a:pt x="2228" y="462"/>
                </a:lnTo>
                <a:lnTo>
                  <a:pt x="2228" y="467"/>
                </a:lnTo>
                <a:lnTo>
                  <a:pt x="2228" y="472"/>
                </a:lnTo>
                <a:lnTo>
                  <a:pt x="2228" y="474"/>
                </a:lnTo>
                <a:lnTo>
                  <a:pt x="2228" y="479"/>
                </a:lnTo>
                <a:lnTo>
                  <a:pt x="2228" y="483"/>
                </a:lnTo>
                <a:lnTo>
                  <a:pt x="2228" y="486"/>
                </a:lnTo>
                <a:lnTo>
                  <a:pt x="2228" y="491"/>
                </a:lnTo>
                <a:lnTo>
                  <a:pt x="2230" y="495"/>
                </a:lnTo>
                <a:lnTo>
                  <a:pt x="2230" y="498"/>
                </a:lnTo>
                <a:lnTo>
                  <a:pt x="2230" y="502"/>
                </a:lnTo>
                <a:lnTo>
                  <a:pt x="2230" y="507"/>
                </a:lnTo>
                <a:lnTo>
                  <a:pt x="2230" y="512"/>
                </a:lnTo>
                <a:lnTo>
                  <a:pt x="2230" y="514"/>
                </a:lnTo>
                <a:lnTo>
                  <a:pt x="2230" y="519"/>
                </a:lnTo>
                <a:lnTo>
                  <a:pt x="2230" y="556"/>
                </a:lnTo>
                <a:close/>
                <a:moveTo>
                  <a:pt x="1260" y="547"/>
                </a:moveTo>
                <a:lnTo>
                  <a:pt x="1260" y="552"/>
                </a:lnTo>
                <a:lnTo>
                  <a:pt x="1260" y="554"/>
                </a:lnTo>
                <a:lnTo>
                  <a:pt x="1260" y="559"/>
                </a:lnTo>
                <a:lnTo>
                  <a:pt x="1260" y="563"/>
                </a:lnTo>
                <a:lnTo>
                  <a:pt x="1260" y="566"/>
                </a:lnTo>
                <a:lnTo>
                  <a:pt x="1258" y="570"/>
                </a:lnTo>
                <a:lnTo>
                  <a:pt x="1258" y="573"/>
                </a:lnTo>
                <a:lnTo>
                  <a:pt x="1258" y="577"/>
                </a:lnTo>
                <a:lnTo>
                  <a:pt x="1258" y="580"/>
                </a:lnTo>
                <a:lnTo>
                  <a:pt x="1258" y="582"/>
                </a:lnTo>
                <a:lnTo>
                  <a:pt x="1258" y="587"/>
                </a:lnTo>
                <a:lnTo>
                  <a:pt x="1258" y="589"/>
                </a:lnTo>
                <a:lnTo>
                  <a:pt x="1258" y="594"/>
                </a:lnTo>
                <a:lnTo>
                  <a:pt x="1255" y="596"/>
                </a:lnTo>
                <a:lnTo>
                  <a:pt x="1255" y="601"/>
                </a:lnTo>
                <a:lnTo>
                  <a:pt x="1255" y="603"/>
                </a:lnTo>
                <a:lnTo>
                  <a:pt x="1255" y="606"/>
                </a:lnTo>
                <a:lnTo>
                  <a:pt x="1253" y="610"/>
                </a:lnTo>
                <a:lnTo>
                  <a:pt x="1253" y="613"/>
                </a:lnTo>
                <a:lnTo>
                  <a:pt x="1253" y="615"/>
                </a:lnTo>
                <a:lnTo>
                  <a:pt x="1253" y="620"/>
                </a:lnTo>
                <a:lnTo>
                  <a:pt x="1250" y="622"/>
                </a:lnTo>
                <a:lnTo>
                  <a:pt x="1250" y="624"/>
                </a:lnTo>
                <a:lnTo>
                  <a:pt x="1250" y="629"/>
                </a:lnTo>
                <a:lnTo>
                  <a:pt x="1248" y="631"/>
                </a:lnTo>
                <a:lnTo>
                  <a:pt x="1248" y="634"/>
                </a:lnTo>
                <a:lnTo>
                  <a:pt x="1246" y="636"/>
                </a:lnTo>
                <a:lnTo>
                  <a:pt x="1246" y="641"/>
                </a:lnTo>
                <a:lnTo>
                  <a:pt x="1246" y="643"/>
                </a:lnTo>
                <a:lnTo>
                  <a:pt x="1243" y="645"/>
                </a:lnTo>
                <a:lnTo>
                  <a:pt x="1243" y="648"/>
                </a:lnTo>
                <a:lnTo>
                  <a:pt x="1241" y="650"/>
                </a:lnTo>
                <a:lnTo>
                  <a:pt x="1241" y="655"/>
                </a:lnTo>
                <a:lnTo>
                  <a:pt x="1239" y="657"/>
                </a:lnTo>
                <a:lnTo>
                  <a:pt x="1239" y="660"/>
                </a:lnTo>
                <a:lnTo>
                  <a:pt x="1236" y="662"/>
                </a:lnTo>
                <a:lnTo>
                  <a:pt x="1236" y="664"/>
                </a:lnTo>
                <a:lnTo>
                  <a:pt x="1234" y="667"/>
                </a:lnTo>
                <a:lnTo>
                  <a:pt x="1234" y="669"/>
                </a:lnTo>
                <a:lnTo>
                  <a:pt x="1232" y="671"/>
                </a:lnTo>
                <a:lnTo>
                  <a:pt x="1232" y="674"/>
                </a:lnTo>
                <a:lnTo>
                  <a:pt x="1229" y="678"/>
                </a:lnTo>
                <a:lnTo>
                  <a:pt x="1227" y="681"/>
                </a:lnTo>
                <a:lnTo>
                  <a:pt x="1227" y="683"/>
                </a:lnTo>
                <a:lnTo>
                  <a:pt x="1225" y="685"/>
                </a:lnTo>
                <a:lnTo>
                  <a:pt x="1222" y="688"/>
                </a:lnTo>
                <a:lnTo>
                  <a:pt x="1222" y="690"/>
                </a:lnTo>
                <a:lnTo>
                  <a:pt x="1220" y="692"/>
                </a:lnTo>
                <a:lnTo>
                  <a:pt x="1218" y="695"/>
                </a:lnTo>
                <a:lnTo>
                  <a:pt x="1218" y="697"/>
                </a:lnTo>
                <a:lnTo>
                  <a:pt x="1215" y="699"/>
                </a:lnTo>
                <a:lnTo>
                  <a:pt x="1213" y="699"/>
                </a:lnTo>
                <a:lnTo>
                  <a:pt x="1211" y="702"/>
                </a:lnTo>
                <a:lnTo>
                  <a:pt x="1211" y="704"/>
                </a:lnTo>
                <a:lnTo>
                  <a:pt x="1208" y="707"/>
                </a:lnTo>
                <a:lnTo>
                  <a:pt x="1206" y="709"/>
                </a:lnTo>
                <a:lnTo>
                  <a:pt x="1203" y="711"/>
                </a:lnTo>
                <a:lnTo>
                  <a:pt x="1201" y="714"/>
                </a:lnTo>
                <a:lnTo>
                  <a:pt x="1201" y="716"/>
                </a:lnTo>
                <a:lnTo>
                  <a:pt x="1199" y="718"/>
                </a:lnTo>
                <a:lnTo>
                  <a:pt x="1196" y="718"/>
                </a:lnTo>
                <a:lnTo>
                  <a:pt x="1194" y="721"/>
                </a:lnTo>
                <a:lnTo>
                  <a:pt x="1192" y="723"/>
                </a:lnTo>
                <a:lnTo>
                  <a:pt x="1189" y="725"/>
                </a:lnTo>
                <a:lnTo>
                  <a:pt x="1187" y="728"/>
                </a:lnTo>
                <a:lnTo>
                  <a:pt x="1185" y="728"/>
                </a:lnTo>
                <a:lnTo>
                  <a:pt x="1182" y="730"/>
                </a:lnTo>
                <a:lnTo>
                  <a:pt x="1180" y="732"/>
                </a:lnTo>
                <a:lnTo>
                  <a:pt x="1178" y="735"/>
                </a:lnTo>
                <a:lnTo>
                  <a:pt x="1175" y="735"/>
                </a:lnTo>
                <a:lnTo>
                  <a:pt x="1173" y="737"/>
                </a:lnTo>
                <a:lnTo>
                  <a:pt x="1171" y="739"/>
                </a:lnTo>
                <a:lnTo>
                  <a:pt x="1168" y="739"/>
                </a:lnTo>
                <a:lnTo>
                  <a:pt x="1166" y="742"/>
                </a:lnTo>
                <a:lnTo>
                  <a:pt x="1164" y="744"/>
                </a:lnTo>
                <a:lnTo>
                  <a:pt x="1161" y="744"/>
                </a:lnTo>
                <a:lnTo>
                  <a:pt x="1159" y="746"/>
                </a:lnTo>
                <a:lnTo>
                  <a:pt x="1156" y="749"/>
                </a:lnTo>
                <a:lnTo>
                  <a:pt x="1154" y="749"/>
                </a:lnTo>
                <a:lnTo>
                  <a:pt x="1152" y="751"/>
                </a:lnTo>
                <a:lnTo>
                  <a:pt x="1147" y="751"/>
                </a:lnTo>
                <a:lnTo>
                  <a:pt x="1145" y="753"/>
                </a:lnTo>
                <a:lnTo>
                  <a:pt x="1142" y="756"/>
                </a:lnTo>
                <a:lnTo>
                  <a:pt x="1140" y="756"/>
                </a:lnTo>
                <a:lnTo>
                  <a:pt x="1138" y="758"/>
                </a:lnTo>
                <a:lnTo>
                  <a:pt x="1133" y="758"/>
                </a:lnTo>
                <a:lnTo>
                  <a:pt x="1131" y="761"/>
                </a:lnTo>
                <a:lnTo>
                  <a:pt x="1128" y="761"/>
                </a:lnTo>
                <a:lnTo>
                  <a:pt x="1126" y="763"/>
                </a:lnTo>
                <a:lnTo>
                  <a:pt x="1121" y="763"/>
                </a:lnTo>
                <a:lnTo>
                  <a:pt x="1119" y="765"/>
                </a:lnTo>
                <a:lnTo>
                  <a:pt x="1117" y="765"/>
                </a:lnTo>
                <a:lnTo>
                  <a:pt x="1112" y="765"/>
                </a:lnTo>
                <a:lnTo>
                  <a:pt x="1109" y="768"/>
                </a:lnTo>
                <a:lnTo>
                  <a:pt x="1107" y="768"/>
                </a:lnTo>
                <a:lnTo>
                  <a:pt x="1102" y="770"/>
                </a:lnTo>
                <a:lnTo>
                  <a:pt x="1100" y="770"/>
                </a:lnTo>
                <a:lnTo>
                  <a:pt x="1095" y="770"/>
                </a:lnTo>
                <a:lnTo>
                  <a:pt x="1093" y="772"/>
                </a:lnTo>
                <a:lnTo>
                  <a:pt x="1091" y="772"/>
                </a:lnTo>
                <a:lnTo>
                  <a:pt x="1086" y="775"/>
                </a:lnTo>
                <a:lnTo>
                  <a:pt x="1084" y="775"/>
                </a:lnTo>
                <a:lnTo>
                  <a:pt x="1079" y="775"/>
                </a:lnTo>
                <a:lnTo>
                  <a:pt x="1077" y="775"/>
                </a:lnTo>
                <a:lnTo>
                  <a:pt x="1072" y="777"/>
                </a:lnTo>
                <a:lnTo>
                  <a:pt x="1070" y="777"/>
                </a:lnTo>
                <a:lnTo>
                  <a:pt x="1065" y="777"/>
                </a:lnTo>
                <a:lnTo>
                  <a:pt x="1062" y="779"/>
                </a:lnTo>
                <a:lnTo>
                  <a:pt x="1058" y="779"/>
                </a:lnTo>
                <a:lnTo>
                  <a:pt x="1053" y="779"/>
                </a:lnTo>
                <a:lnTo>
                  <a:pt x="1051" y="779"/>
                </a:lnTo>
                <a:lnTo>
                  <a:pt x="1046" y="779"/>
                </a:lnTo>
                <a:lnTo>
                  <a:pt x="1044" y="782"/>
                </a:lnTo>
                <a:lnTo>
                  <a:pt x="1039" y="782"/>
                </a:lnTo>
                <a:lnTo>
                  <a:pt x="1034" y="782"/>
                </a:lnTo>
                <a:lnTo>
                  <a:pt x="1032" y="782"/>
                </a:lnTo>
                <a:lnTo>
                  <a:pt x="1027" y="782"/>
                </a:lnTo>
                <a:lnTo>
                  <a:pt x="1023" y="782"/>
                </a:lnTo>
                <a:lnTo>
                  <a:pt x="1020" y="782"/>
                </a:lnTo>
                <a:lnTo>
                  <a:pt x="1015" y="784"/>
                </a:lnTo>
                <a:lnTo>
                  <a:pt x="1011" y="784"/>
                </a:lnTo>
                <a:lnTo>
                  <a:pt x="1006" y="784"/>
                </a:lnTo>
                <a:lnTo>
                  <a:pt x="1004" y="784"/>
                </a:lnTo>
                <a:lnTo>
                  <a:pt x="999" y="784"/>
                </a:lnTo>
                <a:lnTo>
                  <a:pt x="994" y="784"/>
                </a:lnTo>
                <a:lnTo>
                  <a:pt x="990" y="784"/>
                </a:lnTo>
                <a:lnTo>
                  <a:pt x="985" y="784"/>
                </a:lnTo>
                <a:lnTo>
                  <a:pt x="983" y="784"/>
                </a:lnTo>
                <a:lnTo>
                  <a:pt x="978" y="784"/>
                </a:lnTo>
                <a:lnTo>
                  <a:pt x="973" y="784"/>
                </a:lnTo>
                <a:lnTo>
                  <a:pt x="968" y="784"/>
                </a:lnTo>
                <a:lnTo>
                  <a:pt x="964" y="784"/>
                </a:lnTo>
                <a:lnTo>
                  <a:pt x="959" y="784"/>
                </a:lnTo>
                <a:lnTo>
                  <a:pt x="957" y="784"/>
                </a:lnTo>
                <a:lnTo>
                  <a:pt x="952" y="784"/>
                </a:lnTo>
                <a:lnTo>
                  <a:pt x="947" y="784"/>
                </a:lnTo>
                <a:lnTo>
                  <a:pt x="943" y="782"/>
                </a:lnTo>
                <a:lnTo>
                  <a:pt x="940" y="782"/>
                </a:lnTo>
                <a:lnTo>
                  <a:pt x="936" y="782"/>
                </a:lnTo>
                <a:lnTo>
                  <a:pt x="931" y="782"/>
                </a:lnTo>
                <a:lnTo>
                  <a:pt x="929" y="782"/>
                </a:lnTo>
                <a:lnTo>
                  <a:pt x="924" y="782"/>
                </a:lnTo>
                <a:lnTo>
                  <a:pt x="919" y="782"/>
                </a:lnTo>
                <a:lnTo>
                  <a:pt x="917" y="779"/>
                </a:lnTo>
                <a:lnTo>
                  <a:pt x="912" y="779"/>
                </a:lnTo>
                <a:lnTo>
                  <a:pt x="910" y="779"/>
                </a:lnTo>
                <a:lnTo>
                  <a:pt x="905" y="779"/>
                </a:lnTo>
                <a:lnTo>
                  <a:pt x="900" y="779"/>
                </a:lnTo>
                <a:lnTo>
                  <a:pt x="898" y="777"/>
                </a:lnTo>
                <a:lnTo>
                  <a:pt x="893" y="777"/>
                </a:lnTo>
                <a:lnTo>
                  <a:pt x="891" y="777"/>
                </a:lnTo>
                <a:lnTo>
                  <a:pt x="886" y="775"/>
                </a:lnTo>
                <a:lnTo>
                  <a:pt x="884" y="775"/>
                </a:lnTo>
                <a:lnTo>
                  <a:pt x="879" y="775"/>
                </a:lnTo>
                <a:lnTo>
                  <a:pt x="877" y="775"/>
                </a:lnTo>
                <a:lnTo>
                  <a:pt x="872" y="772"/>
                </a:lnTo>
                <a:lnTo>
                  <a:pt x="870" y="772"/>
                </a:lnTo>
                <a:lnTo>
                  <a:pt x="867" y="770"/>
                </a:lnTo>
                <a:lnTo>
                  <a:pt x="863" y="770"/>
                </a:lnTo>
                <a:lnTo>
                  <a:pt x="860" y="770"/>
                </a:lnTo>
                <a:lnTo>
                  <a:pt x="856" y="768"/>
                </a:lnTo>
                <a:lnTo>
                  <a:pt x="853" y="768"/>
                </a:lnTo>
                <a:lnTo>
                  <a:pt x="851" y="765"/>
                </a:lnTo>
                <a:lnTo>
                  <a:pt x="846" y="765"/>
                </a:lnTo>
                <a:lnTo>
                  <a:pt x="844" y="765"/>
                </a:lnTo>
                <a:lnTo>
                  <a:pt x="842" y="763"/>
                </a:lnTo>
                <a:lnTo>
                  <a:pt x="837" y="763"/>
                </a:lnTo>
                <a:lnTo>
                  <a:pt x="835" y="761"/>
                </a:lnTo>
                <a:lnTo>
                  <a:pt x="832" y="761"/>
                </a:lnTo>
                <a:lnTo>
                  <a:pt x="830" y="758"/>
                </a:lnTo>
                <a:lnTo>
                  <a:pt x="825" y="758"/>
                </a:lnTo>
                <a:lnTo>
                  <a:pt x="823" y="756"/>
                </a:lnTo>
                <a:lnTo>
                  <a:pt x="820" y="756"/>
                </a:lnTo>
                <a:lnTo>
                  <a:pt x="818" y="753"/>
                </a:lnTo>
                <a:lnTo>
                  <a:pt x="816" y="751"/>
                </a:lnTo>
                <a:lnTo>
                  <a:pt x="811" y="751"/>
                </a:lnTo>
                <a:lnTo>
                  <a:pt x="809" y="749"/>
                </a:lnTo>
                <a:lnTo>
                  <a:pt x="806" y="749"/>
                </a:lnTo>
                <a:lnTo>
                  <a:pt x="804" y="746"/>
                </a:lnTo>
                <a:lnTo>
                  <a:pt x="802" y="744"/>
                </a:lnTo>
                <a:lnTo>
                  <a:pt x="799" y="744"/>
                </a:lnTo>
                <a:lnTo>
                  <a:pt x="797" y="742"/>
                </a:lnTo>
                <a:lnTo>
                  <a:pt x="795" y="739"/>
                </a:lnTo>
                <a:lnTo>
                  <a:pt x="792" y="739"/>
                </a:lnTo>
                <a:lnTo>
                  <a:pt x="790" y="737"/>
                </a:lnTo>
                <a:lnTo>
                  <a:pt x="788" y="735"/>
                </a:lnTo>
                <a:lnTo>
                  <a:pt x="785" y="735"/>
                </a:lnTo>
                <a:lnTo>
                  <a:pt x="783" y="732"/>
                </a:lnTo>
                <a:lnTo>
                  <a:pt x="780" y="730"/>
                </a:lnTo>
                <a:lnTo>
                  <a:pt x="778" y="728"/>
                </a:lnTo>
                <a:lnTo>
                  <a:pt x="776" y="728"/>
                </a:lnTo>
                <a:lnTo>
                  <a:pt x="773" y="725"/>
                </a:lnTo>
                <a:lnTo>
                  <a:pt x="771" y="723"/>
                </a:lnTo>
                <a:lnTo>
                  <a:pt x="769" y="721"/>
                </a:lnTo>
                <a:lnTo>
                  <a:pt x="766" y="718"/>
                </a:lnTo>
                <a:lnTo>
                  <a:pt x="764" y="718"/>
                </a:lnTo>
                <a:lnTo>
                  <a:pt x="762" y="716"/>
                </a:lnTo>
                <a:lnTo>
                  <a:pt x="762" y="714"/>
                </a:lnTo>
                <a:lnTo>
                  <a:pt x="759" y="711"/>
                </a:lnTo>
                <a:lnTo>
                  <a:pt x="757" y="709"/>
                </a:lnTo>
                <a:lnTo>
                  <a:pt x="755" y="707"/>
                </a:lnTo>
                <a:lnTo>
                  <a:pt x="752" y="704"/>
                </a:lnTo>
                <a:lnTo>
                  <a:pt x="752" y="702"/>
                </a:lnTo>
                <a:lnTo>
                  <a:pt x="750" y="699"/>
                </a:lnTo>
                <a:lnTo>
                  <a:pt x="748" y="699"/>
                </a:lnTo>
                <a:lnTo>
                  <a:pt x="745" y="697"/>
                </a:lnTo>
                <a:lnTo>
                  <a:pt x="745" y="695"/>
                </a:lnTo>
                <a:lnTo>
                  <a:pt x="743" y="692"/>
                </a:lnTo>
                <a:lnTo>
                  <a:pt x="741" y="690"/>
                </a:lnTo>
                <a:lnTo>
                  <a:pt x="741" y="688"/>
                </a:lnTo>
                <a:lnTo>
                  <a:pt x="738" y="685"/>
                </a:lnTo>
                <a:lnTo>
                  <a:pt x="736" y="683"/>
                </a:lnTo>
                <a:lnTo>
                  <a:pt x="736" y="681"/>
                </a:lnTo>
                <a:lnTo>
                  <a:pt x="734" y="678"/>
                </a:lnTo>
                <a:lnTo>
                  <a:pt x="731" y="674"/>
                </a:lnTo>
                <a:lnTo>
                  <a:pt x="731" y="671"/>
                </a:lnTo>
                <a:lnTo>
                  <a:pt x="729" y="669"/>
                </a:lnTo>
                <a:lnTo>
                  <a:pt x="729" y="667"/>
                </a:lnTo>
                <a:lnTo>
                  <a:pt x="726" y="664"/>
                </a:lnTo>
                <a:lnTo>
                  <a:pt x="726" y="662"/>
                </a:lnTo>
                <a:lnTo>
                  <a:pt x="724" y="660"/>
                </a:lnTo>
                <a:lnTo>
                  <a:pt x="724" y="657"/>
                </a:lnTo>
                <a:lnTo>
                  <a:pt x="722" y="655"/>
                </a:lnTo>
                <a:lnTo>
                  <a:pt x="722" y="650"/>
                </a:lnTo>
                <a:lnTo>
                  <a:pt x="719" y="648"/>
                </a:lnTo>
                <a:lnTo>
                  <a:pt x="719" y="645"/>
                </a:lnTo>
                <a:lnTo>
                  <a:pt x="717" y="643"/>
                </a:lnTo>
                <a:lnTo>
                  <a:pt x="717" y="641"/>
                </a:lnTo>
                <a:lnTo>
                  <a:pt x="717" y="636"/>
                </a:lnTo>
                <a:lnTo>
                  <a:pt x="715" y="634"/>
                </a:lnTo>
                <a:lnTo>
                  <a:pt x="715" y="631"/>
                </a:lnTo>
                <a:lnTo>
                  <a:pt x="712" y="629"/>
                </a:lnTo>
                <a:lnTo>
                  <a:pt x="712" y="624"/>
                </a:lnTo>
                <a:lnTo>
                  <a:pt x="712" y="622"/>
                </a:lnTo>
                <a:lnTo>
                  <a:pt x="710" y="620"/>
                </a:lnTo>
                <a:lnTo>
                  <a:pt x="710" y="615"/>
                </a:lnTo>
                <a:lnTo>
                  <a:pt x="710" y="613"/>
                </a:lnTo>
                <a:lnTo>
                  <a:pt x="710" y="610"/>
                </a:lnTo>
                <a:lnTo>
                  <a:pt x="708" y="606"/>
                </a:lnTo>
                <a:lnTo>
                  <a:pt x="708" y="603"/>
                </a:lnTo>
                <a:lnTo>
                  <a:pt x="708" y="601"/>
                </a:lnTo>
                <a:lnTo>
                  <a:pt x="708" y="596"/>
                </a:lnTo>
                <a:lnTo>
                  <a:pt x="708" y="594"/>
                </a:lnTo>
                <a:lnTo>
                  <a:pt x="705" y="589"/>
                </a:lnTo>
                <a:lnTo>
                  <a:pt x="705" y="587"/>
                </a:lnTo>
                <a:lnTo>
                  <a:pt x="705" y="582"/>
                </a:lnTo>
                <a:lnTo>
                  <a:pt x="705" y="580"/>
                </a:lnTo>
                <a:lnTo>
                  <a:pt x="705" y="577"/>
                </a:lnTo>
                <a:lnTo>
                  <a:pt x="705" y="573"/>
                </a:lnTo>
                <a:lnTo>
                  <a:pt x="705" y="570"/>
                </a:lnTo>
                <a:lnTo>
                  <a:pt x="703" y="566"/>
                </a:lnTo>
                <a:lnTo>
                  <a:pt x="703" y="563"/>
                </a:lnTo>
                <a:lnTo>
                  <a:pt x="703" y="559"/>
                </a:lnTo>
                <a:lnTo>
                  <a:pt x="703" y="554"/>
                </a:lnTo>
                <a:lnTo>
                  <a:pt x="703" y="552"/>
                </a:lnTo>
                <a:lnTo>
                  <a:pt x="703" y="547"/>
                </a:lnTo>
                <a:lnTo>
                  <a:pt x="703" y="0"/>
                </a:lnTo>
                <a:lnTo>
                  <a:pt x="874" y="0"/>
                </a:lnTo>
                <a:lnTo>
                  <a:pt x="874" y="509"/>
                </a:lnTo>
                <a:lnTo>
                  <a:pt x="874" y="516"/>
                </a:lnTo>
                <a:lnTo>
                  <a:pt x="874" y="523"/>
                </a:lnTo>
                <a:lnTo>
                  <a:pt x="877" y="533"/>
                </a:lnTo>
                <a:lnTo>
                  <a:pt x="877" y="540"/>
                </a:lnTo>
                <a:lnTo>
                  <a:pt x="877" y="547"/>
                </a:lnTo>
                <a:lnTo>
                  <a:pt x="879" y="554"/>
                </a:lnTo>
                <a:lnTo>
                  <a:pt x="879" y="559"/>
                </a:lnTo>
                <a:lnTo>
                  <a:pt x="882" y="566"/>
                </a:lnTo>
                <a:lnTo>
                  <a:pt x="884" y="573"/>
                </a:lnTo>
                <a:lnTo>
                  <a:pt x="886" y="577"/>
                </a:lnTo>
                <a:lnTo>
                  <a:pt x="889" y="582"/>
                </a:lnTo>
                <a:lnTo>
                  <a:pt x="891" y="589"/>
                </a:lnTo>
                <a:lnTo>
                  <a:pt x="893" y="594"/>
                </a:lnTo>
                <a:lnTo>
                  <a:pt x="896" y="599"/>
                </a:lnTo>
                <a:lnTo>
                  <a:pt x="898" y="603"/>
                </a:lnTo>
                <a:lnTo>
                  <a:pt x="903" y="606"/>
                </a:lnTo>
                <a:lnTo>
                  <a:pt x="905" y="610"/>
                </a:lnTo>
                <a:lnTo>
                  <a:pt x="910" y="615"/>
                </a:lnTo>
                <a:lnTo>
                  <a:pt x="912" y="617"/>
                </a:lnTo>
                <a:lnTo>
                  <a:pt x="917" y="622"/>
                </a:lnTo>
                <a:lnTo>
                  <a:pt x="921" y="624"/>
                </a:lnTo>
                <a:lnTo>
                  <a:pt x="926" y="627"/>
                </a:lnTo>
                <a:lnTo>
                  <a:pt x="931" y="629"/>
                </a:lnTo>
                <a:lnTo>
                  <a:pt x="936" y="631"/>
                </a:lnTo>
                <a:lnTo>
                  <a:pt x="940" y="634"/>
                </a:lnTo>
                <a:lnTo>
                  <a:pt x="945" y="634"/>
                </a:lnTo>
                <a:lnTo>
                  <a:pt x="950" y="636"/>
                </a:lnTo>
                <a:lnTo>
                  <a:pt x="957" y="638"/>
                </a:lnTo>
                <a:lnTo>
                  <a:pt x="961" y="638"/>
                </a:lnTo>
                <a:lnTo>
                  <a:pt x="968" y="638"/>
                </a:lnTo>
                <a:lnTo>
                  <a:pt x="976" y="638"/>
                </a:lnTo>
                <a:lnTo>
                  <a:pt x="983" y="638"/>
                </a:lnTo>
                <a:lnTo>
                  <a:pt x="987" y="638"/>
                </a:lnTo>
                <a:lnTo>
                  <a:pt x="994" y="638"/>
                </a:lnTo>
                <a:lnTo>
                  <a:pt x="1001" y="638"/>
                </a:lnTo>
                <a:lnTo>
                  <a:pt x="1006" y="638"/>
                </a:lnTo>
                <a:lnTo>
                  <a:pt x="1013" y="636"/>
                </a:lnTo>
                <a:lnTo>
                  <a:pt x="1018" y="634"/>
                </a:lnTo>
                <a:lnTo>
                  <a:pt x="1023" y="634"/>
                </a:lnTo>
                <a:lnTo>
                  <a:pt x="1027" y="631"/>
                </a:lnTo>
                <a:lnTo>
                  <a:pt x="1034" y="629"/>
                </a:lnTo>
                <a:lnTo>
                  <a:pt x="1039" y="627"/>
                </a:lnTo>
                <a:lnTo>
                  <a:pt x="1041" y="624"/>
                </a:lnTo>
                <a:lnTo>
                  <a:pt x="1046" y="622"/>
                </a:lnTo>
                <a:lnTo>
                  <a:pt x="1051" y="617"/>
                </a:lnTo>
                <a:lnTo>
                  <a:pt x="1055" y="615"/>
                </a:lnTo>
                <a:lnTo>
                  <a:pt x="1058" y="610"/>
                </a:lnTo>
                <a:lnTo>
                  <a:pt x="1062" y="606"/>
                </a:lnTo>
                <a:lnTo>
                  <a:pt x="1065" y="603"/>
                </a:lnTo>
                <a:lnTo>
                  <a:pt x="1067" y="599"/>
                </a:lnTo>
                <a:lnTo>
                  <a:pt x="1072" y="594"/>
                </a:lnTo>
                <a:lnTo>
                  <a:pt x="1074" y="589"/>
                </a:lnTo>
                <a:lnTo>
                  <a:pt x="1077" y="582"/>
                </a:lnTo>
                <a:lnTo>
                  <a:pt x="1079" y="577"/>
                </a:lnTo>
                <a:lnTo>
                  <a:pt x="1081" y="573"/>
                </a:lnTo>
                <a:lnTo>
                  <a:pt x="1081" y="566"/>
                </a:lnTo>
                <a:lnTo>
                  <a:pt x="1084" y="559"/>
                </a:lnTo>
                <a:lnTo>
                  <a:pt x="1086" y="554"/>
                </a:lnTo>
                <a:lnTo>
                  <a:pt x="1086" y="547"/>
                </a:lnTo>
                <a:lnTo>
                  <a:pt x="1086" y="540"/>
                </a:lnTo>
                <a:lnTo>
                  <a:pt x="1088" y="533"/>
                </a:lnTo>
                <a:lnTo>
                  <a:pt x="1088" y="523"/>
                </a:lnTo>
                <a:lnTo>
                  <a:pt x="1088" y="516"/>
                </a:lnTo>
                <a:lnTo>
                  <a:pt x="1088" y="509"/>
                </a:lnTo>
                <a:lnTo>
                  <a:pt x="1088" y="0"/>
                </a:lnTo>
                <a:lnTo>
                  <a:pt x="1260" y="0"/>
                </a:lnTo>
                <a:lnTo>
                  <a:pt x="1260" y="547"/>
                </a:lnTo>
                <a:close/>
                <a:moveTo>
                  <a:pt x="604" y="0"/>
                </a:moveTo>
                <a:lnTo>
                  <a:pt x="564" y="138"/>
                </a:lnTo>
                <a:lnTo>
                  <a:pt x="372" y="138"/>
                </a:lnTo>
                <a:lnTo>
                  <a:pt x="372" y="782"/>
                </a:lnTo>
                <a:lnTo>
                  <a:pt x="188" y="782"/>
                </a:lnTo>
                <a:lnTo>
                  <a:pt x="188" y="138"/>
                </a:lnTo>
                <a:lnTo>
                  <a:pt x="0" y="138"/>
                </a:lnTo>
                <a:lnTo>
                  <a:pt x="0" y="0"/>
                </a:lnTo>
                <a:lnTo>
                  <a:pt x="604" y="0"/>
                </a:lnTo>
                <a:close/>
                <a:moveTo>
                  <a:pt x="2092" y="460"/>
                </a:moveTo>
                <a:lnTo>
                  <a:pt x="2092" y="448"/>
                </a:lnTo>
                <a:lnTo>
                  <a:pt x="2092" y="434"/>
                </a:lnTo>
                <a:lnTo>
                  <a:pt x="2089" y="425"/>
                </a:lnTo>
                <a:lnTo>
                  <a:pt x="2089" y="413"/>
                </a:lnTo>
                <a:lnTo>
                  <a:pt x="2087" y="404"/>
                </a:lnTo>
                <a:lnTo>
                  <a:pt x="2085" y="394"/>
                </a:lnTo>
                <a:lnTo>
                  <a:pt x="2080" y="385"/>
                </a:lnTo>
                <a:lnTo>
                  <a:pt x="2075" y="378"/>
                </a:lnTo>
                <a:lnTo>
                  <a:pt x="2073" y="371"/>
                </a:lnTo>
                <a:lnTo>
                  <a:pt x="2066" y="366"/>
                </a:lnTo>
                <a:lnTo>
                  <a:pt x="2061" y="359"/>
                </a:lnTo>
                <a:lnTo>
                  <a:pt x="2054" y="357"/>
                </a:lnTo>
                <a:lnTo>
                  <a:pt x="2047" y="352"/>
                </a:lnTo>
                <a:lnTo>
                  <a:pt x="2040" y="350"/>
                </a:lnTo>
                <a:lnTo>
                  <a:pt x="2033" y="347"/>
                </a:lnTo>
                <a:lnTo>
                  <a:pt x="2024" y="347"/>
                </a:lnTo>
                <a:lnTo>
                  <a:pt x="2014" y="345"/>
                </a:lnTo>
                <a:lnTo>
                  <a:pt x="2005" y="347"/>
                </a:lnTo>
                <a:lnTo>
                  <a:pt x="1995" y="347"/>
                </a:lnTo>
                <a:lnTo>
                  <a:pt x="1988" y="350"/>
                </a:lnTo>
                <a:lnTo>
                  <a:pt x="1979" y="352"/>
                </a:lnTo>
                <a:lnTo>
                  <a:pt x="1974" y="357"/>
                </a:lnTo>
                <a:lnTo>
                  <a:pt x="1967" y="361"/>
                </a:lnTo>
                <a:lnTo>
                  <a:pt x="1960" y="366"/>
                </a:lnTo>
                <a:lnTo>
                  <a:pt x="1955" y="373"/>
                </a:lnTo>
                <a:lnTo>
                  <a:pt x="1951" y="380"/>
                </a:lnTo>
                <a:lnTo>
                  <a:pt x="1948" y="390"/>
                </a:lnTo>
                <a:lnTo>
                  <a:pt x="1944" y="399"/>
                </a:lnTo>
                <a:lnTo>
                  <a:pt x="1941" y="408"/>
                </a:lnTo>
                <a:lnTo>
                  <a:pt x="1939" y="420"/>
                </a:lnTo>
                <a:lnTo>
                  <a:pt x="1937" y="432"/>
                </a:lnTo>
                <a:lnTo>
                  <a:pt x="1937" y="444"/>
                </a:lnTo>
                <a:lnTo>
                  <a:pt x="1937" y="458"/>
                </a:lnTo>
                <a:lnTo>
                  <a:pt x="1937" y="460"/>
                </a:lnTo>
                <a:lnTo>
                  <a:pt x="2092" y="4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846560" y="0"/>
            <a:ext cx="584280" cy="1989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952560"/>
            <a:ext cx="4572000" cy="914400"/>
          </a:xfrm>
          <a:prstGeom prst="rect">
            <a:avLst/>
          </a:prstGeom>
          <a:solidFill>
            <a:srgbClr val="dc78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35120" y="981000"/>
            <a:ext cx="192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UE Meta"/>
              </a:rPr>
              <a:t>eind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UE Meta"/>
              </a:rPr>
              <a:t>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UE Meta"/>
              </a:rPr>
              <a:t>of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80"/>
                </a:solidFill>
                <a:latin typeface="Arial"/>
              </a:rPr>
              <a:t>How does such an algorithm work?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 ‘balloon’ approach of the algorithm uses pressure and stiffness forces and is guided by the image gradient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2560" y="4724280"/>
            <a:ext cx="71280" cy="216000"/>
          </a:xfrm>
          <a:prstGeom prst="line">
            <a:avLst/>
          </a:prstGeom>
          <a:ln w="9360">
            <a:solidFill>
              <a:srgbClr val="9bb3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65840" y="4724280"/>
            <a:ext cx="288720" cy="432000"/>
          </a:xfrm>
          <a:prstGeom prst="line">
            <a:avLst/>
          </a:prstGeom>
          <a:ln w="9360">
            <a:solidFill>
              <a:srgbClr val="9bb3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70560" y="4724280"/>
            <a:ext cx="503280" cy="505080"/>
          </a:xfrm>
          <a:prstGeom prst="line">
            <a:avLst/>
          </a:prstGeom>
          <a:ln w="9360">
            <a:solidFill>
              <a:srgbClr val="9bb3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2560" y="5372280"/>
            <a:ext cx="142920" cy="504720"/>
          </a:xfrm>
          <a:prstGeom prst="line">
            <a:avLst/>
          </a:prstGeom>
          <a:ln w="9360">
            <a:solidFill>
              <a:srgbClr val="9bb3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65840" y="5372280"/>
            <a:ext cx="288720" cy="433080"/>
          </a:xfrm>
          <a:prstGeom prst="line">
            <a:avLst/>
          </a:prstGeom>
          <a:ln w="9360">
            <a:solidFill>
              <a:srgbClr val="9bb3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70560" y="5372280"/>
            <a:ext cx="503280" cy="504720"/>
          </a:xfrm>
          <a:prstGeom prst="line">
            <a:avLst/>
          </a:prstGeom>
          <a:ln w="9360">
            <a:solidFill>
              <a:srgbClr val="9bb3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812760" y="4724280"/>
            <a:ext cx="144360" cy="216000"/>
          </a:xfrm>
          <a:prstGeom prst="line">
            <a:avLst/>
          </a:prstGeom>
          <a:ln w="9360">
            <a:solidFill>
              <a:srgbClr val="9bb3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951280" y="4724280"/>
            <a:ext cx="503280" cy="505080"/>
          </a:xfrm>
          <a:prstGeom prst="line">
            <a:avLst/>
          </a:prstGeom>
          <a:ln w="9360">
            <a:solidFill>
              <a:srgbClr val="9bb3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7480" y="5372280"/>
            <a:ext cx="0" cy="504720"/>
          </a:xfrm>
          <a:prstGeom prst="line">
            <a:avLst/>
          </a:prstGeom>
          <a:ln w="9360">
            <a:solidFill>
              <a:srgbClr val="9bb3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238560" y="5372280"/>
            <a:ext cx="216000" cy="504720"/>
          </a:xfrm>
          <a:prstGeom prst="line">
            <a:avLst/>
          </a:prstGeom>
          <a:ln w="9360">
            <a:solidFill>
              <a:srgbClr val="9bb3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446200" y="5372280"/>
            <a:ext cx="503280" cy="504720"/>
          </a:xfrm>
          <a:prstGeom prst="line">
            <a:avLst/>
          </a:prstGeom>
          <a:ln w="9360">
            <a:solidFill>
              <a:srgbClr val="9bb3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462560" y="3860280"/>
            <a:ext cx="215640" cy="358920"/>
          </a:xfrm>
          <a:prstGeom prst="line">
            <a:avLst/>
          </a:prstGeom>
          <a:ln w="9360">
            <a:solidFill>
              <a:srgbClr val="9bb3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965840" y="3725640"/>
            <a:ext cx="288720" cy="493560"/>
          </a:xfrm>
          <a:prstGeom prst="line">
            <a:avLst/>
          </a:prstGeom>
          <a:ln w="9360">
            <a:solidFill>
              <a:srgbClr val="9bb3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70560" y="4219560"/>
            <a:ext cx="647640" cy="73080"/>
          </a:xfrm>
          <a:prstGeom prst="line">
            <a:avLst/>
          </a:prstGeom>
          <a:ln w="9360">
            <a:solidFill>
              <a:srgbClr val="9bb3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957480" y="3860280"/>
            <a:ext cx="73080" cy="358920"/>
          </a:xfrm>
          <a:prstGeom prst="line">
            <a:avLst/>
          </a:prstGeom>
          <a:ln w="9360">
            <a:solidFill>
              <a:srgbClr val="9bb3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3381120" y="3860280"/>
            <a:ext cx="73080" cy="358920"/>
          </a:xfrm>
          <a:prstGeom prst="line">
            <a:avLst/>
          </a:prstGeom>
          <a:ln w="9360">
            <a:solidFill>
              <a:srgbClr val="9bb3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2733480" y="3932280"/>
            <a:ext cx="215640" cy="287280"/>
          </a:xfrm>
          <a:prstGeom prst="line">
            <a:avLst/>
          </a:prstGeom>
          <a:ln w="9360">
            <a:solidFill>
              <a:srgbClr val="9bb3c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05120" y="4052880"/>
            <a:ext cx="1944720" cy="1511280"/>
          </a:xfrm>
          <a:custGeom>
            <a:avLst/>
            <a:gdLst/>
            <a:ahLst/>
            <a:rect l="l" t="t" r="r" b="b"/>
            <a:pathLst>
              <a:path w="1225" h="952">
                <a:moveTo>
                  <a:pt x="0" y="635"/>
                </a:moveTo>
                <a:lnTo>
                  <a:pt x="136" y="136"/>
                </a:lnTo>
                <a:lnTo>
                  <a:pt x="726" y="0"/>
                </a:lnTo>
                <a:lnTo>
                  <a:pt x="1225" y="136"/>
                </a:lnTo>
                <a:lnTo>
                  <a:pt x="1089" y="771"/>
                </a:lnTo>
                <a:lnTo>
                  <a:pt x="499" y="952"/>
                </a:lnTo>
                <a:lnTo>
                  <a:pt x="0" y="635"/>
                </a:lnTo>
                <a:close/>
              </a:path>
            </a:pathLst>
          </a:custGeom>
          <a:noFill/>
          <a:ln w="93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749840" y="3933360"/>
            <a:ext cx="504720" cy="335160"/>
          </a:xfrm>
          <a:prstGeom prst="line">
            <a:avLst/>
          </a:prstGeom>
          <a:ln w="28440">
            <a:solidFill>
              <a:srgbClr val="d355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641840" y="4268880"/>
            <a:ext cx="108000" cy="503280"/>
          </a:xfrm>
          <a:prstGeom prst="line">
            <a:avLst/>
          </a:prstGeom>
          <a:ln w="28440">
            <a:solidFill>
              <a:srgbClr val="d355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389120" y="4170240"/>
            <a:ext cx="360360" cy="98640"/>
          </a:xfrm>
          <a:prstGeom prst="line">
            <a:avLst/>
          </a:prstGeom>
          <a:ln w="28440">
            <a:solidFill>
              <a:srgbClr val="d355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29080" y="364500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d35542"/>
                </a:solidFill>
                <a:latin typeface="Arial"/>
              </a:rPr>
              <a:t>pressure v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22560" y="4294080"/>
            <a:ext cx="167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d35542"/>
                </a:solidFill>
                <a:latin typeface="Arial"/>
              </a:rPr>
              <a:t>elasticity v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446200" y="4724280"/>
            <a:ext cx="503280" cy="505080"/>
          </a:xfrm>
          <a:prstGeom prst="line">
            <a:avLst/>
          </a:prstGeom>
          <a:ln w="9360">
            <a:solidFill>
              <a:srgbClr val="b3c5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749840" y="3789000"/>
            <a:ext cx="216000" cy="431640"/>
          </a:xfrm>
          <a:prstGeom prst="line">
            <a:avLst/>
          </a:prstGeom>
          <a:ln w="28440">
            <a:solidFill>
              <a:srgbClr val="002f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96720" y="3429000"/>
            <a:ext cx="21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2f70"/>
                </a:solidFill>
                <a:latin typeface="Arial"/>
              </a:rPr>
              <a:t>image gradient v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86280" y="537372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9bb3c1"/>
                </a:solidFill>
                <a:latin typeface="Arial"/>
              </a:rPr>
              <a:t>image gradient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3979800"/>
            <a:ext cx="144360" cy="1443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76760" y="4195800"/>
            <a:ext cx="144360" cy="1443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60760" y="5205240"/>
            <a:ext cx="144720" cy="1447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49480" y="4195800"/>
            <a:ext cx="144720" cy="1443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33840" y="4987800"/>
            <a:ext cx="144360" cy="1447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25840" y="5492880"/>
            <a:ext cx="144360" cy="1443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80"/>
                </a:solidFill>
                <a:latin typeface="Arial"/>
              </a:rPr>
              <a:t>How does such an algorithm work?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lasticity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nl-NL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  =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+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 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urface only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mage gradient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nl-NL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  =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nl-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s the outer normal of point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nl-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nl-NL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nl-NL" sz="20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re the position vectors of point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nd its neighbou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nl-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 is the gradient vector fiel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re cons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80"/>
                </a:solidFill>
                <a:latin typeface="Arial"/>
              </a:rPr>
              <a:t>Segmentation in 3D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879640" y="2205000"/>
            <a:ext cx="3384720" cy="3384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284720" y="3573360"/>
            <a:ext cx="1079280" cy="64764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80"/>
                </a:solidFill>
                <a:latin typeface="Arial"/>
              </a:rPr>
              <a:t>Segmentation in 3D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181480" y="1989000"/>
            <a:ext cx="1551240" cy="15512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184720" y="3645000"/>
            <a:ext cx="1548000" cy="2520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2556000" y="364500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2556000" y="1989000"/>
            <a:ext cx="2520720" cy="1549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708360" y="1989000"/>
            <a:ext cx="0" cy="4176720"/>
          </a:xfrm>
          <a:prstGeom prst="line">
            <a:avLst/>
          </a:prstGeom>
          <a:ln w="12600">
            <a:solidFill>
              <a:srgbClr val="d2d7e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1989000"/>
            <a:ext cx="0" cy="4176720"/>
          </a:xfrm>
          <a:prstGeom prst="line">
            <a:avLst/>
          </a:prstGeom>
          <a:ln w="12600">
            <a:solidFill>
              <a:srgbClr val="d2d7e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56000" y="4653000"/>
            <a:ext cx="4176720" cy="0"/>
          </a:xfrm>
          <a:prstGeom prst="line">
            <a:avLst/>
          </a:prstGeom>
          <a:ln w="12600">
            <a:solidFill>
              <a:srgbClr val="d2d7e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56000" y="5157720"/>
            <a:ext cx="4176720" cy="0"/>
          </a:xfrm>
          <a:prstGeom prst="line">
            <a:avLst/>
          </a:prstGeom>
          <a:ln w="12600">
            <a:solidFill>
              <a:srgbClr val="d2d7e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48200" y="3645000"/>
            <a:ext cx="0" cy="2520720"/>
          </a:xfrm>
          <a:prstGeom prst="line">
            <a:avLst/>
          </a:prstGeom>
          <a:ln w="12600">
            <a:solidFill>
              <a:srgbClr val="d2d7e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08560" y="3645000"/>
            <a:ext cx="0" cy="2520720"/>
          </a:xfrm>
          <a:prstGeom prst="line">
            <a:avLst/>
          </a:prstGeom>
          <a:ln w="12600">
            <a:solidFill>
              <a:srgbClr val="d2d7e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56000" y="2496960"/>
            <a:ext cx="2520720" cy="0"/>
          </a:xfrm>
          <a:prstGeom prst="line">
            <a:avLst/>
          </a:prstGeom>
          <a:ln w="12600">
            <a:solidFill>
              <a:srgbClr val="d2d7e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2862360"/>
            <a:ext cx="2520720" cy="0"/>
          </a:xfrm>
          <a:prstGeom prst="line">
            <a:avLst/>
          </a:prstGeom>
          <a:ln w="12600">
            <a:solidFill>
              <a:srgbClr val="d2d7e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51640" y="2637000"/>
            <a:ext cx="652320" cy="28728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80"/>
                </a:solidFill>
                <a:latin typeface="Arial"/>
              </a:rPr>
              <a:t>Improvements on the basic algorith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anges to the basic active shape algorith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hape refines when growing lar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ints which are not close to the edge are rejected from 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ssure force does not act on points close to the 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2924280"/>
            <a:ext cx="1728720" cy="1584360"/>
          </a:xfrm>
          <a:custGeom>
            <a:avLst/>
            <a:gdLst/>
            <a:ahLst/>
            <a:rect l="l" t="t" r="r" b="b"/>
            <a:pathLst>
              <a:path w="1089" h="998">
                <a:moveTo>
                  <a:pt x="227" y="862"/>
                </a:moveTo>
                <a:lnTo>
                  <a:pt x="91" y="499"/>
                </a:lnTo>
                <a:lnTo>
                  <a:pt x="0" y="182"/>
                </a:lnTo>
                <a:lnTo>
                  <a:pt x="317" y="91"/>
                </a:lnTo>
                <a:lnTo>
                  <a:pt x="862" y="0"/>
                </a:lnTo>
                <a:lnTo>
                  <a:pt x="953" y="363"/>
                </a:lnTo>
                <a:lnTo>
                  <a:pt x="1089" y="772"/>
                </a:lnTo>
                <a:lnTo>
                  <a:pt x="635" y="998"/>
                </a:lnTo>
                <a:lnTo>
                  <a:pt x="227" y="86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16360" y="1989000"/>
            <a:ext cx="3889440" cy="863640"/>
          </a:xfrm>
          <a:prstGeom prst="rect">
            <a:avLst/>
          </a:prstGeom>
          <a:solidFill>
            <a:srgbClr val="92a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0800000">
            <a:off x="4716360" y="4816080"/>
            <a:ext cx="3889440" cy="917640"/>
          </a:xfrm>
          <a:prstGeom prst="rect">
            <a:avLst/>
          </a:prstGeom>
          <a:solidFill>
            <a:srgbClr val="92ac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22760" y="2938320"/>
            <a:ext cx="179640" cy="179640"/>
          </a:xfrm>
          <a:prstGeom prst="ellipse">
            <a:avLst/>
          </a:prstGeom>
          <a:solidFill>
            <a:srgbClr val="d35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26280" y="2849400"/>
            <a:ext cx="179280" cy="179640"/>
          </a:xfrm>
          <a:prstGeom prst="ellipse">
            <a:avLst/>
          </a:prstGeom>
          <a:solidFill>
            <a:srgbClr val="d35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69160" y="4459320"/>
            <a:ext cx="177480" cy="179280"/>
          </a:xfrm>
          <a:prstGeom prst="ellipse">
            <a:avLst/>
          </a:prstGeom>
          <a:solidFill>
            <a:srgbClr val="d35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415200" y="2492280"/>
            <a:ext cx="0" cy="357120"/>
          </a:xfrm>
          <a:prstGeom prst="line">
            <a:avLst/>
          </a:prstGeom>
          <a:ln w="28440">
            <a:solidFill>
              <a:srgbClr val="002f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611680" y="2581200"/>
            <a:ext cx="0" cy="357120"/>
          </a:xfrm>
          <a:prstGeom prst="line">
            <a:avLst/>
          </a:prstGeom>
          <a:ln w="28440">
            <a:solidFill>
              <a:srgbClr val="002f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59520" y="4637160"/>
            <a:ext cx="0" cy="358560"/>
          </a:xfrm>
          <a:prstGeom prst="line">
            <a:avLst/>
          </a:prstGeom>
          <a:ln w="28440">
            <a:solidFill>
              <a:srgbClr val="002f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773760" y="3921120"/>
            <a:ext cx="0" cy="179280"/>
          </a:xfrm>
          <a:prstGeom prst="line">
            <a:avLst/>
          </a:prstGeom>
          <a:ln w="28440">
            <a:solidFill>
              <a:srgbClr val="002f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432400" y="4011120"/>
            <a:ext cx="0" cy="179640"/>
          </a:xfrm>
          <a:prstGeom prst="line">
            <a:avLst/>
          </a:prstGeom>
          <a:ln w="28440">
            <a:solidFill>
              <a:srgbClr val="002f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75280" y="3208320"/>
            <a:ext cx="0" cy="268200"/>
          </a:xfrm>
          <a:prstGeom prst="line">
            <a:avLst/>
          </a:prstGeom>
          <a:ln w="28440">
            <a:solidFill>
              <a:srgbClr val="002f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73760" y="4191120"/>
            <a:ext cx="357120" cy="177840"/>
          </a:xfrm>
          <a:prstGeom prst="line">
            <a:avLst/>
          </a:prstGeom>
          <a:ln w="28440">
            <a:solidFill>
              <a:srgbClr val="d355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594480" y="3385800"/>
            <a:ext cx="378000" cy="111240"/>
          </a:xfrm>
          <a:prstGeom prst="line">
            <a:avLst/>
          </a:prstGeom>
          <a:ln w="28440">
            <a:solidFill>
              <a:srgbClr val="d355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822920" y="3745080"/>
            <a:ext cx="374400" cy="141120"/>
          </a:xfrm>
          <a:prstGeom prst="line">
            <a:avLst/>
          </a:prstGeom>
          <a:ln w="28440">
            <a:solidFill>
              <a:srgbClr val="d355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4731840" y="3011040"/>
            <a:ext cx="343080" cy="196920"/>
          </a:xfrm>
          <a:prstGeom prst="line">
            <a:avLst/>
          </a:prstGeom>
          <a:ln w="28440">
            <a:solidFill>
              <a:srgbClr val="d355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138640" y="4280040"/>
            <a:ext cx="293760" cy="266400"/>
          </a:xfrm>
          <a:prstGeom prst="line">
            <a:avLst/>
          </a:prstGeom>
          <a:ln w="28440">
            <a:solidFill>
              <a:srgbClr val="d355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84920" y="3117960"/>
            <a:ext cx="179280" cy="17928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43480" y="4191120"/>
            <a:ext cx="179280" cy="17928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83400" y="4100400"/>
            <a:ext cx="179280" cy="17964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24600" y="3652920"/>
            <a:ext cx="179280" cy="179280"/>
          </a:xfrm>
          <a:prstGeom prst="ellipse">
            <a:avLst/>
          </a:prstGeom>
          <a:noFill/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92960" y="3424320"/>
            <a:ext cx="179280" cy="179280"/>
          </a:xfrm>
          <a:prstGeom prst="ellipse">
            <a:avLst/>
          </a:prstGeom>
          <a:noFill/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94480" y="3497400"/>
            <a:ext cx="0" cy="166680"/>
          </a:xfrm>
          <a:prstGeom prst="line">
            <a:avLst/>
          </a:prstGeom>
          <a:ln w="28440">
            <a:solidFill>
              <a:srgbClr val="002f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59320" y="4192560"/>
            <a:ext cx="157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35542"/>
                </a:solidFill>
                <a:latin typeface="Arial"/>
              </a:rPr>
              <a:t>pressure v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57200" y="3741840"/>
            <a:ext cx="21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f70"/>
                </a:solidFill>
                <a:latin typeface="Arial"/>
              </a:rPr>
              <a:t>image gradient v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22880" y="338148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new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9960" y="2992320"/>
            <a:ext cx="136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verteb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 vol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247880" y="223056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tical 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80"/>
                </a:solidFill>
                <a:latin typeface="Arial"/>
              </a:rPr>
              <a:t>Segmentation in 3D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04880" y="3220920"/>
            <a:ext cx="7724880" cy="12686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85440" y="287820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36440" y="287820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-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12800" y="287820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-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88400" y="28782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80"/>
                </a:solidFill>
                <a:latin typeface="Arial"/>
              </a:rPr>
              <a:t>Segmentation in 3D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04880" y="3220920"/>
            <a:ext cx="7724880" cy="12686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85440" y="287820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36440" y="287820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-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12800" y="287820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-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88400" y="28782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80"/>
                </a:solidFill>
                <a:latin typeface="Arial"/>
              </a:rPr>
              <a:t>Adding more detai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r the image less and add new points to the shape to increase detai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st scale i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0.63 pixels (5% error), which means the distance between the points is about 0.5 millime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is not a problem, because the shape is already on the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80"/>
                </a:solidFill>
                <a:latin typeface="Arial"/>
              </a:rPr>
              <a:t>Adding more detai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04880" y="3220920"/>
            <a:ext cx="7724880" cy="1268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85440" y="287820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36440" y="287820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-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12800" y="287820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-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88400" y="28782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80"/>
                </a:solidFill>
                <a:latin typeface="Arial"/>
              </a:rPr>
              <a:t>Adding more detai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04880" y="3220920"/>
            <a:ext cx="7724880" cy="1268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85440" y="287820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36440" y="287820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-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12800" y="2878200"/>
            <a:ext cx="11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-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088400" y="28782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Why do we need a conformal disc prosthesis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70-80% of all people experience a lower back complaint in a particular period of their lifeti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20% of this group, some kind of arthrosis arises which may lead to chronic pai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generally accepted that degeneration of the intervertebral disc plays an important role in the causes of these compla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80"/>
                </a:solidFill>
                <a:latin typeface="Arial"/>
              </a:rPr>
              <a:t>Future research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NO is validating the accuracy of this algorithm by measuring the surfaces of vertebrae of pig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parallel research projects on other aspects of the prosthesis going on, like the flexible joint (a kind of fiber strengthened hydrogel) and the endplate material and biocompatible coa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NO is planning a project to introduce this prototype in clinical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48480" y="3652920"/>
            <a:ext cx="628560" cy="252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89720" y="3552840"/>
            <a:ext cx="977760" cy="14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84680" y="3855960"/>
            <a:ext cx="978120" cy="14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86320" y="3905280"/>
            <a:ext cx="2117520" cy="1162080"/>
          </a:xfrm>
          <a:custGeom>
            <a:avLst/>
            <a:gdLst/>
            <a:ahLst/>
            <a:rect l="l" t="t" r="r" b="b"/>
            <a:pathLst>
              <a:path w="1904" h="1044">
                <a:moveTo>
                  <a:pt x="1827" y="0"/>
                </a:moveTo>
                <a:lnTo>
                  <a:pt x="1883" y="24"/>
                </a:lnTo>
                <a:lnTo>
                  <a:pt x="1884" y="31"/>
                </a:lnTo>
                <a:lnTo>
                  <a:pt x="1883" y="40"/>
                </a:lnTo>
                <a:lnTo>
                  <a:pt x="1881" y="50"/>
                </a:lnTo>
                <a:lnTo>
                  <a:pt x="1878" y="61"/>
                </a:lnTo>
                <a:lnTo>
                  <a:pt x="1873" y="74"/>
                </a:lnTo>
                <a:lnTo>
                  <a:pt x="1859" y="149"/>
                </a:lnTo>
                <a:lnTo>
                  <a:pt x="1850" y="219"/>
                </a:lnTo>
                <a:lnTo>
                  <a:pt x="1845" y="295"/>
                </a:lnTo>
                <a:lnTo>
                  <a:pt x="1842" y="369"/>
                </a:lnTo>
                <a:lnTo>
                  <a:pt x="1841" y="392"/>
                </a:lnTo>
                <a:lnTo>
                  <a:pt x="1841" y="414"/>
                </a:lnTo>
                <a:lnTo>
                  <a:pt x="1845" y="485"/>
                </a:lnTo>
                <a:lnTo>
                  <a:pt x="1864" y="545"/>
                </a:lnTo>
                <a:lnTo>
                  <a:pt x="1885" y="583"/>
                </a:lnTo>
                <a:lnTo>
                  <a:pt x="1890" y="592"/>
                </a:lnTo>
                <a:lnTo>
                  <a:pt x="1904" y="630"/>
                </a:lnTo>
                <a:lnTo>
                  <a:pt x="1904" y="637"/>
                </a:lnTo>
                <a:lnTo>
                  <a:pt x="1859" y="679"/>
                </a:lnTo>
                <a:lnTo>
                  <a:pt x="1794" y="701"/>
                </a:lnTo>
                <a:lnTo>
                  <a:pt x="1730" y="714"/>
                </a:lnTo>
                <a:lnTo>
                  <a:pt x="1661" y="723"/>
                </a:lnTo>
                <a:lnTo>
                  <a:pt x="1594" y="729"/>
                </a:lnTo>
                <a:lnTo>
                  <a:pt x="1522" y="732"/>
                </a:lnTo>
                <a:lnTo>
                  <a:pt x="1493" y="733"/>
                </a:lnTo>
                <a:lnTo>
                  <a:pt x="1475" y="733"/>
                </a:lnTo>
                <a:lnTo>
                  <a:pt x="1397" y="731"/>
                </a:lnTo>
                <a:lnTo>
                  <a:pt x="1336" y="727"/>
                </a:lnTo>
                <a:lnTo>
                  <a:pt x="1275" y="722"/>
                </a:lnTo>
                <a:lnTo>
                  <a:pt x="1196" y="715"/>
                </a:lnTo>
                <a:lnTo>
                  <a:pt x="1127" y="707"/>
                </a:lnTo>
                <a:lnTo>
                  <a:pt x="1120" y="706"/>
                </a:lnTo>
                <a:lnTo>
                  <a:pt x="1112" y="706"/>
                </a:lnTo>
                <a:lnTo>
                  <a:pt x="1104" y="705"/>
                </a:lnTo>
                <a:lnTo>
                  <a:pt x="1096" y="705"/>
                </a:lnTo>
                <a:lnTo>
                  <a:pt x="1087" y="705"/>
                </a:lnTo>
                <a:lnTo>
                  <a:pt x="1079" y="705"/>
                </a:lnTo>
                <a:lnTo>
                  <a:pt x="1018" y="708"/>
                </a:lnTo>
                <a:lnTo>
                  <a:pt x="1010" y="709"/>
                </a:lnTo>
                <a:lnTo>
                  <a:pt x="1010" y="709"/>
                </a:lnTo>
                <a:lnTo>
                  <a:pt x="981" y="655"/>
                </a:lnTo>
                <a:lnTo>
                  <a:pt x="981" y="646"/>
                </a:lnTo>
                <a:lnTo>
                  <a:pt x="983" y="635"/>
                </a:lnTo>
                <a:lnTo>
                  <a:pt x="986" y="623"/>
                </a:lnTo>
                <a:lnTo>
                  <a:pt x="989" y="610"/>
                </a:lnTo>
                <a:lnTo>
                  <a:pt x="991" y="598"/>
                </a:lnTo>
                <a:lnTo>
                  <a:pt x="951" y="553"/>
                </a:lnTo>
                <a:lnTo>
                  <a:pt x="882" y="540"/>
                </a:lnTo>
                <a:lnTo>
                  <a:pt x="863" y="540"/>
                </a:lnTo>
                <a:lnTo>
                  <a:pt x="844" y="540"/>
                </a:lnTo>
                <a:lnTo>
                  <a:pt x="777" y="554"/>
                </a:lnTo>
                <a:lnTo>
                  <a:pt x="746" y="587"/>
                </a:lnTo>
                <a:lnTo>
                  <a:pt x="746" y="591"/>
                </a:lnTo>
                <a:lnTo>
                  <a:pt x="755" y="650"/>
                </a:lnTo>
                <a:lnTo>
                  <a:pt x="776" y="684"/>
                </a:lnTo>
                <a:lnTo>
                  <a:pt x="776" y="685"/>
                </a:lnTo>
                <a:lnTo>
                  <a:pt x="777" y="752"/>
                </a:lnTo>
                <a:lnTo>
                  <a:pt x="777" y="780"/>
                </a:lnTo>
                <a:lnTo>
                  <a:pt x="777" y="795"/>
                </a:lnTo>
                <a:lnTo>
                  <a:pt x="756" y="855"/>
                </a:lnTo>
                <a:lnTo>
                  <a:pt x="706" y="894"/>
                </a:lnTo>
                <a:lnTo>
                  <a:pt x="649" y="905"/>
                </a:lnTo>
                <a:lnTo>
                  <a:pt x="641" y="905"/>
                </a:lnTo>
                <a:lnTo>
                  <a:pt x="588" y="882"/>
                </a:lnTo>
                <a:lnTo>
                  <a:pt x="587" y="879"/>
                </a:lnTo>
                <a:lnTo>
                  <a:pt x="553" y="826"/>
                </a:lnTo>
                <a:lnTo>
                  <a:pt x="512" y="803"/>
                </a:lnTo>
                <a:lnTo>
                  <a:pt x="506" y="803"/>
                </a:lnTo>
                <a:lnTo>
                  <a:pt x="477" y="823"/>
                </a:lnTo>
                <a:lnTo>
                  <a:pt x="470" y="829"/>
                </a:lnTo>
                <a:lnTo>
                  <a:pt x="413" y="861"/>
                </a:lnTo>
                <a:lnTo>
                  <a:pt x="369" y="880"/>
                </a:lnTo>
                <a:lnTo>
                  <a:pt x="358" y="885"/>
                </a:lnTo>
                <a:lnTo>
                  <a:pt x="303" y="911"/>
                </a:lnTo>
                <a:lnTo>
                  <a:pt x="277" y="948"/>
                </a:lnTo>
                <a:lnTo>
                  <a:pt x="275" y="952"/>
                </a:lnTo>
                <a:lnTo>
                  <a:pt x="245" y="993"/>
                </a:lnTo>
                <a:lnTo>
                  <a:pt x="240" y="997"/>
                </a:lnTo>
                <a:lnTo>
                  <a:pt x="235" y="1001"/>
                </a:lnTo>
                <a:lnTo>
                  <a:pt x="230" y="1006"/>
                </a:lnTo>
                <a:lnTo>
                  <a:pt x="225" y="1012"/>
                </a:lnTo>
                <a:lnTo>
                  <a:pt x="219" y="1018"/>
                </a:lnTo>
                <a:lnTo>
                  <a:pt x="214" y="1024"/>
                </a:lnTo>
                <a:lnTo>
                  <a:pt x="178" y="1044"/>
                </a:lnTo>
                <a:lnTo>
                  <a:pt x="172" y="1043"/>
                </a:lnTo>
                <a:lnTo>
                  <a:pt x="129" y="983"/>
                </a:lnTo>
                <a:lnTo>
                  <a:pt x="114" y="940"/>
                </a:lnTo>
                <a:lnTo>
                  <a:pt x="105" y="920"/>
                </a:lnTo>
                <a:lnTo>
                  <a:pt x="77" y="864"/>
                </a:lnTo>
                <a:lnTo>
                  <a:pt x="58" y="830"/>
                </a:lnTo>
                <a:lnTo>
                  <a:pt x="48" y="813"/>
                </a:lnTo>
                <a:lnTo>
                  <a:pt x="17" y="749"/>
                </a:lnTo>
                <a:lnTo>
                  <a:pt x="1" y="680"/>
                </a:lnTo>
                <a:lnTo>
                  <a:pt x="0" y="660"/>
                </a:lnTo>
                <a:lnTo>
                  <a:pt x="1" y="640"/>
                </a:lnTo>
                <a:lnTo>
                  <a:pt x="4" y="619"/>
                </a:lnTo>
                <a:lnTo>
                  <a:pt x="9" y="596"/>
                </a:lnTo>
                <a:lnTo>
                  <a:pt x="14" y="574"/>
                </a:lnTo>
                <a:lnTo>
                  <a:pt x="17" y="555"/>
                </a:lnTo>
                <a:lnTo>
                  <a:pt x="20" y="540"/>
                </a:lnTo>
                <a:lnTo>
                  <a:pt x="21" y="526"/>
                </a:lnTo>
                <a:lnTo>
                  <a:pt x="22" y="515"/>
                </a:lnTo>
                <a:lnTo>
                  <a:pt x="22" y="506"/>
                </a:lnTo>
                <a:lnTo>
                  <a:pt x="13" y="479"/>
                </a:lnTo>
                <a:lnTo>
                  <a:pt x="12" y="476"/>
                </a:lnTo>
                <a:lnTo>
                  <a:pt x="11" y="472"/>
                </a:lnTo>
                <a:lnTo>
                  <a:pt x="10" y="469"/>
                </a:lnTo>
                <a:lnTo>
                  <a:pt x="11" y="464"/>
                </a:lnTo>
                <a:lnTo>
                  <a:pt x="38" y="401"/>
                </a:lnTo>
                <a:lnTo>
                  <a:pt x="78" y="357"/>
                </a:lnTo>
                <a:lnTo>
                  <a:pt x="103" y="350"/>
                </a:lnTo>
                <a:lnTo>
                  <a:pt x="108" y="350"/>
                </a:lnTo>
                <a:lnTo>
                  <a:pt x="113" y="351"/>
                </a:lnTo>
                <a:lnTo>
                  <a:pt x="118" y="351"/>
                </a:lnTo>
                <a:lnTo>
                  <a:pt x="123" y="352"/>
                </a:lnTo>
                <a:lnTo>
                  <a:pt x="129" y="354"/>
                </a:lnTo>
                <a:lnTo>
                  <a:pt x="136" y="355"/>
                </a:lnTo>
                <a:lnTo>
                  <a:pt x="203" y="367"/>
                </a:lnTo>
                <a:lnTo>
                  <a:pt x="268" y="375"/>
                </a:lnTo>
                <a:lnTo>
                  <a:pt x="303" y="377"/>
                </a:lnTo>
                <a:lnTo>
                  <a:pt x="312" y="376"/>
                </a:lnTo>
                <a:lnTo>
                  <a:pt x="320" y="376"/>
                </a:lnTo>
                <a:lnTo>
                  <a:pt x="327" y="375"/>
                </a:lnTo>
                <a:lnTo>
                  <a:pt x="332" y="373"/>
                </a:lnTo>
                <a:lnTo>
                  <a:pt x="340" y="373"/>
                </a:lnTo>
                <a:lnTo>
                  <a:pt x="401" y="345"/>
                </a:lnTo>
                <a:lnTo>
                  <a:pt x="449" y="296"/>
                </a:lnTo>
                <a:lnTo>
                  <a:pt x="456" y="289"/>
                </a:lnTo>
                <a:lnTo>
                  <a:pt x="482" y="264"/>
                </a:lnTo>
                <a:lnTo>
                  <a:pt x="486" y="261"/>
                </a:lnTo>
                <a:lnTo>
                  <a:pt x="509" y="235"/>
                </a:lnTo>
                <a:lnTo>
                  <a:pt x="511" y="232"/>
                </a:lnTo>
                <a:lnTo>
                  <a:pt x="564" y="203"/>
                </a:lnTo>
                <a:lnTo>
                  <a:pt x="640" y="178"/>
                </a:lnTo>
                <a:lnTo>
                  <a:pt x="711" y="157"/>
                </a:lnTo>
                <a:lnTo>
                  <a:pt x="725" y="153"/>
                </a:lnTo>
                <a:lnTo>
                  <a:pt x="787" y="129"/>
                </a:lnTo>
                <a:lnTo>
                  <a:pt x="811" y="110"/>
                </a:lnTo>
                <a:lnTo>
                  <a:pt x="816" y="105"/>
                </a:lnTo>
                <a:lnTo>
                  <a:pt x="860" y="83"/>
                </a:lnTo>
                <a:lnTo>
                  <a:pt x="865" y="82"/>
                </a:lnTo>
                <a:lnTo>
                  <a:pt x="909" y="49"/>
                </a:lnTo>
                <a:lnTo>
                  <a:pt x="916" y="41"/>
                </a:lnTo>
                <a:lnTo>
                  <a:pt x="972" y="13"/>
                </a:lnTo>
                <a:lnTo>
                  <a:pt x="1041" y="6"/>
                </a:lnTo>
                <a:lnTo>
                  <a:pt x="1057" y="6"/>
                </a:lnTo>
                <a:lnTo>
                  <a:pt x="1128" y="13"/>
                </a:lnTo>
                <a:lnTo>
                  <a:pt x="1188" y="24"/>
                </a:lnTo>
                <a:lnTo>
                  <a:pt x="1211" y="27"/>
                </a:lnTo>
                <a:lnTo>
                  <a:pt x="1235" y="30"/>
                </a:lnTo>
                <a:lnTo>
                  <a:pt x="1262" y="31"/>
                </a:lnTo>
                <a:lnTo>
                  <a:pt x="1290" y="32"/>
                </a:lnTo>
                <a:lnTo>
                  <a:pt x="1320" y="32"/>
                </a:lnTo>
                <a:lnTo>
                  <a:pt x="1350" y="32"/>
                </a:lnTo>
                <a:lnTo>
                  <a:pt x="1413" y="29"/>
                </a:lnTo>
                <a:lnTo>
                  <a:pt x="1475" y="25"/>
                </a:lnTo>
                <a:lnTo>
                  <a:pt x="1562" y="17"/>
                </a:lnTo>
                <a:lnTo>
                  <a:pt x="1633" y="10"/>
                </a:lnTo>
                <a:lnTo>
                  <a:pt x="1652" y="8"/>
                </a:lnTo>
                <a:lnTo>
                  <a:pt x="1667" y="6"/>
                </a:lnTo>
                <a:lnTo>
                  <a:pt x="1679" y="5"/>
                </a:lnTo>
                <a:lnTo>
                  <a:pt x="1687" y="5"/>
                </a:lnTo>
                <a:lnTo>
                  <a:pt x="1709" y="4"/>
                </a:lnTo>
                <a:lnTo>
                  <a:pt x="1729" y="3"/>
                </a:lnTo>
                <a:lnTo>
                  <a:pt x="1749" y="3"/>
                </a:lnTo>
                <a:lnTo>
                  <a:pt x="1767" y="2"/>
                </a:lnTo>
                <a:lnTo>
                  <a:pt x="1784" y="1"/>
                </a:lnTo>
                <a:lnTo>
                  <a:pt x="1800" y="0"/>
                </a:lnTo>
                <a:lnTo>
                  <a:pt x="1814" y="0"/>
                </a:lnTo>
                <a:lnTo>
                  <a:pt x="1827" y="0"/>
                </a:lnTo>
                <a:close/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70480" y="2840040"/>
            <a:ext cx="2114640" cy="1162080"/>
          </a:xfrm>
          <a:custGeom>
            <a:avLst/>
            <a:gdLst/>
            <a:ahLst/>
            <a:rect l="l" t="t" r="r" b="b"/>
            <a:pathLst>
              <a:path w="1904" h="1044">
                <a:moveTo>
                  <a:pt x="1827" y="0"/>
                </a:moveTo>
                <a:lnTo>
                  <a:pt x="1883" y="24"/>
                </a:lnTo>
                <a:lnTo>
                  <a:pt x="1884" y="31"/>
                </a:lnTo>
                <a:lnTo>
                  <a:pt x="1883" y="39"/>
                </a:lnTo>
                <a:lnTo>
                  <a:pt x="1881" y="49"/>
                </a:lnTo>
                <a:lnTo>
                  <a:pt x="1877" y="61"/>
                </a:lnTo>
                <a:lnTo>
                  <a:pt x="1873" y="74"/>
                </a:lnTo>
                <a:lnTo>
                  <a:pt x="1859" y="148"/>
                </a:lnTo>
                <a:lnTo>
                  <a:pt x="1850" y="219"/>
                </a:lnTo>
                <a:lnTo>
                  <a:pt x="1845" y="295"/>
                </a:lnTo>
                <a:lnTo>
                  <a:pt x="1842" y="369"/>
                </a:lnTo>
                <a:lnTo>
                  <a:pt x="1841" y="392"/>
                </a:lnTo>
                <a:lnTo>
                  <a:pt x="1841" y="414"/>
                </a:lnTo>
                <a:lnTo>
                  <a:pt x="1845" y="485"/>
                </a:lnTo>
                <a:lnTo>
                  <a:pt x="1864" y="544"/>
                </a:lnTo>
                <a:lnTo>
                  <a:pt x="1885" y="583"/>
                </a:lnTo>
                <a:lnTo>
                  <a:pt x="1889" y="591"/>
                </a:lnTo>
                <a:lnTo>
                  <a:pt x="1904" y="629"/>
                </a:lnTo>
                <a:lnTo>
                  <a:pt x="1904" y="636"/>
                </a:lnTo>
                <a:lnTo>
                  <a:pt x="1858" y="678"/>
                </a:lnTo>
                <a:lnTo>
                  <a:pt x="1794" y="700"/>
                </a:lnTo>
                <a:lnTo>
                  <a:pt x="1730" y="714"/>
                </a:lnTo>
                <a:lnTo>
                  <a:pt x="1661" y="723"/>
                </a:lnTo>
                <a:lnTo>
                  <a:pt x="1594" y="728"/>
                </a:lnTo>
                <a:lnTo>
                  <a:pt x="1522" y="732"/>
                </a:lnTo>
                <a:lnTo>
                  <a:pt x="1493" y="732"/>
                </a:lnTo>
                <a:lnTo>
                  <a:pt x="1475" y="732"/>
                </a:lnTo>
                <a:lnTo>
                  <a:pt x="1397" y="730"/>
                </a:lnTo>
                <a:lnTo>
                  <a:pt x="1336" y="726"/>
                </a:lnTo>
                <a:lnTo>
                  <a:pt x="1274" y="722"/>
                </a:lnTo>
                <a:lnTo>
                  <a:pt x="1196" y="714"/>
                </a:lnTo>
                <a:lnTo>
                  <a:pt x="1127" y="706"/>
                </a:lnTo>
                <a:lnTo>
                  <a:pt x="1120" y="705"/>
                </a:lnTo>
                <a:lnTo>
                  <a:pt x="1113" y="705"/>
                </a:lnTo>
                <a:lnTo>
                  <a:pt x="1078" y="702"/>
                </a:lnTo>
                <a:lnTo>
                  <a:pt x="1074" y="702"/>
                </a:lnTo>
                <a:lnTo>
                  <a:pt x="1010" y="709"/>
                </a:lnTo>
                <a:lnTo>
                  <a:pt x="1010" y="708"/>
                </a:lnTo>
                <a:lnTo>
                  <a:pt x="980" y="655"/>
                </a:lnTo>
                <a:lnTo>
                  <a:pt x="981" y="645"/>
                </a:lnTo>
                <a:lnTo>
                  <a:pt x="983" y="634"/>
                </a:lnTo>
                <a:lnTo>
                  <a:pt x="985" y="623"/>
                </a:lnTo>
                <a:lnTo>
                  <a:pt x="989" y="610"/>
                </a:lnTo>
                <a:lnTo>
                  <a:pt x="991" y="597"/>
                </a:lnTo>
                <a:lnTo>
                  <a:pt x="951" y="553"/>
                </a:lnTo>
                <a:lnTo>
                  <a:pt x="881" y="540"/>
                </a:lnTo>
                <a:lnTo>
                  <a:pt x="862" y="539"/>
                </a:lnTo>
                <a:lnTo>
                  <a:pt x="843" y="540"/>
                </a:lnTo>
                <a:lnTo>
                  <a:pt x="777" y="553"/>
                </a:lnTo>
                <a:lnTo>
                  <a:pt x="746" y="587"/>
                </a:lnTo>
                <a:lnTo>
                  <a:pt x="746" y="590"/>
                </a:lnTo>
                <a:lnTo>
                  <a:pt x="755" y="650"/>
                </a:lnTo>
                <a:lnTo>
                  <a:pt x="777" y="684"/>
                </a:lnTo>
                <a:lnTo>
                  <a:pt x="777" y="684"/>
                </a:lnTo>
                <a:lnTo>
                  <a:pt x="777" y="685"/>
                </a:lnTo>
                <a:lnTo>
                  <a:pt x="778" y="685"/>
                </a:lnTo>
                <a:lnTo>
                  <a:pt x="778" y="686"/>
                </a:lnTo>
                <a:lnTo>
                  <a:pt x="778" y="687"/>
                </a:lnTo>
                <a:lnTo>
                  <a:pt x="778" y="689"/>
                </a:lnTo>
                <a:lnTo>
                  <a:pt x="748" y="742"/>
                </a:lnTo>
                <a:lnTo>
                  <a:pt x="742" y="750"/>
                </a:lnTo>
                <a:lnTo>
                  <a:pt x="710" y="813"/>
                </a:lnTo>
                <a:lnTo>
                  <a:pt x="705" y="824"/>
                </a:lnTo>
                <a:lnTo>
                  <a:pt x="673" y="882"/>
                </a:lnTo>
                <a:lnTo>
                  <a:pt x="640" y="904"/>
                </a:lnTo>
                <a:lnTo>
                  <a:pt x="632" y="903"/>
                </a:lnTo>
                <a:lnTo>
                  <a:pt x="587" y="881"/>
                </a:lnTo>
                <a:lnTo>
                  <a:pt x="587" y="878"/>
                </a:lnTo>
                <a:lnTo>
                  <a:pt x="552" y="825"/>
                </a:lnTo>
                <a:lnTo>
                  <a:pt x="512" y="803"/>
                </a:lnTo>
                <a:lnTo>
                  <a:pt x="506" y="803"/>
                </a:lnTo>
                <a:lnTo>
                  <a:pt x="477" y="822"/>
                </a:lnTo>
                <a:lnTo>
                  <a:pt x="470" y="828"/>
                </a:lnTo>
                <a:lnTo>
                  <a:pt x="413" y="861"/>
                </a:lnTo>
                <a:lnTo>
                  <a:pt x="369" y="880"/>
                </a:lnTo>
                <a:lnTo>
                  <a:pt x="358" y="884"/>
                </a:lnTo>
                <a:lnTo>
                  <a:pt x="303" y="911"/>
                </a:lnTo>
                <a:lnTo>
                  <a:pt x="277" y="947"/>
                </a:lnTo>
                <a:lnTo>
                  <a:pt x="275" y="951"/>
                </a:lnTo>
                <a:lnTo>
                  <a:pt x="245" y="992"/>
                </a:lnTo>
                <a:lnTo>
                  <a:pt x="240" y="996"/>
                </a:lnTo>
                <a:lnTo>
                  <a:pt x="235" y="1001"/>
                </a:lnTo>
                <a:lnTo>
                  <a:pt x="230" y="1006"/>
                </a:lnTo>
                <a:lnTo>
                  <a:pt x="225" y="1012"/>
                </a:lnTo>
                <a:lnTo>
                  <a:pt x="219" y="1018"/>
                </a:lnTo>
                <a:lnTo>
                  <a:pt x="214" y="1023"/>
                </a:lnTo>
                <a:lnTo>
                  <a:pt x="178" y="1044"/>
                </a:lnTo>
                <a:lnTo>
                  <a:pt x="171" y="1042"/>
                </a:lnTo>
                <a:lnTo>
                  <a:pt x="129" y="982"/>
                </a:lnTo>
                <a:lnTo>
                  <a:pt x="113" y="940"/>
                </a:lnTo>
                <a:lnTo>
                  <a:pt x="105" y="919"/>
                </a:lnTo>
                <a:lnTo>
                  <a:pt x="77" y="863"/>
                </a:lnTo>
                <a:lnTo>
                  <a:pt x="58" y="829"/>
                </a:lnTo>
                <a:lnTo>
                  <a:pt x="48" y="813"/>
                </a:lnTo>
                <a:lnTo>
                  <a:pt x="17" y="748"/>
                </a:lnTo>
                <a:lnTo>
                  <a:pt x="1" y="679"/>
                </a:lnTo>
                <a:lnTo>
                  <a:pt x="0" y="660"/>
                </a:lnTo>
                <a:lnTo>
                  <a:pt x="1" y="639"/>
                </a:lnTo>
                <a:lnTo>
                  <a:pt x="4" y="618"/>
                </a:lnTo>
                <a:lnTo>
                  <a:pt x="9" y="595"/>
                </a:lnTo>
                <a:lnTo>
                  <a:pt x="14" y="573"/>
                </a:lnTo>
                <a:lnTo>
                  <a:pt x="18" y="553"/>
                </a:lnTo>
                <a:lnTo>
                  <a:pt x="28" y="493"/>
                </a:lnTo>
                <a:lnTo>
                  <a:pt x="32" y="455"/>
                </a:lnTo>
                <a:lnTo>
                  <a:pt x="33" y="448"/>
                </a:lnTo>
                <a:lnTo>
                  <a:pt x="49" y="385"/>
                </a:lnTo>
                <a:lnTo>
                  <a:pt x="80" y="327"/>
                </a:lnTo>
                <a:lnTo>
                  <a:pt x="130" y="292"/>
                </a:lnTo>
                <a:lnTo>
                  <a:pt x="135" y="292"/>
                </a:lnTo>
                <a:lnTo>
                  <a:pt x="140" y="292"/>
                </a:lnTo>
                <a:lnTo>
                  <a:pt x="197" y="308"/>
                </a:lnTo>
                <a:lnTo>
                  <a:pt x="206" y="311"/>
                </a:lnTo>
                <a:lnTo>
                  <a:pt x="271" y="331"/>
                </a:lnTo>
                <a:lnTo>
                  <a:pt x="294" y="334"/>
                </a:lnTo>
                <a:lnTo>
                  <a:pt x="300" y="334"/>
                </a:lnTo>
                <a:lnTo>
                  <a:pt x="306" y="333"/>
                </a:lnTo>
                <a:lnTo>
                  <a:pt x="311" y="332"/>
                </a:lnTo>
                <a:lnTo>
                  <a:pt x="319" y="332"/>
                </a:lnTo>
                <a:lnTo>
                  <a:pt x="387" y="318"/>
                </a:lnTo>
                <a:lnTo>
                  <a:pt x="446" y="289"/>
                </a:lnTo>
                <a:lnTo>
                  <a:pt x="496" y="250"/>
                </a:lnTo>
                <a:lnTo>
                  <a:pt x="509" y="234"/>
                </a:lnTo>
                <a:lnTo>
                  <a:pt x="511" y="232"/>
                </a:lnTo>
                <a:lnTo>
                  <a:pt x="564" y="203"/>
                </a:lnTo>
                <a:lnTo>
                  <a:pt x="640" y="178"/>
                </a:lnTo>
                <a:lnTo>
                  <a:pt x="711" y="156"/>
                </a:lnTo>
                <a:lnTo>
                  <a:pt x="725" y="152"/>
                </a:lnTo>
                <a:lnTo>
                  <a:pt x="787" y="129"/>
                </a:lnTo>
                <a:lnTo>
                  <a:pt x="811" y="110"/>
                </a:lnTo>
                <a:lnTo>
                  <a:pt x="816" y="104"/>
                </a:lnTo>
                <a:lnTo>
                  <a:pt x="860" y="82"/>
                </a:lnTo>
                <a:lnTo>
                  <a:pt x="864" y="81"/>
                </a:lnTo>
                <a:lnTo>
                  <a:pt x="909" y="48"/>
                </a:lnTo>
                <a:lnTo>
                  <a:pt x="916" y="41"/>
                </a:lnTo>
                <a:lnTo>
                  <a:pt x="972" y="12"/>
                </a:lnTo>
                <a:lnTo>
                  <a:pt x="1041" y="5"/>
                </a:lnTo>
                <a:lnTo>
                  <a:pt x="1057" y="6"/>
                </a:lnTo>
                <a:lnTo>
                  <a:pt x="1128" y="13"/>
                </a:lnTo>
                <a:lnTo>
                  <a:pt x="1188" y="23"/>
                </a:lnTo>
                <a:lnTo>
                  <a:pt x="1211" y="27"/>
                </a:lnTo>
                <a:lnTo>
                  <a:pt x="1235" y="29"/>
                </a:lnTo>
                <a:lnTo>
                  <a:pt x="1262" y="31"/>
                </a:lnTo>
                <a:lnTo>
                  <a:pt x="1290" y="32"/>
                </a:lnTo>
                <a:lnTo>
                  <a:pt x="1320" y="32"/>
                </a:lnTo>
                <a:lnTo>
                  <a:pt x="1350" y="31"/>
                </a:lnTo>
                <a:lnTo>
                  <a:pt x="1413" y="28"/>
                </a:lnTo>
                <a:lnTo>
                  <a:pt x="1475" y="24"/>
                </a:lnTo>
                <a:lnTo>
                  <a:pt x="1562" y="16"/>
                </a:lnTo>
                <a:lnTo>
                  <a:pt x="1633" y="9"/>
                </a:lnTo>
                <a:lnTo>
                  <a:pt x="1652" y="7"/>
                </a:lnTo>
                <a:lnTo>
                  <a:pt x="1667" y="6"/>
                </a:lnTo>
                <a:lnTo>
                  <a:pt x="1679" y="5"/>
                </a:lnTo>
                <a:lnTo>
                  <a:pt x="1687" y="4"/>
                </a:lnTo>
                <a:lnTo>
                  <a:pt x="1709" y="4"/>
                </a:lnTo>
                <a:lnTo>
                  <a:pt x="1729" y="3"/>
                </a:lnTo>
                <a:lnTo>
                  <a:pt x="1749" y="2"/>
                </a:lnTo>
                <a:lnTo>
                  <a:pt x="1767" y="1"/>
                </a:lnTo>
                <a:lnTo>
                  <a:pt x="1784" y="0"/>
                </a:lnTo>
                <a:lnTo>
                  <a:pt x="1799" y="0"/>
                </a:lnTo>
                <a:lnTo>
                  <a:pt x="1814" y="0"/>
                </a:lnTo>
                <a:lnTo>
                  <a:pt x="1827" y="0"/>
                </a:lnTo>
                <a:close/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911840" y="2565360"/>
            <a:ext cx="676080" cy="654120"/>
          </a:xfrm>
          <a:custGeom>
            <a:avLst/>
            <a:gdLst/>
            <a:ahLst/>
            <a:rect l="l" t="t" r="r" b="b"/>
            <a:pathLst>
              <a:path w="606" h="589">
                <a:moveTo>
                  <a:pt x="241" y="0"/>
                </a:moveTo>
                <a:lnTo>
                  <a:pt x="296" y="24"/>
                </a:lnTo>
                <a:lnTo>
                  <a:pt x="344" y="76"/>
                </a:lnTo>
                <a:lnTo>
                  <a:pt x="377" y="139"/>
                </a:lnTo>
                <a:lnTo>
                  <a:pt x="401" y="202"/>
                </a:lnTo>
                <a:lnTo>
                  <a:pt x="409" y="229"/>
                </a:lnTo>
                <a:lnTo>
                  <a:pt x="413" y="240"/>
                </a:lnTo>
                <a:lnTo>
                  <a:pt x="440" y="296"/>
                </a:lnTo>
                <a:lnTo>
                  <a:pt x="502" y="322"/>
                </a:lnTo>
                <a:lnTo>
                  <a:pt x="561" y="336"/>
                </a:lnTo>
                <a:lnTo>
                  <a:pt x="579" y="348"/>
                </a:lnTo>
                <a:lnTo>
                  <a:pt x="593" y="359"/>
                </a:lnTo>
                <a:lnTo>
                  <a:pt x="602" y="371"/>
                </a:lnTo>
                <a:lnTo>
                  <a:pt x="606" y="383"/>
                </a:lnTo>
                <a:lnTo>
                  <a:pt x="606" y="395"/>
                </a:lnTo>
                <a:lnTo>
                  <a:pt x="603" y="407"/>
                </a:lnTo>
                <a:lnTo>
                  <a:pt x="559" y="457"/>
                </a:lnTo>
                <a:lnTo>
                  <a:pt x="504" y="495"/>
                </a:lnTo>
                <a:lnTo>
                  <a:pt x="440" y="535"/>
                </a:lnTo>
                <a:lnTo>
                  <a:pt x="418" y="548"/>
                </a:lnTo>
                <a:lnTo>
                  <a:pt x="397" y="562"/>
                </a:lnTo>
                <a:lnTo>
                  <a:pt x="376" y="575"/>
                </a:lnTo>
                <a:lnTo>
                  <a:pt x="356" y="589"/>
                </a:lnTo>
                <a:lnTo>
                  <a:pt x="347" y="585"/>
                </a:lnTo>
                <a:lnTo>
                  <a:pt x="307" y="540"/>
                </a:lnTo>
                <a:lnTo>
                  <a:pt x="306" y="532"/>
                </a:lnTo>
                <a:lnTo>
                  <a:pt x="305" y="524"/>
                </a:lnTo>
                <a:lnTo>
                  <a:pt x="272" y="469"/>
                </a:lnTo>
                <a:lnTo>
                  <a:pt x="214" y="450"/>
                </a:lnTo>
                <a:lnTo>
                  <a:pt x="167" y="441"/>
                </a:lnTo>
                <a:lnTo>
                  <a:pt x="159" y="440"/>
                </a:lnTo>
                <a:lnTo>
                  <a:pt x="98" y="424"/>
                </a:lnTo>
                <a:lnTo>
                  <a:pt x="47" y="387"/>
                </a:lnTo>
                <a:lnTo>
                  <a:pt x="39" y="380"/>
                </a:lnTo>
                <a:lnTo>
                  <a:pt x="35" y="376"/>
                </a:lnTo>
                <a:lnTo>
                  <a:pt x="31" y="373"/>
                </a:lnTo>
                <a:lnTo>
                  <a:pt x="27" y="369"/>
                </a:lnTo>
                <a:lnTo>
                  <a:pt x="23" y="366"/>
                </a:lnTo>
                <a:lnTo>
                  <a:pt x="20" y="363"/>
                </a:lnTo>
                <a:lnTo>
                  <a:pt x="0" y="304"/>
                </a:lnTo>
                <a:lnTo>
                  <a:pt x="0" y="293"/>
                </a:lnTo>
                <a:lnTo>
                  <a:pt x="0" y="287"/>
                </a:lnTo>
                <a:lnTo>
                  <a:pt x="15" y="224"/>
                </a:lnTo>
                <a:lnTo>
                  <a:pt x="55" y="170"/>
                </a:lnTo>
                <a:lnTo>
                  <a:pt x="89" y="147"/>
                </a:lnTo>
                <a:lnTo>
                  <a:pt x="93" y="145"/>
                </a:lnTo>
                <a:lnTo>
                  <a:pt x="116" y="94"/>
                </a:lnTo>
                <a:lnTo>
                  <a:pt x="117" y="90"/>
                </a:lnTo>
                <a:lnTo>
                  <a:pt x="156" y="36"/>
                </a:lnTo>
                <a:lnTo>
                  <a:pt x="214" y="2"/>
                </a:lnTo>
                <a:lnTo>
                  <a:pt x="232" y="0"/>
                </a:lnTo>
                <a:lnTo>
                  <a:pt x="24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11840" y="2565360"/>
            <a:ext cx="676080" cy="654120"/>
          </a:xfrm>
          <a:custGeom>
            <a:avLst/>
            <a:gdLst/>
            <a:ahLst/>
            <a:rect l="l" t="t" r="r" b="b"/>
            <a:pathLst>
              <a:path w="606" h="589">
                <a:moveTo>
                  <a:pt x="356" y="589"/>
                </a:moveTo>
                <a:lnTo>
                  <a:pt x="418" y="548"/>
                </a:lnTo>
                <a:lnTo>
                  <a:pt x="462" y="522"/>
                </a:lnTo>
                <a:lnTo>
                  <a:pt x="483" y="508"/>
                </a:lnTo>
                <a:lnTo>
                  <a:pt x="542" y="470"/>
                </a:lnTo>
                <a:lnTo>
                  <a:pt x="596" y="420"/>
                </a:lnTo>
                <a:lnTo>
                  <a:pt x="606" y="395"/>
                </a:lnTo>
                <a:lnTo>
                  <a:pt x="606" y="383"/>
                </a:lnTo>
                <a:lnTo>
                  <a:pt x="561" y="336"/>
                </a:lnTo>
                <a:lnTo>
                  <a:pt x="544" y="332"/>
                </a:lnTo>
                <a:lnTo>
                  <a:pt x="528" y="328"/>
                </a:lnTo>
                <a:lnTo>
                  <a:pt x="465" y="311"/>
                </a:lnTo>
                <a:lnTo>
                  <a:pt x="423" y="266"/>
                </a:lnTo>
                <a:lnTo>
                  <a:pt x="405" y="216"/>
                </a:lnTo>
                <a:lnTo>
                  <a:pt x="401" y="202"/>
                </a:lnTo>
                <a:lnTo>
                  <a:pt x="377" y="139"/>
                </a:lnTo>
                <a:lnTo>
                  <a:pt x="344" y="76"/>
                </a:lnTo>
                <a:lnTo>
                  <a:pt x="296" y="24"/>
                </a:lnTo>
                <a:lnTo>
                  <a:pt x="241" y="0"/>
                </a:lnTo>
                <a:lnTo>
                  <a:pt x="232" y="0"/>
                </a:lnTo>
                <a:lnTo>
                  <a:pt x="223" y="0"/>
                </a:lnTo>
                <a:lnTo>
                  <a:pt x="163" y="29"/>
                </a:lnTo>
                <a:lnTo>
                  <a:pt x="123" y="75"/>
                </a:lnTo>
                <a:lnTo>
                  <a:pt x="116" y="99"/>
                </a:lnTo>
                <a:lnTo>
                  <a:pt x="115" y="103"/>
                </a:lnTo>
                <a:lnTo>
                  <a:pt x="85" y="148"/>
                </a:lnTo>
                <a:lnTo>
                  <a:pt x="80" y="150"/>
                </a:lnTo>
                <a:lnTo>
                  <a:pt x="34" y="196"/>
                </a:lnTo>
                <a:lnTo>
                  <a:pt x="3" y="252"/>
                </a:lnTo>
                <a:lnTo>
                  <a:pt x="0" y="293"/>
                </a:lnTo>
                <a:lnTo>
                  <a:pt x="0" y="299"/>
                </a:lnTo>
                <a:lnTo>
                  <a:pt x="17" y="359"/>
                </a:lnTo>
                <a:lnTo>
                  <a:pt x="27" y="369"/>
                </a:lnTo>
                <a:lnTo>
                  <a:pt x="31" y="373"/>
                </a:lnTo>
                <a:lnTo>
                  <a:pt x="35" y="376"/>
                </a:lnTo>
                <a:lnTo>
                  <a:pt x="39" y="380"/>
                </a:lnTo>
                <a:lnTo>
                  <a:pt x="42" y="384"/>
                </a:lnTo>
                <a:lnTo>
                  <a:pt x="47" y="387"/>
                </a:lnTo>
                <a:lnTo>
                  <a:pt x="98" y="424"/>
                </a:lnTo>
                <a:lnTo>
                  <a:pt x="159" y="440"/>
                </a:lnTo>
                <a:lnTo>
                  <a:pt x="175" y="443"/>
                </a:lnTo>
                <a:lnTo>
                  <a:pt x="183" y="444"/>
                </a:lnTo>
                <a:lnTo>
                  <a:pt x="244" y="458"/>
                </a:lnTo>
                <a:lnTo>
                  <a:pt x="298" y="493"/>
                </a:lnTo>
                <a:lnTo>
                  <a:pt x="307" y="540"/>
                </a:lnTo>
                <a:lnTo>
                  <a:pt x="308" y="547"/>
                </a:lnTo>
                <a:lnTo>
                  <a:pt x="338" y="586"/>
                </a:lnTo>
                <a:lnTo>
                  <a:pt x="347" y="58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10040" y="3032280"/>
            <a:ext cx="674640" cy="388800"/>
          </a:xfrm>
          <a:custGeom>
            <a:avLst/>
            <a:gdLst/>
            <a:ahLst/>
            <a:rect l="l" t="t" r="r" b="b"/>
            <a:pathLst>
              <a:path w="607" h="349">
                <a:moveTo>
                  <a:pt x="486" y="26"/>
                </a:moveTo>
                <a:lnTo>
                  <a:pt x="539" y="72"/>
                </a:lnTo>
                <a:lnTo>
                  <a:pt x="573" y="127"/>
                </a:lnTo>
                <a:lnTo>
                  <a:pt x="597" y="187"/>
                </a:lnTo>
                <a:lnTo>
                  <a:pt x="607" y="240"/>
                </a:lnTo>
                <a:lnTo>
                  <a:pt x="607" y="254"/>
                </a:lnTo>
                <a:lnTo>
                  <a:pt x="605" y="266"/>
                </a:lnTo>
                <a:lnTo>
                  <a:pt x="600" y="275"/>
                </a:lnTo>
                <a:lnTo>
                  <a:pt x="593" y="281"/>
                </a:lnTo>
                <a:lnTo>
                  <a:pt x="583" y="283"/>
                </a:lnTo>
                <a:lnTo>
                  <a:pt x="570" y="281"/>
                </a:lnTo>
                <a:lnTo>
                  <a:pt x="555" y="275"/>
                </a:lnTo>
                <a:lnTo>
                  <a:pt x="541" y="269"/>
                </a:lnTo>
                <a:lnTo>
                  <a:pt x="528" y="263"/>
                </a:lnTo>
                <a:lnTo>
                  <a:pt x="460" y="243"/>
                </a:lnTo>
                <a:lnTo>
                  <a:pt x="394" y="236"/>
                </a:lnTo>
                <a:lnTo>
                  <a:pt x="382" y="236"/>
                </a:lnTo>
                <a:lnTo>
                  <a:pt x="322" y="243"/>
                </a:lnTo>
                <a:lnTo>
                  <a:pt x="265" y="272"/>
                </a:lnTo>
                <a:lnTo>
                  <a:pt x="224" y="321"/>
                </a:lnTo>
                <a:lnTo>
                  <a:pt x="221" y="326"/>
                </a:lnTo>
                <a:lnTo>
                  <a:pt x="217" y="332"/>
                </a:lnTo>
                <a:lnTo>
                  <a:pt x="160" y="349"/>
                </a:lnTo>
                <a:lnTo>
                  <a:pt x="149" y="349"/>
                </a:lnTo>
                <a:lnTo>
                  <a:pt x="82" y="336"/>
                </a:lnTo>
                <a:lnTo>
                  <a:pt x="30" y="302"/>
                </a:lnTo>
                <a:lnTo>
                  <a:pt x="2" y="242"/>
                </a:lnTo>
                <a:lnTo>
                  <a:pt x="0" y="212"/>
                </a:lnTo>
                <a:lnTo>
                  <a:pt x="0" y="201"/>
                </a:lnTo>
                <a:lnTo>
                  <a:pt x="15" y="140"/>
                </a:lnTo>
                <a:lnTo>
                  <a:pt x="58" y="89"/>
                </a:lnTo>
                <a:lnTo>
                  <a:pt x="103" y="80"/>
                </a:lnTo>
                <a:lnTo>
                  <a:pt x="113" y="80"/>
                </a:lnTo>
                <a:lnTo>
                  <a:pt x="180" y="88"/>
                </a:lnTo>
                <a:lnTo>
                  <a:pt x="192" y="90"/>
                </a:lnTo>
                <a:lnTo>
                  <a:pt x="204" y="91"/>
                </a:lnTo>
                <a:lnTo>
                  <a:pt x="217" y="93"/>
                </a:lnTo>
                <a:lnTo>
                  <a:pt x="229" y="94"/>
                </a:lnTo>
                <a:lnTo>
                  <a:pt x="241" y="95"/>
                </a:lnTo>
                <a:lnTo>
                  <a:pt x="254" y="95"/>
                </a:lnTo>
                <a:lnTo>
                  <a:pt x="316" y="84"/>
                </a:lnTo>
                <a:lnTo>
                  <a:pt x="370" y="58"/>
                </a:lnTo>
                <a:lnTo>
                  <a:pt x="412" y="9"/>
                </a:lnTo>
                <a:lnTo>
                  <a:pt x="415" y="0"/>
                </a:lnTo>
                <a:lnTo>
                  <a:pt x="486" y="2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10040" y="3032280"/>
            <a:ext cx="674640" cy="388800"/>
          </a:xfrm>
          <a:custGeom>
            <a:avLst/>
            <a:gdLst/>
            <a:ahLst/>
            <a:rect l="l" t="t" r="r" b="b"/>
            <a:pathLst>
              <a:path w="607" h="349">
                <a:moveTo>
                  <a:pt x="300" y="249"/>
                </a:moveTo>
                <a:lnTo>
                  <a:pt x="369" y="237"/>
                </a:lnTo>
                <a:lnTo>
                  <a:pt x="394" y="236"/>
                </a:lnTo>
                <a:lnTo>
                  <a:pt x="407" y="237"/>
                </a:lnTo>
                <a:lnTo>
                  <a:pt x="474" y="246"/>
                </a:lnTo>
                <a:lnTo>
                  <a:pt x="541" y="269"/>
                </a:lnTo>
                <a:lnTo>
                  <a:pt x="555" y="275"/>
                </a:lnTo>
                <a:lnTo>
                  <a:pt x="570" y="281"/>
                </a:lnTo>
                <a:lnTo>
                  <a:pt x="607" y="240"/>
                </a:lnTo>
                <a:lnTo>
                  <a:pt x="606" y="223"/>
                </a:lnTo>
                <a:lnTo>
                  <a:pt x="582" y="147"/>
                </a:lnTo>
                <a:lnTo>
                  <a:pt x="551" y="89"/>
                </a:lnTo>
                <a:lnTo>
                  <a:pt x="500" y="33"/>
                </a:lnTo>
                <a:lnTo>
                  <a:pt x="415" y="0"/>
                </a:lnTo>
                <a:lnTo>
                  <a:pt x="412" y="9"/>
                </a:lnTo>
                <a:lnTo>
                  <a:pt x="407" y="18"/>
                </a:lnTo>
                <a:lnTo>
                  <a:pt x="360" y="64"/>
                </a:lnTo>
                <a:lnTo>
                  <a:pt x="304" y="87"/>
                </a:lnTo>
                <a:lnTo>
                  <a:pt x="241" y="95"/>
                </a:lnTo>
                <a:lnTo>
                  <a:pt x="229" y="94"/>
                </a:lnTo>
                <a:lnTo>
                  <a:pt x="217" y="93"/>
                </a:lnTo>
                <a:lnTo>
                  <a:pt x="204" y="91"/>
                </a:lnTo>
                <a:lnTo>
                  <a:pt x="192" y="90"/>
                </a:lnTo>
                <a:lnTo>
                  <a:pt x="180" y="88"/>
                </a:lnTo>
                <a:lnTo>
                  <a:pt x="168" y="86"/>
                </a:lnTo>
                <a:lnTo>
                  <a:pt x="103" y="80"/>
                </a:lnTo>
                <a:lnTo>
                  <a:pt x="93" y="80"/>
                </a:lnTo>
                <a:lnTo>
                  <a:pt x="36" y="105"/>
                </a:lnTo>
                <a:lnTo>
                  <a:pt x="8" y="160"/>
                </a:lnTo>
                <a:lnTo>
                  <a:pt x="0" y="212"/>
                </a:lnTo>
                <a:lnTo>
                  <a:pt x="0" y="222"/>
                </a:lnTo>
                <a:lnTo>
                  <a:pt x="19" y="287"/>
                </a:lnTo>
                <a:lnTo>
                  <a:pt x="71" y="332"/>
                </a:lnTo>
                <a:lnTo>
                  <a:pt x="138" y="348"/>
                </a:lnTo>
                <a:lnTo>
                  <a:pt x="160" y="349"/>
                </a:lnTo>
                <a:lnTo>
                  <a:pt x="171" y="349"/>
                </a:lnTo>
                <a:lnTo>
                  <a:pt x="224" y="321"/>
                </a:lnTo>
                <a:lnTo>
                  <a:pt x="227" y="315"/>
                </a:lnTo>
                <a:lnTo>
                  <a:pt x="269" y="268"/>
                </a:lnTo>
                <a:lnTo>
                  <a:pt x="297" y="250"/>
                </a:lnTo>
                <a:lnTo>
                  <a:pt x="300" y="24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62560" y="2995560"/>
            <a:ext cx="252360" cy="343080"/>
          </a:xfrm>
          <a:custGeom>
            <a:avLst/>
            <a:gdLst/>
            <a:ahLst/>
            <a:rect l="l" t="t" r="r" b="b"/>
            <a:pathLst>
              <a:path w="227" h="308">
                <a:moveTo>
                  <a:pt x="101" y="0"/>
                </a:moveTo>
                <a:lnTo>
                  <a:pt x="160" y="25"/>
                </a:lnTo>
                <a:lnTo>
                  <a:pt x="189" y="81"/>
                </a:lnTo>
                <a:lnTo>
                  <a:pt x="189" y="88"/>
                </a:lnTo>
                <a:lnTo>
                  <a:pt x="190" y="96"/>
                </a:lnTo>
                <a:lnTo>
                  <a:pt x="204" y="157"/>
                </a:lnTo>
                <a:lnTo>
                  <a:pt x="207" y="172"/>
                </a:lnTo>
                <a:lnTo>
                  <a:pt x="211" y="187"/>
                </a:lnTo>
                <a:lnTo>
                  <a:pt x="226" y="258"/>
                </a:lnTo>
                <a:lnTo>
                  <a:pt x="227" y="280"/>
                </a:lnTo>
                <a:lnTo>
                  <a:pt x="226" y="290"/>
                </a:lnTo>
                <a:lnTo>
                  <a:pt x="224" y="297"/>
                </a:lnTo>
                <a:lnTo>
                  <a:pt x="220" y="303"/>
                </a:lnTo>
                <a:lnTo>
                  <a:pt x="215" y="307"/>
                </a:lnTo>
                <a:lnTo>
                  <a:pt x="208" y="308"/>
                </a:lnTo>
                <a:lnTo>
                  <a:pt x="199" y="307"/>
                </a:lnTo>
                <a:lnTo>
                  <a:pt x="140" y="271"/>
                </a:lnTo>
                <a:lnTo>
                  <a:pt x="84" y="219"/>
                </a:lnTo>
                <a:lnTo>
                  <a:pt x="35" y="160"/>
                </a:lnTo>
                <a:lnTo>
                  <a:pt x="1" y="100"/>
                </a:lnTo>
                <a:lnTo>
                  <a:pt x="0" y="91"/>
                </a:lnTo>
                <a:lnTo>
                  <a:pt x="0" y="84"/>
                </a:lnTo>
                <a:lnTo>
                  <a:pt x="26" y="27"/>
                </a:lnTo>
                <a:lnTo>
                  <a:pt x="85" y="0"/>
                </a:lnTo>
                <a:lnTo>
                  <a:pt x="93" y="0"/>
                </a:lnTo>
                <a:lnTo>
                  <a:pt x="10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84680" y="2868480"/>
            <a:ext cx="947880" cy="55800"/>
          </a:xfrm>
          <a:custGeom>
            <a:avLst/>
            <a:gdLst/>
            <a:ahLst/>
            <a:rect l="l" t="t" r="r" b="b"/>
            <a:pathLst>
              <a:path w="852" h="52">
                <a:moveTo>
                  <a:pt x="842" y="12"/>
                </a:moveTo>
                <a:lnTo>
                  <a:pt x="852" y="2"/>
                </a:lnTo>
                <a:lnTo>
                  <a:pt x="852" y="1"/>
                </a:lnTo>
                <a:lnTo>
                  <a:pt x="850" y="0"/>
                </a:lnTo>
                <a:lnTo>
                  <a:pt x="848" y="0"/>
                </a:lnTo>
                <a:lnTo>
                  <a:pt x="846" y="0"/>
                </a:lnTo>
                <a:lnTo>
                  <a:pt x="842" y="0"/>
                </a:lnTo>
                <a:lnTo>
                  <a:pt x="837" y="0"/>
                </a:lnTo>
                <a:lnTo>
                  <a:pt x="770" y="5"/>
                </a:lnTo>
                <a:lnTo>
                  <a:pt x="704" y="12"/>
                </a:lnTo>
                <a:lnTo>
                  <a:pt x="628" y="24"/>
                </a:lnTo>
                <a:lnTo>
                  <a:pt x="607" y="28"/>
                </a:lnTo>
                <a:lnTo>
                  <a:pt x="543" y="37"/>
                </a:lnTo>
                <a:lnTo>
                  <a:pt x="476" y="46"/>
                </a:lnTo>
                <a:lnTo>
                  <a:pt x="405" y="51"/>
                </a:lnTo>
                <a:lnTo>
                  <a:pt x="357" y="52"/>
                </a:lnTo>
                <a:lnTo>
                  <a:pt x="332" y="52"/>
                </a:lnTo>
                <a:lnTo>
                  <a:pt x="260" y="48"/>
                </a:lnTo>
                <a:lnTo>
                  <a:pt x="193" y="43"/>
                </a:lnTo>
                <a:lnTo>
                  <a:pt x="133" y="36"/>
                </a:lnTo>
                <a:lnTo>
                  <a:pt x="81" y="30"/>
                </a:lnTo>
                <a:lnTo>
                  <a:pt x="67" y="28"/>
                </a:lnTo>
                <a:lnTo>
                  <a:pt x="5" y="23"/>
                </a:lnTo>
                <a:lnTo>
                  <a:pt x="0" y="23"/>
                </a:lnTo>
              </a:path>
            </a:pathLst>
          </a:custGeom>
          <a:noFill/>
          <a:ln w="1008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29120" y="3575160"/>
            <a:ext cx="674640" cy="600120"/>
          </a:xfrm>
          <a:custGeom>
            <a:avLst/>
            <a:gdLst/>
            <a:ahLst/>
            <a:rect l="l" t="t" r="r" b="b"/>
            <a:pathLst>
              <a:path w="607" h="539">
                <a:moveTo>
                  <a:pt x="237" y="0"/>
                </a:moveTo>
                <a:lnTo>
                  <a:pt x="304" y="14"/>
                </a:lnTo>
                <a:lnTo>
                  <a:pt x="312" y="17"/>
                </a:lnTo>
                <a:lnTo>
                  <a:pt x="366" y="44"/>
                </a:lnTo>
                <a:lnTo>
                  <a:pt x="399" y="95"/>
                </a:lnTo>
                <a:lnTo>
                  <a:pt x="411" y="162"/>
                </a:lnTo>
                <a:lnTo>
                  <a:pt x="412" y="173"/>
                </a:lnTo>
                <a:lnTo>
                  <a:pt x="431" y="233"/>
                </a:lnTo>
                <a:lnTo>
                  <a:pt x="482" y="267"/>
                </a:lnTo>
                <a:lnTo>
                  <a:pt x="544" y="282"/>
                </a:lnTo>
                <a:lnTo>
                  <a:pt x="561" y="286"/>
                </a:lnTo>
                <a:lnTo>
                  <a:pt x="580" y="298"/>
                </a:lnTo>
                <a:lnTo>
                  <a:pt x="593" y="310"/>
                </a:lnTo>
                <a:lnTo>
                  <a:pt x="602" y="322"/>
                </a:lnTo>
                <a:lnTo>
                  <a:pt x="606" y="333"/>
                </a:lnTo>
                <a:lnTo>
                  <a:pt x="607" y="346"/>
                </a:lnTo>
                <a:lnTo>
                  <a:pt x="603" y="358"/>
                </a:lnTo>
                <a:lnTo>
                  <a:pt x="560" y="407"/>
                </a:lnTo>
                <a:lnTo>
                  <a:pt x="504" y="446"/>
                </a:lnTo>
                <a:lnTo>
                  <a:pt x="440" y="485"/>
                </a:lnTo>
                <a:lnTo>
                  <a:pt x="418" y="499"/>
                </a:lnTo>
                <a:lnTo>
                  <a:pt x="397" y="512"/>
                </a:lnTo>
                <a:lnTo>
                  <a:pt x="376" y="526"/>
                </a:lnTo>
                <a:lnTo>
                  <a:pt x="356" y="539"/>
                </a:lnTo>
                <a:lnTo>
                  <a:pt x="347" y="536"/>
                </a:lnTo>
                <a:lnTo>
                  <a:pt x="307" y="490"/>
                </a:lnTo>
                <a:lnTo>
                  <a:pt x="306" y="482"/>
                </a:lnTo>
                <a:lnTo>
                  <a:pt x="305" y="474"/>
                </a:lnTo>
                <a:lnTo>
                  <a:pt x="273" y="419"/>
                </a:lnTo>
                <a:lnTo>
                  <a:pt x="214" y="400"/>
                </a:lnTo>
                <a:lnTo>
                  <a:pt x="167" y="392"/>
                </a:lnTo>
                <a:lnTo>
                  <a:pt x="159" y="390"/>
                </a:lnTo>
                <a:lnTo>
                  <a:pt x="98" y="375"/>
                </a:lnTo>
                <a:lnTo>
                  <a:pt x="47" y="338"/>
                </a:lnTo>
                <a:lnTo>
                  <a:pt x="39" y="330"/>
                </a:lnTo>
                <a:lnTo>
                  <a:pt x="35" y="326"/>
                </a:lnTo>
                <a:lnTo>
                  <a:pt x="31" y="323"/>
                </a:lnTo>
                <a:lnTo>
                  <a:pt x="27" y="320"/>
                </a:lnTo>
                <a:lnTo>
                  <a:pt x="24" y="316"/>
                </a:lnTo>
                <a:lnTo>
                  <a:pt x="20" y="313"/>
                </a:lnTo>
                <a:lnTo>
                  <a:pt x="0" y="255"/>
                </a:lnTo>
                <a:lnTo>
                  <a:pt x="0" y="243"/>
                </a:lnTo>
                <a:lnTo>
                  <a:pt x="0" y="237"/>
                </a:lnTo>
                <a:lnTo>
                  <a:pt x="22" y="174"/>
                </a:lnTo>
                <a:lnTo>
                  <a:pt x="73" y="132"/>
                </a:lnTo>
                <a:lnTo>
                  <a:pt x="93" y="123"/>
                </a:lnTo>
                <a:lnTo>
                  <a:pt x="99" y="121"/>
                </a:lnTo>
                <a:lnTo>
                  <a:pt x="126" y="76"/>
                </a:lnTo>
                <a:lnTo>
                  <a:pt x="127" y="71"/>
                </a:lnTo>
                <a:lnTo>
                  <a:pt x="166" y="23"/>
                </a:lnTo>
                <a:lnTo>
                  <a:pt x="229" y="0"/>
                </a:lnTo>
                <a:lnTo>
                  <a:pt x="237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29120" y="3575160"/>
            <a:ext cx="674640" cy="600120"/>
          </a:xfrm>
          <a:custGeom>
            <a:avLst/>
            <a:gdLst/>
            <a:ahLst/>
            <a:rect l="l" t="t" r="r" b="b"/>
            <a:pathLst>
              <a:path w="607" h="539">
                <a:moveTo>
                  <a:pt x="356" y="539"/>
                </a:moveTo>
                <a:lnTo>
                  <a:pt x="418" y="499"/>
                </a:lnTo>
                <a:lnTo>
                  <a:pt x="462" y="472"/>
                </a:lnTo>
                <a:lnTo>
                  <a:pt x="484" y="459"/>
                </a:lnTo>
                <a:lnTo>
                  <a:pt x="543" y="420"/>
                </a:lnTo>
                <a:lnTo>
                  <a:pt x="597" y="370"/>
                </a:lnTo>
                <a:lnTo>
                  <a:pt x="607" y="346"/>
                </a:lnTo>
                <a:lnTo>
                  <a:pt x="606" y="333"/>
                </a:lnTo>
                <a:lnTo>
                  <a:pt x="561" y="286"/>
                </a:lnTo>
                <a:lnTo>
                  <a:pt x="544" y="282"/>
                </a:lnTo>
                <a:lnTo>
                  <a:pt x="529" y="279"/>
                </a:lnTo>
                <a:lnTo>
                  <a:pt x="466" y="261"/>
                </a:lnTo>
                <a:lnTo>
                  <a:pt x="423" y="216"/>
                </a:lnTo>
                <a:lnTo>
                  <a:pt x="410" y="151"/>
                </a:lnTo>
                <a:lnTo>
                  <a:pt x="408" y="140"/>
                </a:lnTo>
                <a:lnTo>
                  <a:pt x="389" y="73"/>
                </a:lnTo>
                <a:lnTo>
                  <a:pt x="343" y="28"/>
                </a:lnTo>
                <a:lnTo>
                  <a:pt x="304" y="14"/>
                </a:lnTo>
                <a:lnTo>
                  <a:pt x="295" y="12"/>
                </a:lnTo>
                <a:lnTo>
                  <a:pt x="229" y="0"/>
                </a:lnTo>
                <a:lnTo>
                  <a:pt x="220" y="1"/>
                </a:lnTo>
                <a:lnTo>
                  <a:pt x="157" y="30"/>
                </a:lnTo>
                <a:lnTo>
                  <a:pt x="126" y="80"/>
                </a:lnTo>
                <a:lnTo>
                  <a:pt x="125" y="84"/>
                </a:lnTo>
                <a:lnTo>
                  <a:pt x="89" y="124"/>
                </a:lnTo>
                <a:lnTo>
                  <a:pt x="84" y="126"/>
                </a:lnTo>
                <a:lnTo>
                  <a:pt x="32" y="163"/>
                </a:lnTo>
                <a:lnTo>
                  <a:pt x="1" y="220"/>
                </a:lnTo>
                <a:lnTo>
                  <a:pt x="0" y="243"/>
                </a:lnTo>
                <a:lnTo>
                  <a:pt x="0" y="249"/>
                </a:lnTo>
                <a:lnTo>
                  <a:pt x="17" y="310"/>
                </a:lnTo>
                <a:lnTo>
                  <a:pt x="27" y="320"/>
                </a:lnTo>
                <a:lnTo>
                  <a:pt x="31" y="323"/>
                </a:lnTo>
                <a:lnTo>
                  <a:pt x="35" y="326"/>
                </a:lnTo>
                <a:lnTo>
                  <a:pt x="39" y="330"/>
                </a:lnTo>
                <a:lnTo>
                  <a:pt x="43" y="334"/>
                </a:lnTo>
                <a:lnTo>
                  <a:pt x="47" y="338"/>
                </a:lnTo>
                <a:lnTo>
                  <a:pt x="98" y="375"/>
                </a:lnTo>
                <a:lnTo>
                  <a:pt x="159" y="390"/>
                </a:lnTo>
                <a:lnTo>
                  <a:pt x="175" y="393"/>
                </a:lnTo>
                <a:lnTo>
                  <a:pt x="183" y="394"/>
                </a:lnTo>
                <a:lnTo>
                  <a:pt x="244" y="408"/>
                </a:lnTo>
                <a:lnTo>
                  <a:pt x="298" y="444"/>
                </a:lnTo>
                <a:lnTo>
                  <a:pt x="307" y="490"/>
                </a:lnTo>
                <a:lnTo>
                  <a:pt x="308" y="498"/>
                </a:lnTo>
                <a:lnTo>
                  <a:pt x="338" y="536"/>
                </a:lnTo>
                <a:lnTo>
                  <a:pt x="347" y="53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10200" y="4626000"/>
            <a:ext cx="268200" cy="299880"/>
          </a:xfrm>
          <a:custGeom>
            <a:avLst/>
            <a:gdLst/>
            <a:ahLst/>
            <a:rect l="l" t="t" r="r" b="b"/>
            <a:pathLst>
              <a:path w="243" h="270">
                <a:moveTo>
                  <a:pt x="166" y="1"/>
                </a:moveTo>
                <a:lnTo>
                  <a:pt x="201" y="28"/>
                </a:lnTo>
                <a:lnTo>
                  <a:pt x="210" y="50"/>
                </a:lnTo>
                <a:lnTo>
                  <a:pt x="233" y="116"/>
                </a:lnTo>
                <a:lnTo>
                  <a:pt x="243" y="167"/>
                </a:lnTo>
                <a:lnTo>
                  <a:pt x="242" y="174"/>
                </a:lnTo>
                <a:lnTo>
                  <a:pt x="199" y="229"/>
                </a:lnTo>
                <a:lnTo>
                  <a:pt x="147" y="262"/>
                </a:lnTo>
                <a:lnTo>
                  <a:pt x="107" y="270"/>
                </a:lnTo>
                <a:lnTo>
                  <a:pt x="98" y="270"/>
                </a:lnTo>
                <a:lnTo>
                  <a:pt x="41" y="256"/>
                </a:lnTo>
                <a:lnTo>
                  <a:pt x="38" y="255"/>
                </a:lnTo>
                <a:lnTo>
                  <a:pt x="5" y="204"/>
                </a:lnTo>
                <a:lnTo>
                  <a:pt x="0" y="175"/>
                </a:lnTo>
                <a:lnTo>
                  <a:pt x="0" y="169"/>
                </a:lnTo>
                <a:lnTo>
                  <a:pt x="35" y="120"/>
                </a:lnTo>
                <a:lnTo>
                  <a:pt x="44" y="112"/>
                </a:lnTo>
                <a:lnTo>
                  <a:pt x="49" y="109"/>
                </a:lnTo>
                <a:lnTo>
                  <a:pt x="78" y="68"/>
                </a:lnTo>
                <a:lnTo>
                  <a:pt x="81" y="63"/>
                </a:lnTo>
                <a:lnTo>
                  <a:pt x="120" y="15"/>
                </a:lnTo>
                <a:lnTo>
                  <a:pt x="161" y="0"/>
                </a:lnTo>
                <a:lnTo>
                  <a:pt x="166" y="1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10200" y="4626000"/>
            <a:ext cx="268200" cy="299880"/>
          </a:xfrm>
          <a:custGeom>
            <a:avLst/>
            <a:gdLst/>
            <a:ahLst/>
            <a:rect l="l" t="t" r="r" b="b"/>
            <a:pathLst>
              <a:path w="243" h="270">
                <a:moveTo>
                  <a:pt x="41" y="256"/>
                </a:moveTo>
                <a:lnTo>
                  <a:pt x="5" y="204"/>
                </a:lnTo>
                <a:lnTo>
                  <a:pt x="0" y="175"/>
                </a:lnTo>
                <a:lnTo>
                  <a:pt x="0" y="169"/>
                </a:lnTo>
                <a:lnTo>
                  <a:pt x="35" y="120"/>
                </a:lnTo>
                <a:lnTo>
                  <a:pt x="44" y="112"/>
                </a:lnTo>
                <a:lnTo>
                  <a:pt x="49" y="109"/>
                </a:lnTo>
                <a:lnTo>
                  <a:pt x="78" y="68"/>
                </a:lnTo>
                <a:lnTo>
                  <a:pt x="81" y="63"/>
                </a:lnTo>
                <a:lnTo>
                  <a:pt x="120" y="15"/>
                </a:lnTo>
                <a:lnTo>
                  <a:pt x="161" y="0"/>
                </a:lnTo>
                <a:lnTo>
                  <a:pt x="166" y="1"/>
                </a:lnTo>
                <a:lnTo>
                  <a:pt x="201" y="28"/>
                </a:lnTo>
                <a:lnTo>
                  <a:pt x="210" y="50"/>
                </a:lnTo>
                <a:lnTo>
                  <a:pt x="233" y="116"/>
                </a:lnTo>
                <a:lnTo>
                  <a:pt x="243" y="167"/>
                </a:lnTo>
                <a:lnTo>
                  <a:pt x="242" y="174"/>
                </a:lnTo>
                <a:lnTo>
                  <a:pt x="199" y="229"/>
                </a:lnTo>
                <a:lnTo>
                  <a:pt x="147" y="262"/>
                </a:lnTo>
                <a:lnTo>
                  <a:pt x="107" y="270"/>
                </a:lnTo>
                <a:lnTo>
                  <a:pt x="98" y="270"/>
                </a:lnTo>
                <a:lnTo>
                  <a:pt x="41" y="256"/>
                </a:lnTo>
                <a:lnTo>
                  <a:pt x="41" y="25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22720" y="4694400"/>
            <a:ext cx="39960" cy="109440"/>
          </a:xfrm>
          <a:custGeom>
            <a:avLst/>
            <a:gdLst/>
            <a:ahLst/>
            <a:rect l="l" t="t" r="r" b="b"/>
            <a:pathLst>
              <a:path w="35" h="98">
                <a:moveTo>
                  <a:pt x="33" y="0"/>
                </a:moveTo>
                <a:lnTo>
                  <a:pt x="0" y="47"/>
                </a:lnTo>
                <a:lnTo>
                  <a:pt x="1" y="51"/>
                </a:lnTo>
                <a:lnTo>
                  <a:pt x="28" y="91"/>
                </a:lnTo>
                <a:lnTo>
                  <a:pt x="35" y="9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03640" y="3605040"/>
            <a:ext cx="39960" cy="108000"/>
          </a:xfrm>
          <a:custGeom>
            <a:avLst/>
            <a:gdLst/>
            <a:ahLst/>
            <a:rect l="l" t="t" r="r" b="b"/>
            <a:pathLst>
              <a:path w="34" h="98">
                <a:moveTo>
                  <a:pt x="33" y="0"/>
                </a:moveTo>
                <a:lnTo>
                  <a:pt x="0" y="47"/>
                </a:lnTo>
                <a:lnTo>
                  <a:pt x="0" y="51"/>
                </a:lnTo>
                <a:lnTo>
                  <a:pt x="28" y="91"/>
                </a:lnTo>
                <a:lnTo>
                  <a:pt x="34" y="9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87920" y="3930480"/>
            <a:ext cx="944640" cy="55800"/>
          </a:xfrm>
          <a:custGeom>
            <a:avLst/>
            <a:gdLst/>
            <a:ahLst/>
            <a:rect l="l" t="t" r="r" b="b"/>
            <a:pathLst>
              <a:path w="852" h="49">
                <a:moveTo>
                  <a:pt x="842" y="33"/>
                </a:moveTo>
                <a:lnTo>
                  <a:pt x="852" y="24"/>
                </a:lnTo>
                <a:lnTo>
                  <a:pt x="852" y="23"/>
                </a:lnTo>
                <a:lnTo>
                  <a:pt x="831" y="20"/>
                </a:lnTo>
                <a:lnTo>
                  <a:pt x="824" y="20"/>
                </a:lnTo>
                <a:lnTo>
                  <a:pt x="755" y="22"/>
                </a:lnTo>
                <a:lnTo>
                  <a:pt x="685" y="28"/>
                </a:lnTo>
                <a:lnTo>
                  <a:pt x="627" y="34"/>
                </a:lnTo>
                <a:lnTo>
                  <a:pt x="606" y="36"/>
                </a:lnTo>
                <a:lnTo>
                  <a:pt x="542" y="43"/>
                </a:lnTo>
                <a:lnTo>
                  <a:pt x="474" y="47"/>
                </a:lnTo>
                <a:lnTo>
                  <a:pt x="403" y="49"/>
                </a:lnTo>
                <a:lnTo>
                  <a:pt x="379" y="49"/>
                </a:lnTo>
                <a:lnTo>
                  <a:pt x="306" y="44"/>
                </a:lnTo>
                <a:lnTo>
                  <a:pt x="236" y="36"/>
                </a:lnTo>
                <a:lnTo>
                  <a:pt x="171" y="26"/>
                </a:lnTo>
                <a:lnTo>
                  <a:pt x="97" y="14"/>
                </a:lnTo>
                <a:lnTo>
                  <a:pt x="81" y="11"/>
                </a:lnTo>
                <a:lnTo>
                  <a:pt x="66" y="9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1008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925880" y="3989520"/>
            <a:ext cx="675000" cy="388800"/>
          </a:xfrm>
          <a:custGeom>
            <a:avLst/>
            <a:gdLst/>
            <a:ahLst/>
            <a:rect l="l" t="t" r="r" b="b"/>
            <a:pathLst>
              <a:path w="608" h="350">
                <a:moveTo>
                  <a:pt x="486" y="26"/>
                </a:moveTo>
                <a:lnTo>
                  <a:pt x="539" y="73"/>
                </a:lnTo>
                <a:lnTo>
                  <a:pt x="573" y="127"/>
                </a:lnTo>
                <a:lnTo>
                  <a:pt x="597" y="187"/>
                </a:lnTo>
                <a:lnTo>
                  <a:pt x="608" y="240"/>
                </a:lnTo>
                <a:lnTo>
                  <a:pt x="607" y="254"/>
                </a:lnTo>
                <a:lnTo>
                  <a:pt x="605" y="266"/>
                </a:lnTo>
                <a:lnTo>
                  <a:pt x="600" y="276"/>
                </a:lnTo>
                <a:lnTo>
                  <a:pt x="593" y="281"/>
                </a:lnTo>
                <a:lnTo>
                  <a:pt x="583" y="284"/>
                </a:lnTo>
                <a:lnTo>
                  <a:pt x="571" y="282"/>
                </a:lnTo>
                <a:lnTo>
                  <a:pt x="555" y="276"/>
                </a:lnTo>
                <a:lnTo>
                  <a:pt x="542" y="269"/>
                </a:lnTo>
                <a:lnTo>
                  <a:pt x="528" y="263"/>
                </a:lnTo>
                <a:lnTo>
                  <a:pt x="461" y="243"/>
                </a:lnTo>
                <a:lnTo>
                  <a:pt x="395" y="237"/>
                </a:lnTo>
                <a:lnTo>
                  <a:pt x="382" y="237"/>
                </a:lnTo>
                <a:lnTo>
                  <a:pt x="322" y="244"/>
                </a:lnTo>
                <a:lnTo>
                  <a:pt x="265" y="272"/>
                </a:lnTo>
                <a:lnTo>
                  <a:pt x="224" y="321"/>
                </a:lnTo>
                <a:lnTo>
                  <a:pt x="221" y="327"/>
                </a:lnTo>
                <a:lnTo>
                  <a:pt x="217" y="332"/>
                </a:lnTo>
                <a:lnTo>
                  <a:pt x="161" y="350"/>
                </a:lnTo>
                <a:lnTo>
                  <a:pt x="150" y="349"/>
                </a:lnTo>
                <a:lnTo>
                  <a:pt x="82" y="336"/>
                </a:lnTo>
                <a:lnTo>
                  <a:pt x="30" y="303"/>
                </a:lnTo>
                <a:lnTo>
                  <a:pt x="2" y="242"/>
                </a:lnTo>
                <a:lnTo>
                  <a:pt x="0" y="212"/>
                </a:lnTo>
                <a:lnTo>
                  <a:pt x="0" y="202"/>
                </a:lnTo>
                <a:lnTo>
                  <a:pt x="15" y="141"/>
                </a:lnTo>
                <a:lnTo>
                  <a:pt x="59" y="89"/>
                </a:lnTo>
                <a:lnTo>
                  <a:pt x="104" y="80"/>
                </a:lnTo>
                <a:lnTo>
                  <a:pt x="114" y="80"/>
                </a:lnTo>
                <a:lnTo>
                  <a:pt x="181" y="88"/>
                </a:lnTo>
                <a:lnTo>
                  <a:pt x="193" y="90"/>
                </a:lnTo>
                <a:lnTo>
                  <a:pt x="205" y="92"/>
                </a:lnTo>
                <a:lnTo>
                  <a:pt x="217" y="94"/>
                </a:lnTo>
                <a:lnTo>
                  <a:pt x="229" y="95"/>
                </a:lnTo>
                <a:lnTo>
                  <a:pt x="242" y="95"/>
                </a:lnTo>
                <a:lnTo>
                  <a:pt x="254" y="95"/>
                </a:lnTo>
                <a:lnTo>
                  <a:pt x="316" y="84"/>
                </a:lnTo>
                <a:lnTo>
                  <a:pt x="371" y="58"/>
                </a:lnTo>
                <a:lnTo>
                  <a:pt x="412" y="10"/>
                </a:lnTo>
                <a:lnTo>
                  <a:pt x="416" y="0"/>
                </a:lnTo>
                <a:lnTo>
                  <a:pt x="486" y="2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25880" y="3989520"/>
            <a:ext cx="675000" cy="388800"/>
          </a:xfrm>
          <a:custGeom>
            <a:avLst/>
            <a:gdLst/>
            <a:ahLst/>
            <a:rect l="l" t="t" r="r" b="b"/>
            <a:pathLst>
              <a:path w="608" h="350">
                <a:moveTo>
                  <a:pt x="301" y="249"/>
                </a:moveTo>
                <a:lnTo>
                  <a:pt x="370" y="237"/>
                </a:lnTo>
                <a:lnTo>
                  <a:pt x="395" y="237"/>
                </a:lnTo>
                <a:lnTo>
                  <a:pt x="408" y="237"/>
                </a:lnTo>
                <a:lnTo>
                  <a:pt x="474" y="246"/>
                </a:lnTo>
                <a:lnTo>
                  <a:pt x="542" y="269"/>
                </a:lnTo>
                <a:lnTo>
                  <a:pt x="555" y="276"/>
                </a:lnTo>
                <a:lnTo>
                  <a:pt x="571" y="282"/>
                </a:lnTo>
                <a:lnTo>
                  <a:pt x="608" y="240"/>
                </a:lnTo>
                <a:lnTo>
                  <a:pt x="606" y="224"/>
                </a:lnTo>
                <a:lnTo>
                  <a:pt x="582" y="147"/>
                </a:lnTo>
                <a:lnTo>
                  <a:pt x="551" y="90"/>
                </a:lnTo>
                <a:lnTo>
                  <a:pt x="500" y="34"/>
                </a:lnTo>
                <a:lnTo>
                  <a:pt x="416" y="0"/>
                </a:lnTo>
                <a:lnTo>
                  <a:pt x="412" y="10"/>
                </a:lnTo>
                <a:lnTo>
                  <a:pt x="408" y="19"/>
                </a:lnTo>
                <a:lnTo>
                  <a:pt x="361" y="64"/>
                </a:lnTo>
                <a:lnTo>
                  <a:pt x="304" y="88"/>
                </a:lnTo>
                <a:lnTo>
                  <a:pt x="242" y="95"/>
                </a:lnTo>
                <a:lnTo>
                  <a:pt x="229" y="95"/>
                </a:lnTo>
                <a:lnTo>
                  <a:pt x="217" y="94"/>
                </a:lnTo>
                <a:lnTo>
                  <a:pt x="205" y="92"/>
                </a:lnTo>
                <a:lnTo>
                  <a:pt x="193" y="90"/>
                </a:lnTo>
                <a:lnTo>
                  <a:pt x="181" y="88"/>
                </a:lnTo>
                <a:lnTo>
                  <a:pt x="169" y="86"/>
                </a:lnTo>
                <a:lnTo>
                  <a:pt x="104" y="80"/>
                </a:lnTo>
                <a:lnTo>
                  <a:pt x="94" y="81"/>
                </a:lnTo>
                <a:lnTo>
                  <a:pt x="37" y="105"/>
                </a:lnTo>
                <a:lnTo>
                  <a:pt x="8" y="161"/>
                </a:lnTo>
                <a:lnTo>
                  <a:pt x="0" y="212"/>
                </a:lnTo>
                <a:lnTo>
                  <a:pt x="0" y="222"/>
                </a:lnTo>
                <a:lnTo>
                  <a:pt x="19" y="287"/>
                </a:lnTo>
                <a:lnTo>
                  <a:pt x="71" y="332"/>
                </a:lnTo>
                <a:lnTo>
                  <a:pt x="139" y="349"/>
                </a:lnTo>
                <a:lnTo>
                  <a:pt x="161" y="350"/>
                </a:lnTo>
                <a:lnTo>
                  <a:pt x="171" y="349"/>
                </a:lnTo>
                <a:lnTo>
                  <a:pt x="224" y="321"/>
                </a:lnTo>
                <a:lnTo>
                  <a:pt x="228" y="316"/>
                </a:lnTo>
                <a:lnTo>
                  <a:pt x="269" y="269"/>
                </a:lnTo>
                <a:lnTo>
                  <a:pt x="298" y="250"/>
                </a:lnTo>
                <a:lnTo>
                  <a:pt x="301" y="24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78400" y="3949560"/>
            <a:ext cx="254160" cy="341280"/>
          </a:xfrm>
          <a:custGeom>
            <a:avLst/>
            <a:gdLst/>
            <a:ahLst/>
            <a:rect l="l" t="t" r="r" b="b"/>
            <a:pathLst>
              <a:path w="227" h="308">
                <a:moveTo>
                  <a:pt x="101" y="1"/>
                </a:moveTo>
                <a:lnTo>
                  <a:pt x="161" y="25"/>
                </a:lnTo>
                <a:lnTo>
                  <a:pt x="189" y="81"/>
                </a:lnTo>
                <a:lnTo>
                  <a:pt x="190" y="88"/>
                </a:lnTo>
                <a:lnTo>
                  <a:pt x="190" y="97"/>
                </a:lnTo>
                <a:lnTo>
                  <a:pt x="204" y="158"/>
                </a:lnTo>
                <a:lnTo>
                  <a:pt x="208" y="172"/>
                </a:lnTo>
                <a:lnTo>
                  <a:pt x="212" y="187"/>
                </a:lnTo>
                <a:lnTo>
                  <a:pt x="226" y="258"/>
                </a:lnTo>
                <a:lnTo>
                  <a:pt x="227" y="281"/>
                </a:lnTo>
                <a:lnTo>
                  <a:pt x="226" y="290"/>
                </a:lnTo>
                <a:lnTo>
                  <a:pt x="224" y="298"/>
                </a:lnTo>
                <a:lnTo>
                  <a:pt x="220" y="303"/>
                </a:lnTo>
                <a:lnTo>
                  <a:pt x="215" y="307"/>
                </a:lnTo>
                <a:lnTo>
                  <a:pt x="208" y="308"/>
                </a:lnTo>
                <a:lnTo>
                  <a:pt x="199" y="307"/>
                </a:lnTo>
                <a:lnTo>
                  <a:pt x="140" y="271"/>
                </a:lnTo>
                <a:lnTo>
                  <a:pt x="85" y="219"/>
                </a:lnTo>
                <a:lnTo>
                  <a:pt x="36" y="161"/>
                </a:lnTo>
                <a:lnTo>
                  <a:pt x="1" y="100"/>
                </a:lnTo>
                <a:lnTo>
                  <a:pt x="0" y="92"/>
                </a:lnTo>
                <a:lnTo>
                  <a:pt x="0" y="84"/>
                </a:lnTo>
                <a:lnTo>
                  <a:pt x="27" y="28"/>
                </a:lnTo>
                <a:lnTo>
                  <a:pt x="86" y="1"/>
                </a:lnTo>
                <a:lnTo>
                  <a:pt x="93" y="0"/>
                </a:lnTo>
                <a:lnTo>
                  <a:pt x="101" y="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95880" y="3805200"/>
            <a:ext cx="63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73880" y="3676680"/>
            <a:ext cx="252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124040" y="386568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j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26560" y="3359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al end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6726240" y="3552840"/>
            <a:ext cx="0" cy="123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6240" y="3552840"/>
            <a:ext cx="378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26240" y="4056120"/>
            <a:ext cx="378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141320" y="436896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tebral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4560840"/>
            <a:ext cx="1008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726240" y="3805200"/>
            <a:ext cx="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56400" y="3573360"/>
            <a:ext cx="73080" cy="73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30960" y="3573360"/>
            <a:ext cx="73080" cy="73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0800000">
            <a:off x="5756040" y="3909600"/>
            <a:ext cx="73080" cy="73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0800000">
            <a:off x="6330600" y="3911760"/>
            <a:ext cx="73080" cy="72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Why do we need a conformal disc prosthesis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ation of joints leads to overload of adjacent join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successes with hip and knee joint replac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1222200" cy="1955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219800" y="1989000"/>
            <a:ext cx="1222560" cy="1955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219800" y="4065480"/>
            <a:ext cx="1222560" cy="1955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932360" y="4065480"/>
            <a:ext cx="1222200" cy="195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410160" y="2819520"/>
            <a:ext cx="554040" cy="231480"/>
          </a:xfrm>
          <a:prstGeom prst="rightArrow">
            <a:avLst>
              <a:gd name="adj1" fmla="val 50000"/>
              <a:gd name="adj2" fmla="val 59837"/>
            </a:avLst>
          </a:prstGeom>
          <a:solidFill>
            <a:srgbClr val="d35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10160" y="4897440"/>
            <a:ext cx="554040" cy="231840"/>
          </a:xfrm>
          <a:prstGeom prst="rightArrow">
            <a:avLst>
              <a:gd name="adj1" fmla="val 50000"/>
              <a:gd name="adj2" fmla="val 59744"/>
            </a:avLst>
          </a:prstGeom>
          <a:solidFill>
            <a:srgbClr val="d35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Why do we need a conformal disc prosthesis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403848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 prosthesis can not be fixed into the vertebrae; it has to be fixed onto its surf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metric conformance is a welcome addition to today’s disc prosthe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13480" y="4505400"/>
            <a:ext cx="235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day’s disc prosthesi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pha Klinik,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676840" y="3306600"/>
            <a:ext cx="198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natomy of the vertebrae and the disc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80360" y="4267080"/>
            <a:ext cx="261720" cy="352440"/>
          </a:xfrm>
          <a:custGeom>
            <a:avLst/>
            <a:gdLst/>
            <a:ahLst/>
            <a:rect l="l" t="t" r="r" b="b"/>
            <a:pathLst>
              <a:path w="236" h="318">
                <a:moveTo>
                  <a:pt x="20" y="3"/>
                </a:moveTo>
                <a:lnTo>
                  <a:pt x="79" y="50"/>
                </a:lnTo>
                <a:lnTo>
                  <a:pt x="127" y="89"/>
                </a:lnTo>
                <a:lnTo>
                  <a:pt x="178" y="133"/>
                </a:lnTo>
                <a:lnTo>
                  <a:pt x="224" y="180"/>
                </a:lnTo>
                <a:lnTo>
                  <a:pt x="236" y="223"/>
                </a:lnTo>
                <a:lnTo>
                  <a:pt x="236" y="230"/>
                </a:lnTo>
                <a:lnTo>
                  <a:pt x="229" y="297"/>
                </a:lnTo>
                <a:lnTo>
                  <a:pt x="210" y="318"/>
                </a:lnTo>
                <a:lnTo>
                  <a:pt x="205" y="317"/>
                </a:lnTo>
                <a:lnTo>
                  <a:pt x="157" y="278"/>
                </a:lnTo>
                <a:lnTo>
                  <a:pt x="108" y="215"/>
                </a:lnTo>
                <a:lnTo>
                  <a:pt x="69" y="157"/>
                </a:lnTo>
                <a:lnTo>
                  <a:pt x="34" y="99"/>
                </a:lnTo>
                <a:lnTo>
                  <a:pt x="4" y="34"/>
                </a:lnTo>
                <a:lnTo>
                  <a:pt x="0" y="13"/>
                </a:lnTo>
                <a:lnTo>
                  <a:pt x="1" y="6"/>
                </a:lnTo>
                <a:lnTo>
                  <a:pt x="5" y="1"/>
                </a:lnTo>
                <a:lnTo>
                  <a:pt x="11" y="0"/>
                </a:lnTo>
                <a:lnTo>
                  <a:pt x="20" y="3"/>
                </a:lnTo>
                <a:close/>
              </a:path>
            </a:pathLst>
          </a:custGeom>
          <a:solidFill>
            <a:srgbClr val="e3d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80360" y="4267080"/>
            <a:ext cx="261720" cy="352440"/>
          </a:xfrm>
          <a:custGeom>
            <a:avLst/>
            <a:gdLst/>
            <a:ahLst/>
            <a:rect l="l" t="t" r="r" b="b"/>
            <a:pathLst>
              <a:path w="236" h="318">
                <a:moveTo>
                  <a:pt x="20" y="3"/>
                </a:moveTo>
                <a:lnTo>
                  <a:pt x="79" y="50"/>
                </a:lnTo>
                <a:lnTo>
                  <a:pt x="127" y="89"/>
                </a:lnTo>
                <a:lnTo>
                  <a:pt x="178" y="133"/>
                </a:lnTo>
                <a:lnTo>
                  <a:pt x="224" y="180"/>
                </a:lnTo>
                <a:lnTo>
                  <a:pt x="236" y="223"/>
                </a:lnTo>
                <a:lnTo>
                  <a:pt x="236" y="230"/>
                </a:lnTo>
                <a:lnTo>
                  <a:pt x="229" y="297"/>
                </a:lnTo>
                <a:lnTo>
                  <a:pt x="210" y="318"/>
                </a:lnTo>
                <a:lnTo>
                  <a:pt x="205" y="317"/>
                </a:lnTo>
                <a:lnTo>
                  <a:pt x="157" y="278"/>
                </a:lnTo>
                <a:lnTo>
                  <a:pt x="108" y="215"/>
                </a:lnTo>
                <a:lnTo>
                  <a:pt x="69" y="157"/>
                </a:lnTo>
                <a:lnTo>
                  <a:pt x="34" y="99"/>
                </a:lnTo>
                <a:lnTo>
                  <a:pt x="4" y="34"/>
                </a:lnTo>
                <a:lnTo>
                  <a:pt x="0" y="13"/>
                </a:lnTo>
                <a:lnTo>
                  <a:pt x="1" y="6"/>
                </a:lnTo>
                <a:lnTo>
                  <a:pt x="5" y="1"/>
                </a:lnTo>
                <a:lnTo>
                  <a:pt x="11" y="0"/>
                </a:lnTo>
                <a:lnTo>
                  <a:pt x="20" y="3"/>
                </a:lnTo>
              </a:path>
            </a:pathLst>
          </a:custGeom>
          <a:noFill/>
          <a:ln w="10080">
            <a:solidFill>
              <a:srgbClr val="876d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4130640"/>
            <a:ext cx="979560" cy="485640"/>
          </a:xfrm>
          <a:custGeom>
            <a:avLst/>
            <a:gdLst/>
            <a:ahLst/>
            <a:rect l="l" t="t" r="r" b="b"/>
            <a:pathLst>
              <a:path w="883" h="436">
                <a:moveTo>
                  <a:pt x="867" y="29"/>
                </a:moveTo>
                <a:lnTo>
                  <a:pt x="826" y="99"/>
                </a:lnTo>
                <a:lnTo>
                  <a:pt x="793" y="163"/>
                </a:lnTo>
                <a:lnTo>
                  <a:pt x="780" y="214"/>
                </a:lnTo>
                <a:lnTo>
                  <a:pt x="780" y="222"/>
                </a:lnTo>
                <a:lnTo>
                  <a:pt x="798" y="277"/>
                </a:lnTo>
                <a:lnTo>
                  <a:pt x="803" y="287"/>
                </a:lnTo>
                <a:lnTo>
                  <a:pt x="816" y="343"/>
                </a:lnTo>
                <a:lnTo>
                  <a:pt x="816" y="350"/>
                </a:lnTo>
                <a:lnTo>
                  <a:pt x="767" y="392"/>
                </a:lnTo>
                <a:lnTo>
                  <a:pt x="732" y="394"/>
                </a:lnTo>
                <a:lnTo>
                  <a:pt x="718" y="394"/>
                </a:lnTo>
                <a:lnTo>
                  <a:pt x="652" y="397"/>
                </a:lnTo>
                <a:lnTo>
                  <a:pt x="581" y="403"/>
                </a:lnTo>
                <a:lnTo>
                  <a:pt x="518" y="413"/>
                </a:lnTo>
                <a:lnTo>
                  <a:pt x="468" y="436"/>
                </a:lnTo>
                <a:lnTo>
                  <a:pt x="415" y="436"/>
                </a:lnTo>
                <a:lnTo>
                  <a:pt x="351" y="410"/>
                </a:lnTo>
                <a:lnTo>
                  <a:pt x="285" y="401"/>
                </a:lnTo>
                <a:lnTo>
                  <a:pt x="214" y="396"/>
                </a:lnTo>
                <a:lnTo>
                  <a:pt x="151" y="394"/>
                </a:lnTo>
                <a:lnTo>
                  <a:pt x="138" y="394"/>
                </a:lnTo>
                <a:lnTo>
                  <a:pt x="122" y="393"/>
                </a:lnTo>
                <a:lnTo>
                  <a:pt x="73" y="358"/>
                </a:lnTo>
                <a:lnTo>
                  <a:pt x="70" y="340"/>
                </a:lnTo>
                <a:lnTo>
                  <a:pt x="70" y="331"/>
                </a:lnTo>
                <a:lnTo>
                  <a:pt x="85" y="276"/>
                </a:lnTo>
                <a:lnTo>
                  <a:pt x="85" y="277"/>
                </a:lnTo>
                <a:lnTo>
                  <a:pt x="89" y="264"/>
                </a:lnTo>
                <a:lnTo>
                  <a:pt x="90" y="251"/>
                </a:lnTo>
                <a:lnTo>
                  <a:pt x="90" y="235"/>
                </a:lnTo>
                <a:lnTo>
                  <a:pt x="88" y="219"/>
                </a:lnTo>
                <a:lnTo>
                  <a:pt x="69" y="147"/>
                </a:lnTo>
                <a:lnTo>
                  <a:pt x="39" y="76"/>
                </a:lnTo>
                <a:lnTo>
                  <a:pt x="12" y="21"/>
                </a:lnTo>
                <a:lnTo>
                  <a:pt x="0" y="0"/>
                </a:lnTo>
                <a:lnTo>
                  <a:pt x="24" y="9"/>
                </a:lnTo>
                <a:lnTo>
                  <a:pt x="83" y="32"/>
                </a:lnTo>
                <a:lnTo>
                  <a:pt x="147" y="62"/>
                </a:lnTo>
                <a:lnTo>
                  <a:pt x="196" y="112"/>
                </a:lnTo>
                <a:lnTo>
                  <a:pt x="223" y="159"/>
                </a:lnTo>
                <a:lnTo>
                  <a:pt x="232" y="173"/>
                </a:lnTo>
                <a:lnTo>
                  <a:pt x="284" y="222"/>
                </a:lnTo>
                <a:lnTo>
                  <a:pt x="352" y="258"/>
                </a:lnTo>
                <a:lnTo>
                  <a:pt x="428" y="278"/>
                </a:lnTo>
                <a:lnTo>
                  <a:pt x="464" y="281"/>
                </a:lnTo>
                <a:lnTo>
                  <a:pt x="482" y="280"/>
                </a:lnTo>
                <a:lnTo>
                  <a:pt x="543" y="266"/>
                </a:lnTo>
                <a:lnTo>
                  <a:pt x="611" y="222"/>
                </a:lnTo>
                <a:lnTo>
                  <a:pt x="676" y="172"/>
                </a:lnTo>
                <a:lnTo>
                  <a:pt x="745" y="117"/>
                </a:lnTo>
                <a:lnTo>
                  <a:pt x="808" y="65"/>
                </a:lnTo>
                <a:lnTo>
                  <a:pt x="856" y="23"/>
                </a:lnTo>
                <a:lnTo>
                  <a:pt x="883" y="0"/>
                </a:lnTo>
                <a:lnTo>
                  <a:pt x="867" y="29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57840" y="3743280"/>
            <a:ext cx="2592360" cy="1760760"/>
          </a:xfrm>
          <a:custGeom>
            <a:avLst/>
            <a:gdLst/>
            <a:ahLst/>
            <a:rect l="l" t="t" r="r" b="b"/>
            <a:pathLst>
              <a:path w="2332" h="1582">
                <a:moveTo>
                  <a:pt x="1155" y="1580"/>
                </a:moveTo>
                <a:lnTo>
                  <a:pt x="1169" y="1580"/>
                </a:lnTo>
                <a:lnTo>
                  <a:pt x="1175" y="1582"/>
                </a:lnTo>
                <a:lnTo>
                  <a:pt x="1182" y="1580"/>
                </a:lnTo>
                <a:lnTo>
                  <a:pt x="1215" y="1520"/>
                </a:lnTo>
                <a:lnTo>
                  <a:pt x="1228" y="1442"/>
                </a:lnTo>
                <a:lnTo>
                  <a:pt x="1231" y="1370"/>
                </a:lnTo>
                <a:lnTo>
                  <a:pt x="1230" y="1344"/>
                </a:lnTo>
                <a:lnTo>
                  <a:pt x="1228" y="1317"/>
                </a:lnTo>
                <a:lnTo>
                  <a:pt x="1225" y="1291"/>
                </a:lnTo>
                <a:lnTo>
                  <a:pt x="1222" y="1264"/>
                </a:lnTo>
                <a:lnTo>
                  <a:pt x="1217" y="1236"/>
                </a:lnTo>
                <a:lnTo>
                  <a:pt x="1212" y="1211"/>
                </a:lnTo>
                <a:lnTo>
                  <a:pt x="1209" y="1186"/>
                </a:lnTo>
                <a:lnTo>
                  <a:pt x="1208" y="1163"/>
                </a:lnTo>
                <a:lnTo>
                  <a:pt x="1208" y="1142"/>
                </a:lnTo>
                <a:lnTo>
                  <a:pt x="1220" y="1068"/>
                </a:lnTo>
                <a:lnTo>
                  <a:pt x="1244" y="1009"/>
                </a:lnTo>
                <a:lnTo>
                  <a:pt x="1273" y="960"/>
                </a:lnTo>
                <a:lnTo>
                  <a:pt x="1279" y="948"/>
                </a:lnTo>
                <a:lnTo>
                  <a:pt x="1286" y="937"/>
                </a:lnTo>
                <a:lnTo>
                  <a:pt x="1292" y="926"/>
                </a:lnTo>
                <a:lnTo>
                  <a:pt x="1297" y="915"/>
                </a:lnTo>
                <a:lnTo>
                  <a:pt x="1302" y="904"/>
                </a:lnTo>
                <a:lnTo>
                  <a:pt x="1306" y="896"/>
                </a:lnTo>
                <a:lnTo>
                  <a:pt x="1338" y="860"/>
                </a:lnTo>
                <a:lnTo>
                  <a:pt x="1342" y="856"/>
                </a:lnTo>
                <a:lnTo>
                  <a:pt x="1369" y="801"/>
                </a:lnTo>
                <a:lnTo>
                  <a:pt x="1372" y="777"/>
                </a:lnTo>
                <a:lnTo>
                  <a:pt x="1374" y="766"/>
                </a:lnTo>
                <a:lnTo>
                  <a:pt x="1403" y="703"/>
                </a:lnTo>
                <a:lnTo>
                  <a:pt x="1453" y="660"/>
                </a:lnTo>
                <a:lnTo>
                  <a:pt x="1515" y="615"/>
                </a:lnTo>
                <a:lnTo>
                  <a:pt x="1571" y="576"/>
                </a:lnTo>
                <a:lnTo>
                  <a:pt x="1642" y="529"/>
                </a:lnTo>
                <a:lnTo>
                  <a:pt x="1676" y="523"/>
                </a:lnTo>
                <a:lnTo>
                  <a:pt x="1689" y="524"/>
                </a:lnTo>
                <a:lnTo>
                  <a:pt x="1748" y="543"/>
                </a:lnTo>
                <a:lnTo>
                  <a:pt x="1810" y="574"/>
                </a:lnTo>
                <a:lnTo>
                  <a:pt x="1868" y="609"/>
                </a:lnTo>
                <a:lnTo>
                  <a:pt x="1881" y="617"/>
                </a:lnTo>
                <a:lnTo>
                  <a:pt x="1893" y="624"/>
                </a:lnTo>
                <a:lnTo>
                  <a:pt x="1957" y="655"/>
                </a:lnTo>
                <a:lnTo>
                  <a:pt x="2016" y="670"/>
                </a:lnTo>
                <a:lnTo>
                  <a:pt x="2060" y="679"/>
                </a:lnTo>
                <a:lnTo>
                  <a:pt x="2070" y="681"/>
                </a:lnTo>
                <a:lnTo>
                  <a:pt x="2122" y="699"/>
                </a:lnTo>
                <a:lnTo>
                  <a:pt x="2133" y="704"/>
                </a:lnTo>
                <a:lnTo>
                  <a:pt x="2145" y="708"/>
                </a:lnTo>
                <a:lnTo>
                  <a:pt x="2156" y="710"/>
                </a:lnTo>
                <a:lnTo>
                  <a:pt x="2168" y="712"/>
                </a:lnTo>
                <a:lnTo>
                  <a:pt x="2180" y="712"/>
                </a:lnTo>
                <a:lnTo>
                  <a:pt x="2192" y="712"/>
                </a:lnTo>
                <a:lnTo>
                  <a:pt x="2261" y="693"/>
                </a:lnTo>
                <a:lnTo>
                  <a:pt x="2321" y="657"/>
                </a:lnTo>
                <a:lnTo>
                  <a:pt x="2332" y="647"/>
                </a:lnTo>
                <a:lnTo>
                  <a:pt x="2332" y="636"/>
                </a:lnTo>
                <a:lnTo>
                  <a:pt x="2280" y="603"/>
                </a:lnTo>
                <a:lnTo>
                  <a:pt x="2207" y="575"/>
                </a:lnTo>
                <a:lnTo>
                  <a:pt x="2149" y="556"/>
                </a:lnTo>
                <a:lnTo>
                  <a:pt x="2090" y="538"/>
                </a:lnTo>
                <a:lnTo>
                  <a:pt x="2007" y="514"/>
                </a:lnTo>
                <a:lnTo>
                  <a:pt x="1983" y="507"/>
                </a:lnTo>
                <a:lnTo>
                  <a:pt x="1918" y="487"/>
                </a:lnTo>
                <a:lnTo>
                  <a:pt x="1873" y="438"/>
                </a:lnTo>
                <a:lnTo>
                  <a:pt x="1868" y="423"/>
                </a:lnTo>
                <a:lnTo>
                  <a:pt x="1865" y="415"/>
                </a:lnTo>
                <a:lnTo>
                  <a:pt x="1831" y="360"/>
                </a:lnTo>
                <a:lnTo>
                  <a:pt x="1813" y="345"/>
                </a:lnTo>
                <a:lnTo>
                  <a:pt x="1806" y="339"/>
                </a:lnTo>
                <a:lnTo>
                  <a:pt x="1775" y="286"/>
                </a:lnTo>
                <a:lnTo>
                  <a:pt x="1766" y="225"/>
                </a:lnTo>
                <a:lnTo>
                  <a:pt x="1765" y="216"/>
                </a:lnTo>
                <a:lnTo>
                  <a:pt x="1764" y="206"/>
                </a:lnTo>
                <a:lnTo>
                  <a:pt x="1763" y="196"/>
                </a:lnTo>
                <a:lnTo>
                  <a:pt x="1762" y="186"/>
                </a:lnTo>
                <a:lnTo>
                  <a:pt x="1759" y="167"/>
                </a:lnTo>
                <a:lnTo>
                  <a:pt x="1757" y="151"/>
                </a:lnTo>
                <a:lnTo>
                  <a:pt x="1750" y="90"/>
                </a:lnTo>
                <a:lnTo>
                  <a:pt x="1748" y="53"/>
                </a:lnTo>
                <a:lnTo>
                  <a:pt x="1748" y="47"/>
                </a:lnTo>
                <a:lnTo>
                  <a:pt x="1753" y="0"/>
                </a:lnTo>
                <a:lnTo>
                  <a:pt x="1456" y="39"/>
                </a:lnTo>
                <a:lnTo>
                  <a:pt x="1480" y="113"/>
                </a:lnTo>
                <a:lnTo>
                  <a:pt x="1484" y="136"/>
                </a:lnTo>
                <a:lnTo>
                  <a:pt x="1489" y="157"/>
                </a:lnTo>
                <a:lnTo>
                  <a:pt x="1493" y="176"/>
                </a:lnTo>
                <a:lnTo>
                  <a:pt x="1498" y="193"/>
                </a:lnTo>
                <a:lnTo>
                  <a:pt x="1502" y="208"/>
                </a:lnTo>
                <a:lnTo>
                  <a:pt x="1506" y="221"/>
                </a:lnTo>
                <a:lnTo>
                  <a:pt x="1510" y="234"/>
                </a:lnTo>
                <a:lnTo>
                  <a:pt x="1513" y="245"/>
                </a:lnTo>
                <a:lnTo>
                  <a:pt x="1514" y="256"/>
                </a:lnTo>
                <a:lnTo>
                  <a:pt x="1515" y="266"/>
                </a:lnTo>
                <a:lnTo>
                  <a:pt x="1514" y="276"/>
                </a:lnTo>
                <a:lnTo>
                  <a:pt x="1472" y="340"/>
                </a:lnTo>
                <a:lnTo>
                  <a:pt x="1419" y="385"/>
                </a:lnTo>
                <a:lnTo>
                  <a:pt x="1401" y="399"/>
                </a:lnTo>
                <a:lnTo>
                  <a:pt x="1353" y="443"/>
                </a:lnTo>
                <a:lnTo>
                  <a:pt x="1300" y="500"/>
                </a:lnTo>
                <a:lnTo>
                  <a:pt x="1267" y="539"/>
                </a:lnTo>
                <a:lnTo>
                  <a:pt x="1257" y="550"/>
                </a:lnTo>
                <a:lnTo>
                  <a:pt x="1211" y="594"/>
                </a:lnTo>
                <a:lnTo>
                  <a:pt x="1201" y="598"/>
                </a:lnTo>
                <a:lnTo>
                  <a:pt x="1133" y="598"/>
                </a:lnTo>
                <a:lnTo>
                  <a:pt x="1086" y="560"/>
                </a:lnTo>
                <a:lnTo>
                  <a:pt x="1057" y="527"/>
                </a:lnTo>
                <a:lnTo>
                  <a:pt x="1046" y="514"/>
                </a:lnTo>
                <a:lnTo>
                  <a:pt x="995" y="458"/>
                </a:lnTo>
                <a:lnTo>
                  <a:pt x="949" y="414"/>
                </a:lnTo>
                <a:lnTo>
                  <a:pt x="894" y="368"/>
                </a:lnTo>
                <a:lnTo>
                  <a:pt x="877" y="353"/>
                </a:lnTo>
                <a:lnTo>
                  <a:pt x="831" y="305"/>
                </a:lnTo>
                <a:lnTo>
                  <a:pt x="819" y="266"/>
                </a:lnTo>
                <a:lnTo>
                  <a:pt x="819" y="256"/>
                </a:lnTo>
                <a:lnTo>
                  <a:pt x="821" y="245"/>
                </a:lnTo>
                <a:lnTo>
                  <a:pt x="824" y="234"/>
                </a:lnTo>
                <a:lnTo>
                  <a:pt x="827" y="221"/>
                </a:lnTo>
                <a:lnTo>
                  <a:pt x="831" y="208"/>
                </a:lnTo>
                <a:lnTo>
                  <a:pt x="836" y="193"/>
                </a:lnTo>
                <a:lnTo>
                  <a:pt x="853" y="113"/>
                </a:lnTo>
                <a:lnTo>
                  <a:pt x="856" y="94"/>
                </a:lnTo>
                <a:lnTo>
                  <a:pt x="859" y="77"/>
                </a:lnTo>
                <a:lnTo>
                  <a:pt x="862" y="62"/>
                </a:lnTo>
                <a:lnTo>
                  <a:pt x="864" y="49"/>
                </a:lnTo>
                <a:lnTo>
                  <a:pt x="866" y="37"/>
                </a:lnTo>
                <a:lnTo>
                  <a:pt x="920" y="45"/>
                </a:lnTo>
                <a:lnTo>
                  <a:pt x="914" y="35"/>
                </a:lnTo>
                <a:lnTo>
                  <a:pt x="883" y="2"/>
                </a:lnTo>
                <a:lnTo>
                  <a:pt x="880" y="3"/>
                </a:lnTo>
                <a:lnTo>
                  <a:pt x="866" y="37"/>
                </a:lnTo>
                <a:lnTo>
                  <a:pt x="581" y="0"/>
                </a:lnTo>
                <a:lnTo>
                  <a:pt x="586" y="66"/>
                </a:lnTo>
                <a:lnTo>
                  <a:pt x="586" y="77"/>
                </a:lnTo>
                <a:lnTo>
                  <a:pt x="586" y="88"/>
                </a:lnTo>
                <a:lnTo>
                  <a:pt x="582" y="151"/>
                </a:lnTo>
                <a:lnTo>
                  <a:pt x="580" y="173"/>
                </a:lnTo>
                <a:lnTo>
                  <a:pt x="579" y="181"/>
                </a:lnTo>
                <a:lnTo>
                  <a:pt x="568" y="251"/>
                </a:lnTo>
                <a:lnTo>
                  <a:pt x="546" y="312"/>
                </a:lnTo>
                <a:lnTo>
                  <a:pt x="503" y="360"/>
                </a:lnTo>
                <a:lnTo>
                  <a:pt x="495" y="368"/>
                </a:lnTo>
                <a:lnTo>
                  <a:pt x="466" y="423"/>
                </a:lnTo>
                <a:lnTo>
                  <a:pt x="464" y="431"/>
                </a:lnTo>
                <a:lnTo>
                  <a:pt x="461" y="438"/>
                </a:lnTo>
                <a:lnTo>
                  <a:pt x="416" y="487"/>
                </a:lnTo>
                <a:lnTo>
                  <a:pt x="351" y="507"/>
                </a:lnTo>
                <a:lnTo>
                  <a:pt x="301" y="522"/>
                </a:lnTo>
                <a:lnTo>
                  <a:pt x="273" y="530"/>
                </a:lnTo>
                <a:lnTo>
                  <a:pt x="214" y="547"/>
                </a:lnTo>
                <a:lnTo>
                  <a:pt x="155" y="565"/>
                </a:lnTo>
                <a:lnTo>
                  <a:pt x="76" y="594"/>
                </a:lnTo>
                <a:lnTo>
                  <a:pt x="19" y="621"/>
                </a:lnTo>
                <a:lnTo>
                  <a:pt x="0" y="644"/>
                </a:lnTo>
                <a:lnTo>
                  <a:pt x="4" y="651"/>
                </a:lnTo>
                <a:lnTo>
                  <a:pt x="62" y="688"/>
                </a:lnTo>
                <a:lnTo>
                  <a:pt x="118" y="708"/>
                </a:lnTo>
                <a:lnTo>
                  <a:pt x="154" y="712"/>
                </a:lnTo>
                <a:lnTo>
                  <a:pt x="166" y="712"/>
                </a:lnTo>
                <a:lnTo>
                  <a:pt x="222" y="693"/>
                </a:lnTo>
                <a:lnTo>
                  <a:pt x="227" y="691"/>
                </a:lnTo>
                <a:lnTo>
                  <a:pt x="284" y="677"/>
                </a:lnTo>
                <a:lnTo>
                  <a:pt x="295" y="675"/>
                </a:lnTo>
                <a:lnTo>
                  <a:pt x="354" y="662"/>
                </a:lnTo>
                <a:lnTo>
                  <a:pt x="419" y="637"/>
                </a:lnTo>
                <a:lnTo>
                  <a:pt x="465" y="609"/>
                </a:lnTo>
                <a:lnTo>
                  <a:pt x="479" y="600"/>
                </a:lnTo>
                <a:lnTo>
                  <a:pt x="539" y="565"/>
                </a:lnTo>
                <a:lnTo>
                  <a:pt x="602" y="536"/>
                </a:lnTo>
                <a:lnTo>
                  <a:pt x="658" y="523"/>
                </a:lnTo>
                <a:lnTo>
                  <a:pt x="670" y="523"/>
                </a:lnTo>
                <a:lnTo>
                  <a:pt x="733" y="558"/>
                </a:lnTo>
                <a:lnTo>
                  <a:pt x="784" y="596"/>
                </a:lnTo>
                <a:lnTo>
                  <a:pt x="843" y="644"/>
                </a:lnTo>
                <a:lnTo>
                  <a:pt x="900" y="696"/>
                </a:lnTo>
                <a:lnTo>
                  <a:pt x="943" y="746"/>
                </a:lnTo>
                <a:lnTo>
                  <a:pt x="965" y="802"/>
                </a:lnTo>
                <a:lnTo>
                  <a:pt x="967" y="812"/>
                </a:lnTo>
                <a:lnTo>
                  <a:pt x="996" y="869"/>
                </a:lnTo>
                <a:lnTo>
                  <a:pt x="1000" y="874"/>
                </a:lnTo>
                <a:lnTo>
                  <a:pt x="1004" y="879"/>
                </a:lnTo>
                <a:lnTo>
                  <a:pt x="1037" y="932"/>
                </a:lnTo>
                <a:lnTo>
                  <a:pt x="1042" y="943"/>
                </a:lnTo>
                <a:lnTo>
                  <a:pt x="1047" y="954"/>
                </a:lnTo>
                <a:lnTo>
                  <a:pt x="1053" y="964"/>
                </a:lnTo>
                <a:lnTo>
                  <a:pt x="1060" y="975"/>
                </a:lnTo>
                <a:lnTo>
                  <a:pt x="1066" y="986"/>
                </a:lnTo>
                <a:lnTo>
                  <a:pt x="1073" y="997"/>
                </a:lnTo>
                <a:lnTo>
                  <a:pt x="1103" y="1058"/>
                </a:lnTo>
                <a:lnTo>
                  <a:pt x="1119" y="1123"/>
                </a:lnTo>
                <a:lnTo>
                  <a:pt x="1122" y="1164"/>
                </a:lnTo>
                <a:lnTo>
                  <a:pt x="1121" y="1186"/>
                </a:lnTo>
                <a:lnTo>
                  <a:pt x="1120" y="1210"/>
                </a:lnTo>
                <a:lnTo>
                  <a:pt x="1117" y="1236"/>
                </a:lnTo>
                <a:lnTo>
                  <a:pt x="1114" y="1266"/>
                </a:lnTo>
                <a:lnTo>
                  <a:pt x="1111" y="1295"/>
                </a:lnTo>
                <a:lnTo>
                  <a:pt x="1109" y="1323"/>
                </a:lnTo>
                <a:lnTo>
                  <a:pt x="1107" y="1350"/>
                </a:lnTo>
                <a:lnTo>
                  <a:pt x="1107" y="1377"/>
                </a:lnTo>
                <a:lnTo>
                  <a:pt x="1106" y="1402"/>
                </a:lnTo>
                <a:lnTo>
                  <a:pt x="1107" y="1426"/>
                </a:lnTo>
                <a:lnTo>
                  <a:pt x="1111" y="1491"/>
                </a:lnTo>
                <a:lnTo>
                  <a:pt x="1123" y="1553"/>
                </a:lnTo>
                <a:lnTo>
                  <a:pt x="1149" y="1582"/>
                </a:lnTo>
                <a:lnTo>
                  <a:pt x="1155" y="1580"/>
                </a:lnTo>
                <a:close/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31040" y="3776760"/>
            <a:ext cx="46080" cy="17280"/>
          </a:xfrm>
          <a:custGeom>
            <a:avLst/>
            <a:gdLst/>
            <a:ahLst/>
            <a:rect l="l" t="t" r="r" b="b"/>
            <a:pathLst>
              <a:path w="43" h="16">
                <a:moveTo>
                  <a:pt x="43" y="10"/>
                </a:moveTo>
                <a:lnTo>
                  <a:pt x="39" y="6"/>
                </a:lnTo>
                <a:lnTo>
                  <a:pt x="35" y="2"/>
                </a:lnTo>
                <a:lnTo>
                  <a:pt x="30" y="0"/>
                </a:lnTo>
                <a:lnTo>
                  <a:pt x="26" y="0"/>
                </a:lnTo>
                <a:lnTo>
                  <a:pt x="22" y="0"/>
                </a:lnTo>
                <a:lnTo>
                  <a:pt x="0" y="16"/>
                </a:lnTo>
                <a:lnTo>
                  <a:pt x="43" y="10"/>
                </a:lnTo>
                <a:close/>
              </a:path>
            </a:pathLst>
          </a:custGeom>
          <a:solidFill>
            <a:srgbClr val="e3d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19800" y="2917800"/>
            <a:ext cx="1457280" cy="1057320"/>
          </a:xfrm>
          <a:custGeom>
            <a:avLst/>
            <a:gdLst/>
            <a:ahLst/>
            <a:rect l="l" t="t" r="r" b="b"/>
            <a:pathLst>
              <a:path w="1311" h="950">
                <a:moveTo>
                  <a:pt x="684" y="0"/>
                </a:moveTo>
                <a:lnTo>
                  <a:pt x="746" y="3"/>
                </a:lnTo>
                <a:lnTo>
                  <a:pt x="813" y="10"/>
                </a:lnTo>
                <a:lnTo>
                  <a:pt x="852" y="18"/>
                </a:lnTo>
                <a:lnTo>
                  <a:pt x="910" y="30"/>
                </a:lnTo>
                <a:lnTo>
                  <a:pt x="1012" y="71"/>
                </a:lnTo>
                <a:lnTo>
                  <a:pt x="1097" y="130"/>
                </a:lnTo>
                <a:lnTo>
                  <a:pt x="1168" y="201"/>
                </a:lnTo>
                <a:lnTo>
                  <a:pt x="1223" y="281"/>
                </a:lnTo>
                <a:lnTo>
                  <a:pt x="1264" y="365"/>
                </a:lnTo>
                <a:lnTo>
                  <a:pt x="1292" y="449"/>
                </a:lnTo>
                <a:lnTo>
                  <a:pt x="1308" y="527"/>
                </a:lnTo>
                <a:lnTo>
                  <a:pt x="1311" y="595"/>
                </a:lnTo>
                <a:lnTo>
                  <a:pt x="1309" y="624"/>
                </a:lnTo>
                <a:lnTo>
                  <a:pt x="1304" y="649"/>
                </a:lnTo>
                <a:lnTo>
                  <a:pt x="1296" y="669"/>
                </a:lnTo>
                <a:lnTo>
                  <a:pt x="1288" y="686"/>
                </a:lnTo>
                <a:lnTo>
                  <a:pt x="1280" y="705"/>
                </a:lnTo>
                <a:lnTo>
                  <a:pt x="1272" y="723"/>
                </a:lnTo>
                <a:lnTo>
                  <a:pt x="1265" y="742"/>
                </a:lnTo>
                <a:lnTo>
                  <a:pt x="1258" y="760"/>
                </a:lnTo>
                <a:lnTo>
                  <a:pt x="1251" y="779"/>
                </a:lnTo>
                <a:lnTo>
                  <a:pt x="1219" y="849"/>
                </a:lnTo>
                <a:lnTo>
                  <a:pt x="1175" y="906"/>
                </a:lnTo>
                <a:lnTo>
                  <a:pt x="1107" y="941"/>
                </a:lnTo>
                <a:lnTo>
                  <a:pt x="1035" y="949"/>
                </a:lnTo>
                <a:lnTo>
                  <a:pt x="1010" y="950"/>
                </a:lnTo>
                <a:lnTo>
                  <a:pt x="985" y="949"/>
                </a:lnTo>
                <a:lnTo>
                  <a:pt x="913" y="946"/>
                </a:lnTo>
                <a:lnTo>
                  <a:pt x="845" y="940"/>
                </a:lnTo>
                <a:lnTo>
                  <a:pt x="782" y="931"/>
                </a:lnTo>
                <a:lnTo>
                  <a:pt x="712" y="920"/>
                </a:lnTo>
                <a:lnTo>
                  <a:pt x="697" y="918"/>
                </a:lnTo>
                <a:lnTo>
                  <a:pt x="683" y="916"/>
                </a:lnTo>
                <a:lnTo>
                  <a:pt x="671" y="914"/>
                </a:lnTo>
                <a:lnTo>
                  <a:pt x="660" y="912"/>
                </a:lnTo>
                <a:lnTo>
                  <a:pt x="622" y="912"/>
                </a:lnTo>
                <a:lnTo>
                  <a:pt x="611" y="914"/>
                </a:lnTo>
                <a:lnTo>
                  <a:pt x="599" y="915"/>
                </a:lnTo>
                <a:lnTo>
                  <a:pt x="523" y="924"/>
                </a:lnTo>
                <a:lnTo>
                  <a:pt x="447" y="930"/>
                </a:lnTo>
                <a:lnTo>
                  <a:pt x="382" y="934"/>
                </a:lnTo>
                <a:lnTo>
                  <a:pt x="336" y="934"/>
                </a:lnTo>
                <a:lnTo>
                  <a:pt x="312" y="934"/>
                </a:lnTo>
                <a:lnTo>
                  <a:pt x="238" y="932"/>
                </a:lnTo>
                <a:lnTo>
                  <a:pt x="173" y="919"/>
                </a:lnTo>
                <a:lnTo>
                  <a:pt x="115" y="877"/>
                </a:lnTo>
                <a:lnTo>
                  <a:pt x="79" y="816"/>
                </a:lnTo>
                <a:lnTo>
                  <a:pt x="53" y="744"/>
                </a:lnTo>
                <a:lnTo>
                  <a:pt x="47" y="726"/>
                </a:lnTo>
                <a:lnTo>
                  <a:pt x="40" y="707"/>
                </a:lnTo>
                <a:lnTo>
                  <a:pt x="33" y="689"/>
                </a:lnTo>
                <a:lnTo>
                  <a:pt x="26" y="670"/>
                </a:lnTo>
                <a:lnTo>
                  <a:pt x="17" y="653"/>
                </a:lnTo>
                <a:lnTo>
                  <a:pt x="10" y="633"/>
                </a:lnTo>
                <a:lnTo>
                  <a:pt x="4" y="608"/>
                </a:lnTo>
                <a:lnTo>
                  <a:pt x="1" y="580"/>
                </a:lnTo>
                <a:lnTo>
                  <a:pt x="0" y="548"/>
                </a:lnTo>
                <a:lnTo>
                  <a:pt x="2" y="513"/>
                </a:lnTo>
                <a:lnTo>
                  <a:pt x="15" y="437"/>
                </a:lnTo>
                <a:lnTo>
                  <a:pt x="40" y="356"/>
                </a:lnTo>
                <a:lnTo>
                  <a:pt x="78" y="275"/>
                </a:lnTo>
                <a:lnTo>
                  <a:pt x="130" y="197"/>
                </a:lnTo>
                <a:lnTo>
                  <a:pt x="197" y="127"/>
                </a:lnTo>
                <a:lnTo>
                  <a:pt x="280" y="70"/>
                </a:lnTo>
                <a:lnTo>
                  <a:pt x="381" y="30"/>
                </a:lnTo>
                <a:lnTo>
                  <a:pt x="454" y="15"/>
                </a:lnTo>
                <a:lnTo>
                  <a:pt x="522" y="5"/>
                </a:lnTo>
                <a:lnTo>
                  <a:pt x="585" y="1"/>
                </a:lnTo>
                <a:lnTo>
                  <a:pt x="649" y="0"/>
                </a:lnTo>
                <a:lnTo>
                  <a:pt x="666" y="0"/>
                </a:lnTo>
                <a:lnTo>
                  <a:pt x="684" y="0"/>
                </a:lnTo>
                <a:close/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97560" y="2973240"/>
            <a:ext cx="1312920" cy="868680"/>
          </a:xfrm>
          <a:custGeom>
            <a:avLst/>
            <a:gdLst/>
            <a:ahLst/>
            <a:rect l="l" t="t" r="r" b="b"/>
            <a:pathLst>
              <a:path w="1183" h="779">
                <a:moveTo>
                  <a:pt x="233" y="763"/>
                </a:moveTo>
                <a:lnTo>
                  <a:pt x="169" y="742"/>
                </a:lnTo>
                <a:lnTo>
                  <a:pt x="111" y="721"/>
                </a:lnTo>
                <a:lnTo>
                  <a:pt x="56" y="686"/>
                </a:lnTo>
                <a:lnTo>
                  <a:pt x="21" y="635"/>
                </a:lnTo>
                <a:lnTo>
                  <a:pt x="1" y="564"/>
                </a:lnTo>
                <a:lnTo>
                  <a:pt x="0" y="547"/>
                </a:lnTo>
                <a:lnTo>
                  <a:pt x="1" y="529"/>
                </a:lnTo>
                <a:lnTo>
                  <a:pt x="9" y="450"/>
                </a:lnTo>
                <a:lnTo>
                  <a:pt x="22" y="388"/>
                </a:lnTo>
                <a:lnTo>
                  <a:pt x="37" y="325"/>
                </a:lnTo>
                <a:lnTo>
                  <a:pt x="53" y="266"/>
                </a:lnTo>
                <a:lnTo>
                  <a:pt x="86" y="195"/>
                </a:lnTo>
                <a:lnTo>
                  <a:pt x="138" y="137"/>
                </a:lnTo>
                <a:lnTo>
                  <a:pt x="186" y="100"/>
                </a:lnTo>
                <a:lnTo>
                  <a:pt x="239" y="68"/>
                </a:lnTo>
                <a:lnTo>
                  <a:pt x="294" y="42"/>
                </a:lnTo>
                <a:lnTo>
                  <a:pt x="361" y="18"/>
                </a:lnTo>
                <a:lnTo>
                  <a:pt x="421" y="5"/>
                </a:lnTo>
                <a:lnTo>
                  <a:pt x="484" y="0"/>
                </a:lnTo>
                <a:lnTo>
                  <a:pt x="553" y="0"/>
                </a:lnTo>
                <a:lnTo>
                  <a:pt x="571" y="0"/>
                </a:lnTo>
                <a:lnTo>
                  <a:pt x="590" y="0"/>
                </a:lnTo>
                <a:lnTo>
                  <a:pt x="664" y="3"/>
                </a:lnTo>
                <a:lnTo>
                  <a:pt x="729" y="9"/>
                </a:lnTo>
                <a:lnTo>
                  <a:pt x="788" y="16"/>
                </a:lnTo>
                <a:lnTo>
                  <a:pt x="853" y="35"/>
                </a:lnTo>
                <a:lnTo>
                  <a:pt x="926" y="68"/>
                </a:lnTo>
                <a:lnTo>
                  <a:pt x="978" y="100"/>
                </a:lnTo>
                <a:lnTo>
                  <a:pt x="1026" y="137"/>
                </a:lnTo>
                <a:lnTo>
                  <a:pt x="1078" y="195"/>
                </a:lnTo>
                <a:lnTo>
                  <a:pt x="1111" y="266"/>
                </a:lnTo>
                <a:lnTo>
                  <a:pt x="1117" y="285"/>
                </a:lnTo>
                <a:lnTo>
                  <a:pt x="1122" y="305"/>
                </a:lnTo>
                <a:lnTo>
                  <a:pt x="1129" y="326"/>
                </a:lnTo>
                <a:lnTo>
                  <a:pt x="1135" y="348"/>
                </a:lnTo>
                <a:lnTo>
                  <a:pt x="1141" y="369"/>
                </a:lnTo>
                <a:lnTo>
                  <a:pt x="1159" y="435"/>
                </a:lnTo>
                <a:lnTo>
                  <a:pt x="1174" y="500"/>
                </a:lnTo>
                <a:lnTo>
                  <a:pt x="1182" y="559"/>
                </a:lnTo>
                <a:lnTo>
                  <a:pt x="1183" y="578"/>
                </a:lnTo>
                <a:lnTo>
                  <a:pt x="1182" y="595"/>
                </a:lnTo>
                <a:lnTo>
                  <a:pt x="1159" y="662"/>
                </a:lnTo>
                <a:lnTo>
                  <a:pt x="1114" y="703"/>
                </a:lnTo>
                <a:lnTo>
                  <a:pt x="1057" y="736"/>
                </a:lnTo>
                <a:lnTo>
                  <a:pt x="992" y="766"/>
                </a:lnTo>
                <a:lnTo>
                  <a:pt x="956" y="779"/>
                </a:lnTo>
                <a:lnTo>
                  <a:pt x="955" y="77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75240" y="4186080"/>
            <a:ext cx="347760" cy="438480"/>
          </a:xfrm>
          <a:custGeom>
            <a:avLst/>
            <a:gdLst/>
            <a:ahLst/>
            <a:rect l="l" t="t" r="r" b="b"/>
            <a:pathLst>
              <a:path w="314" h="397">
                <a:moveTo>
                  <a:pt x="163" y="4"/>
                </a:moveTo>
                <a:lnTo>
                  <a:pt x="186" y="11"/>
                </a:lnTo>
                <a:lnTo>
                  <a:pt x="192" y="11"/>
                </a:lnTo>
                <a:lnTo>
                  <a:pt x="197" y="10"/>
                </a:lnTo>
                <a:lnTo>
                  <a:pt x="203" y="9"/>
                </a:lnTo>
                <a:lnTo>
                  <a:pt x="209" y="8"/>
                </a:lnTo>
                <a:lnTo>
                  <a:pt x="216" y="7"/>
                </a:lnTo>
                <a:lnTo>
                  <a:pt x="222" y="6"/>
                </a:lnTo>
                <a:lnTo>
                  <a:pt x="229" y="5"/>
                </a:lnTo>
                <a:lnTo>
                  <a:pt x="235" y="4"/>
                </a:lnTo>
                <a:lnTo>
                  <a:pt x="242" y="4"/>
                </a:lnTo>
                <a:lnTo>
                  <a:pt x="297" y="33"/>
                </a:lnTo>
                <a:lnTo>
                  <a:pt x="314" y="64"/>
                </a:lnTo>
                <a:lnTo>
                  <a:pt x="314" y="69"/>
                </a:lnTo>
                <a:lnTo>
                  <a:pt x="288" y="127"/>
                </a:lnTo>
                <a:lnTo>
                  <a:pt x="275" y="146"/>
                </a:lnTo>
                <a:lnTo>
                  <a:pt x="262" y="166"/>
                </a:lnTo>
                <a:lnTo>
                  <a:pt x="249" y="186"/>
                </a:lnTo>
                <a:lnTo>
                  <a:pt x="237" y="206"/>
                </a:lnTo>
                <a:lnTo>
                  <a:pt x="224" y="225"/>
                </a:lnTo>
                <a:lnTo>
                  <a:pt x="212" y="245"/>
                </a:lnTo>
                <a:lnTo>
                  <a:pt x="200" y="264"/>
                </a:lnTo>
                <a:lnTo>
                  <a:pt x="165" y="317"/>
                </a:lnTo>
                <a:lnTo>
                  <a:pt x="126" y="370"/>
                </a:lnTo>
                <a:lnTo>
                  <a:pt x="92" y="397"/>
                </a:lnTo>
                <a:lnTo>
                  <a:pt x="87" y="395"/>
                </a:lnTo>
                <a:lnTo>
                  <a:pt x="47" y="345"/>
                </a:lnTo>
                <a:lnTo>
                  <a:pt x="44" y="320"/>
                </a:lnTo>
                <a:lnTo>
                  <a:pt x="44" y="312"/>
                </a:lnTo>
                <a:lnTo>
                  <a:pt x="45" y="304"/>
                </a:lnTo>
                <a:lnTo>
                  <a:pt x="47" y="295"/>
                </a:lnTo>
                <a:lnTo>
                  <a:pt x="49" y="287"/>
                </a:lnTo>
                <a:lnTo>
                  <a:pt x="50" y="278"/>
                </a:lnTo>
                <a:lnTo>
                  <a:pt x="53" y="269"/>
                </a:lnTo>
                <a:lnTo>
                  <a:pt x="59" y="218"/>
                </a:lnTo>
                <a:lnTo>
                  <a:pt x="59" y="207"/>
                </a:lnTo>
                <a:lnTo>
                  <a:pt x="49" y="148"/>
                </a:lnTo>
                <a:lnTo>
                  <a:pt x="0" y="127"/>
                </a:lnTo>
                <a:lnTo>
                  <a:pt x="160" y="0"/>
                </a:lnTo>
                <a:lnTo>
                  <a:pt x="163" y="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5240" y="4186080"/>
            <a:ext cx="347760" cy="438480"/>
          </a:xfrm>
          <a:custGeom>
            <a:avLst/>
            <a:gdLst/>
            <a:ahLst/>
            <a:rect l="l" t="t" r="r" b="b"/>
            <a:pathLst>
              <a:path w="314" h="397">
                <a:moveTo>
                  <a:pt x="0" y="127"/>
                </a:moveTo>
                <a:lnTo>
                  <a:pt x="55" y="158"/>
                </a:lnTo>
                <a:lnTo>
                  <a:pt x="59" y="218"/>
                </a:lnTo>
                <a:lnTo>
                  <a:pt x="59" y="229"/>
                </a:lnTo>
                <a:lnTo>
                  <a:pt x="49" y="287"/>
                </a:lnTo>
                <a:lnTo>
                  <a:pt x="47" y="295"/>
                </a:lnTo>
                <a:lnTo>
                  <a:pt x="45" y="304"/>
                </a:lnTo>
                <a:lnTo>
                  <a:pt x="44" y="312"/>
                </a:lnTo>
                <a:lnTo>
                  <a:pt x="44" y="320"/>
                </a:lnTo>
                <a:lnTo>
                  <a:pt x="44" y="328"/>
                </a:lnTo>
                <a:lnTo>
                  <a:pt x="77" y="386"/>
                </a:lnTo>
                <a:lnTo>
                  <a:pt x="92" y="397"/>
                </a:lnTo>
                <a:lnTo>
                  <a:pt x="97" y="396"/>
                </a:lnTo>
                <a:lnTo>
                  <a:pt x="145" y="346"/>
                </a:lnTo>
                <a:lnTo>
                  <a:pt x="188" y="282"/>
                </a:lnTo>
                <a:lnTo>
                  <a:pt x="224" y="225"/>
                </a:lnTo>
                <a:lnTo>
                  <a:pt x="237" y="206"/>
                </a:lnTo>
                <a:lnTo>
                  <a:pt x="249" y="186"/>
                </a:lnTo>
                <a:lnTo>
                  <a:pt x="262" y="166"/>
                </a:lnTo>
                <a:lnTo>
                  <a:pt x="275" y="146"/>
                </a:lnTo>
                <a:lnTo>
                  <a:pt x="288" y="127"/>
                </a:lnTo>
                <a:lnTo>
                  <a:pt x="294" y="117"/>
                </a:lnTo>
                <a:lnTo>
                  <a:pt x="314" y="64"/>
                </a:lnTo>
                <a:lnTo>
                  <a:pt x="313" y="59"/>
                </a:lnTo>
                <a:lnTo>
                  <a:pt x="268" y="12"/>
                </a:lnTo>
                <a:lnTo>
                  <a:pt x="235" y="4"/>
                </a:lnTo>
                <a:lnTo>
                  <a:pt x="229" y="5"/>
                </a:lnTo>
                <a:lnTo>
                  <a:pt x="222" y="6"/>
                </a:lnTo>
                <a:lnTo>
                  <a:pt x="216" y="7"/>
                </a:lnTo>
                <a:lnTo>
                  <a:pt x="209" y="8"/>
                </a:lnTo>
                <a:lnTo>
                  <a:pt x="203" y="9"/>
                </a:lnTo>
                <a:lnTo>
                  <a:pt x="197" y="10"/>
                </a:lnTo>
                <a:lnTo>
                  <a:pt x="192" y="11"/>
                </a:lnTo>
                <a:lnTo>
                  <a:pt x="186" y="11"/>
                </a:lnTo>
                <a:lnTo>
                  <a:pt x="181" y="11"/>
                </a:lnTo>
                <a:lnTo>
                  <a:pt x="176" y="11"/>
                </a:lnTo>
                <a:lnTo>
                  <a:pt x="171" y="9"/>
                </a:lnTo>
                <a:lnTo>
                  <a:pt x="167" y="7"/>
                </a:lnTo>
                <a:lnTo>
                  <a:pt x="163" y="4"/>
                </a:lnTo>
                <a:lnTo>
                  <a:pt x="16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08800" y="4175280"/>
            <a:ext cx="352440" cy="466560"/>
          </a:xfrm>
          <a:custGeom>
            <a:avLst/>
            <a:gdLst/>
            <a:ahLst/>
            <a:rect l="l" t="t" r="r" b="b"/>
            <a:pathLst>
              <a:path w="317" h="419">
                <a:moveTo>
                  <a:pt x="55" y="0"/>
                </a:moveTo>
                <a:lnTo>
                  <a:pt x="104" y="11"/>
                </a:lnTo>
                <a:lnTo>
                  <a:pt x="112" y="13"/>
                </a:lnTo>
                <a:lnTo>
                  <a:pt x="119" y="15"/>
                </a:lnTo>
                <a:lnTo>
                  <a:pt x="126" y="17"/>
                </a:lnTo>
                <a:lnTo>
                  <a:pt x="133" y="18"/>
                </a:lnTo>
                <a:lnTo>
                  <a:pt x="139" y="18"/>
                </a:lnTo>
                <a:lnTo>
                  <a:pt x="144" y="17"/>
                </a:lnTo>
                <a:lnTo>
                  <a:pt x="149" y="16"/>
                </a:lnTo>
                <a:lnTo>
                  <a:pt x="154" y="13"/>
                </a:lnTo>
                <a:lnTo>
                  <a:pt x="157" y="9"/>
                </a:lnTo>
                <a:lnTo>
                  <a:pt x="317" y="136"/>
                </a:lnTo>
                <a:lnTo>
                  <a:pt x="262" y="167"/>
                </a:lnTo>
                <a:lnTo>
                  <a:pt x="258" y="227"/>
                </a:lnTo>
                <a:lnTo>
                  <a:pt x="258" y="238"/>
                </a:lnTo>
                <a:lnTo>
                  <a:pt x="250" y="299"/>
                </a:lnTo>
                <a:lnTo>
                  <a:pt x="235" y="358"/>
                </a:lnTo>
                <a:lnTo>
                  <a:pt x="204" y="412"/>
                </a:lnTo>
                <a:lnTo>
                  <a:pt x="189" y="419"/>
                </a:lnTo>
                <a:lnTo>
                  <a:pt x="183" y="419"/>
                </a:lnTo>
                <a:lnTo>
                  <a:pt x="129" y="384"/>
                </a:lnTo>
                <a:lnTo>
                  <a:pt x="86" y="327"/>
                </a:lnTo>
                <a:lnTo>
                  <a:pt x="56" y="264"/>
                </a:lnTo>
                <a:lnTo>
                  <a:pt x="41" y="208"/>
                </a:lnTo>
                <a:lnTo>
                  <a:pt x="36" y="191"/>
                </a:lnTo>
                <a:lnTo>
                  <a:pt x="31" y="174"/>
                </a:lnTo>
                <a:lnTo>
                  <a:pt x="26" y="158"/>
                </a:lnTo>
                <a:lnTo>
                  <a:pt x="22" y="143"/>
                </a:lnTo>
                <a:lnTo>
                  <a:pt x="18" y="129"/>
                </a:lnTo>
                <a:lnTo>
                  <a:pt x="14" y="116"/>
                </a:lnTo>
                <a:lnTo>
                  <a:pt x="0" y="54"/>
                </a:lnTo>
                <a:lnTo>
                  <a:pt x="0" y="46"/>
                </a:lnTo>
                <a:lnTo>
                  <a:pt x="0" y="38"/>
                </a:lnTo>
                <a:lnTo>
                  <a:pt x="47" y="0"/>
                </a:lnTo>
                <a:lnTo>
                  <a:pt x="55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08800" y="4175280"/>
            <a:ext cx="352440" cy="466560"/>
          </a:xfrm>
          <a:custGeom>
            <a:avLst/>
            <a:gdLst/>
            <a:ahLst/>
            <a:rect l="l" t="t" r="r" b="b"/>
            <a:pathLst>
              <a:path w="317" h="419">
                <a:moveTo>
                  <a:pt x="317" y="136"/>
                </a:moveTo>
                <a:lnTo>
                  <a:pt x="262" y="167"/>
                </a:lnTo>
                <a:lnTo>
                  <a:pt x="258" y="227"/>
                </a:lnTo>
                <a:lnTo>
                  <a:pt x="258" y="238"/>
                </a:lnTo>
                <a:lnTo>
                  <a:pt x="250" y="299"/>
                </a:lnTo>
                <a:lnTo>
                  <a:pt x="235" y="358"/>
                </a:lnTo>
                <a:lnTo>
                  <a:pt x="204" y="412"/>
                </a:lnTo>
                <a:lnTo>
                  <a:pt x="189" y="419"/>
                </a:lnTo>
                <a:lnTo>
                  <a:pt x="183" y="419"/>
                </a:lnTo>
                <a:lnTo>
                  <a:pt x="129" y="384"/>
                </a:lnTo>
                <a:lnTo>
                  <a:pt x="86" y="327"/>
                </a:lnTo>
                <a:lnTo>
                  <a:pt x="56" y="264"/>
                </a:lnTo>
                <a:lnTo>
                  <a:pt x="41" y="208"/>
                </a:lnTo>
                <a:lnTo>
                  <a:pt x="36" y="191"/>
                </a:lnTo>
                <a:lnTo>
                  <a:pt x="31" y="174"/>
                </a:lnTo>
                <a:lnTo>
                  <a:pt x="26" y="158"/>
                </a:lnTo>
                <a:lnTo>
                  <a:pt x="22" y="143"/>
                </a:lnTo>
                <a:lnTo>
                  <a:pt x="18" y="129"/>
                </a:lnTo>
                <a:lnTo>
                  <a:pt x="14" y="116"/>
                </a:lnTo>
                <a:lnTo>
                  <a:pt x="0" y="54"/>
                </a:lnTo>
                <a:lnTo>
                  <a:pt x="0" y="46"/>
                </a:lnTo>
                <a:lnTo>
                  <a:pt x="0" y="38"/>
                </a:lnTo>
                <a:lnTo>
                  <a:pt x="47" y="0"/>
                </a:lnTo>
                <a:lnTo>
                  <a:pt x="55" y="0"/>
                </a:lnTo>
                <a:lnTo>
                  <a:pt x="104" y="11"/>
                </a:lnTo>
                <a:lnTo>
                  <a:pt x="112" y="13"/>
                </a:lnTo>
                <a:lnTo>
                  <a:pt x="119" y="15"/>
                </a:lnTo>
                <a:lnTo>
                  <a:pt x="126" y="17"/>
                </a:lnTo>
                <a:lnTo>
                  <a:pt x="133" y="18"/>
                </a:lnTo>
                <a:lnTo>
                  <a:pt x="139" y="18"/>
                </a:lnTo>
                <a:lnTo>
                  <a:pt x="144" y="17"/>
                </a:lnTo>
                <a:lnTo>
                  <a:pt x="149" y="16"/>
                </a:lnTo>
                <a:lnTo>
                  <a:pt x="154" y="13"/>
                </a:lnTo>
                <a:lnTo>
                  <a:pt x="157" y="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69200" y="4267080"/>
            <a:ext cx="261720" cy="352440"/>
          </a:xfrm>
          <a:custGeom>
            <a:avLst/>
            <a:gdLst/>
            <a:ahLst/>
            <a:rect l="l" t="t" r="r" b="b"/>
            <a:pathLst>
              <a:path w="236" h="318">
                <a:moveTo>
                  <a:pt x="231" y="1"/>
                </a:moveTo>
                <a:lnTo>
                  <a:pt x="235" y="6"/>
                </a:lnTo>
                <a:lnTo>
                  <a:pt x="236" y="13"/>
                </a:lnTo>
                <a:lnTo>
                  <a:pt x="235" y="22"/>
                </a:lnTo>
                <a:lnTo>
                  <a:pt x="211" y="81"/>
                </a:lnTo>
                <a:lnTo>
                  <a:pt x="179" y="138"/>
                </a:lnTo>
                <a:lnTo>
                  <a:pt x="141" y="196"/>
                </a:lnTo>
                <a:lnTo>
                  <a:pt x="103" y="250"/>
                </a:lnTo>
                <a:lnTo>
                  <a:pt x="60" y="299"/>
                </a:lnTo>
                <a:lnTo>
                  <a:pt x="26" y="318"/>
                </a:lnTo>
                <a:lnTo>
                  <a:pt x="21" y="317"/>
                </a:lnTo>
                <a:lnTo>
                  <a:pt x="2" y="257"/>
                </a:lnTo>
                <a:lnTo>
                  <a:pt x="0" y="223"/>
                </a:lnTo>
                <a:lnTo>
                  <a:pt x="0" y="215"/>
                </a:lnTo>
                <a:lnTo>
                  <a:pt x="34" y="155"/>
                </a:lnTo>
                <a:lnTo>
                  <a:pt x="90" y="105"/>
                </a:lnTo>
                <a:lnTo>
                  <a:pt x="156" y="50"/>
                </a:lnTo>
                <a:lnTo>
                  <a:pt x="216" y="3"/>
                </a:lnTo>
                <a:lnTo>
                  <a:pt x="225" y="0"/>
                </a:lnTo>
                <a:lnTo>
                  <a:pt x="231" y="1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69200" y="4267080"/>
            <a:ext cx="261720" cy="352440"/>
          </a:xfrm>
          <a:custGeom>
            <a:avLst/>
            <a:gdLst/>
            <a:ahLst/>
            <a:rect l="l" t="t" r="r" b="b"/>
            <a:pathLst>
              <a:path w="236" h="318">
                <a:moveTo>
                  <a:pt x="216" y="3"/>
                </a:moveTo>
                <a:lnTo>
                  <a:pt x="156" y="50"/>
                </a:lnTo>
                <a:lnTo>
                  <a:pt x="109" y="89"/>
                </a:lnTo>
                <a:lnTo>
                  <a:pt x="58" y="133"/>
                </a:lnTo>
                <a:lnTo>
                  <a:pt x="12" y="180"/>
                </a:lnTo>
                <a:lnTo>
                  <a:pt x="0" y="223"/>
                </a:lnTo>
                <a:lnTo>
                  <a:pt x="0" y="230"/>
                </a:lnTo>
                <a:lnTo>
                  <a:pt x="7" y="297"/>
                </a:lnTo>
                <a:lnTo>
                  <a:pt x="26" y="318"/>
                </a:lnTo>
                <a:lnTo>
                  <a:pt x="31" y="317"/>
                </a:lnTo>
                <a:lnTo>
                  <a:pt x="79" y="278"/>
                </a:lnTo>
                <a:lnTo>
                  <a:pt x="128" y="215"/>
                </a:lnTo>
                <a:lnTo>
                  <a:pt x="167" y="157"/>
                </a:lnTo>
                <a:lnTo>
                  <a:pt x="201" y="99"/>
                </a:lnTo>
                <a:lnTo>
                  <a:pt x="231" y="34"/>
                </a:lnTo>
                <a:lnTo>
                  <a:pt x="236" y="13"/>
                </a:lnTo>
                <a:lnTo>
                  <a:pt x="235" y="6"/>
                </a:lnTo>
                <a:lnTo>
                  <a:pt x="231" y="1"/>
                </a:lnTo>
                <a:lnTo>
                  <a:pt x="225" y="0"/>
                </a:lnTo>
                <a:lnTo>
                  <a:pt x="216" y="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24640" y="4264200"/>
            <a:ext cx="211320" cy="392040"/>
          </a:xfrm>
          <a:custGeom>
            <a:avLst/>
            <a:gdLst/>
            <a:ahLst/>
            <a:rect l="l" t="t" r="r" b="b"/>
            <a:pathLst>
              <a:path w="189" h="353">
                <a:moveTo>
                  <a:pt x="15" y="0"/>
                </a:moveTo>
                <a:lnTo>
                  <a:pt x="71" y="63"/>
                </a:lnTo>
                <a:lnTo>
                  <a:pt x="109" y="111"/>
                </a:lnTo>
                <a:lnTo>
                  <a:pt x="150" y="165"/>
                </a:lnTo>
                <a:lnTo>
                  <a:pt x="184" y="221"/>
                </a:lnTo>
                <a:lnTo>
                  <a:pt x="189" y="244"/>
                </a:lnTo>
                <a:lnTo>
                  <a:pt x="189" y="251"/>
                </a:lnTo>
                <a:lnTo>
                  <a:pt x="173" y="315"/>
                </a:lnTo>
                <a:lnTo>
                  <a:pt x="146" y="353"/>
                </a:lnTo>
                <a:lnTo>
                  <a:pt x="141" y="353"/>
                </a:lnTo>
                <a:lnTo>
                  <a:pt x="98" y="302"/>
                </a:lnTo>
                <a:lnTo>
                  <a:pt x="63" y="230"/>
                </a:lnTo>
                <a:lnTo>
                  <a:pt x="38" y="166"/>
                </a:lnTo>
                <a:lnTo>
                  <a:pt x="17" y="101"/>
                </a:lnTo>
                <a:lnTo>
                  <a:pt x="1" y="32"/>
                </a:lnTo>
                <a:lnTo>
                  <a:pt x="0" y="19"/>
                </a:lnTo>
                <a:lnTo>
                  <a:pt x="1" y="10"/>
                </a:lnTo>
                <a:lnTo>
                  <a:pt x="4" y="3"/>
                </a:lnTo>
                <a:lnTo>
                  <a:pt x="8" y="0"/>
                </a:lnTo>
                <a:lnTo>
                  <a:pt x="15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24640" y="4264200"/>
            <a:ext cx="211320" cy="392040"/>
          </a:xfrm>
          <a:custGeom>
            <a:avLst/>
            <a:gdLst/>
            <a:ahLst/>
            <a:rect l="l" t="t" r="r" b="b"/>
            <a:pathLst>
              <a:path w="189" h="353">
                <a:moveTo>
                  <a:pt x="23" y="4"/>
                </a:moveTo>
                <a:lnTo>
                  <a:pt x="71" y="63"/>
                </a:lnTo>
                <a:lnTo>
                  <a:pt x="109" y="111"/>
                </a:lnTo>
                <a:lnTo>
                  <a:pt x="150" y="165"/>
                </a:lnTo>
                <a:lnTo>
                  <a:pt x="184" y="221"/>
                </a:lnTo>
                <a:lnTo>
                  <a:pt x="189" y="244"/>
                </a:lnTo>
                <a:lnTo>
                  <a:pt x="189" y="251"/>
                </a:lnTo>
                <a:lnTo>
                  <a:pt x="173" y="315"/>
                </a:lnTo>
                <a:lnTo>
                  <a:pt x="146" y="353"/>
                </a:lnTo>
                <a:lnTo>
                  <a:pt x="141" y="353"/>
                </a:lnTo>
                <a:lnTo>
                  <a:pt x="98" y="302"/>
                </a:lnTo>
                <a:lnTo>
                  <a:pt x="63" y="230"/>
                </a:lnTo>
                <a:lnTo>
                  <a:pt x="38" y="166"/>
                </a:lnTo>
                <a:lnTo>
                  <a:pt x="17" y="101"/>
                </a:lnTo>
                <a:lnTo>
                  <a:pt x="1" y="32"/>
                </a:lnTo>
                <a:lnTo>
                  <a:pt x="0" y="19"/>
                </a:lnTo>
                <a:lnTo>
                  <a:pt x="1" y="10"/>
                </a:lnTo>
                <a:lnTo>
                  <a:pt x="4" y="3"/>
                </a:lnTo>
                <a:lnTo>
                  <a:pt x="8" y="0"/>
                </a:lnTo>
                <a:lnTo>
                  <a:pt x="15" y="0"/>
                </a:lnTo>
                <a:lnTo>
                  <a:pt x="23" y="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24520" y="4397400"/>
            <a:ext cx="165240" cy="318960"/>
          </a:xfrm>
          <a:custGeom>
            <a:avLst/>
            <a:gdLst/>
            <a:ahLst/>
            <a:rect l="l" t="t" r="r" b="b"/>
            <a:pathLst>
              <a:path w="149" h="288">
                <a:moveTo>
                  <a:pt x="0" y="0"/>
                </a:moveTo>
                <a:lnTo>
                  <a:pt x="60" y="40"/>
                </a:lnTo>
                <a:lnTo>
                  <a:pt x="105" y="90"/>
                </a:lnTo>
                <a:lnTo>
                  <a:pt x="126" y="152"/>
                </a:lnTo>
                <a:lnTo>
                  <a:pt x="128" y="180"/>
                </a:lnTo>
                <a:lnTo>
                  <a:pt x="128" y="189"/>
                </a:lnTo>
                <a:lnTo>
                  <a:pt x="138" y="253"/>
                </a:lnTo>
                <a:lnTo>
                  <a:pt x="149" y="287"/>
                </a:lnTo>
                <a:lnTo>
                  <a:pt x="149" y="28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08920" y="4397400"/>
            <a:ext cx="163440" cy="318960"/>
          </a:xfrm>
          <a:custGeom>
            <a:avLst/>
            <a:gdLst/>
            <a:ahLst/>
            <a:rect l="l" t="t" r="r" b="b"/>
            <a:pathLst>
              <a:path w="149" h="288">
                <a:moveTo>
                  <a:pt x="149" y="0"/>
                </a:moveTo>
                <a:lnTo>
                  <a:pt x="89" y="40"/>
                </a:lnTo>
                <a:lnTo>
                  <a:pt x="44" y="90"/>
                </a:lnTo>
                <a:lnTo>
                  <a:pt x="22" y="152"/>
                </a:lnTo>
                <a:lnTo>
                  <a:pt x="21" y="180"/>
                </a:lnTo>
                <a:lnTo>
                  <a:pt x="21" y="189"/>
                </a:lnTo>
                <a:lnTo>
                  <a:pt x="11" y="253"/>
                </a:lnTo>
                <a:lnTo>
                  <a:pt x="0" y="287"/>
                </a:lnTo>
                <a:lnTo>
                  <a:pt x="0" y="28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70320" y="3324240"/>
            <a:ext cx="185400" cy="584280"/>
          </a:xfrm>
          <a:custGeom>
            <a:avLst/>
            <a:gdLst/>
            <a:ahLst/>
            <a:rect l="l" t="t" r="r" b="b"/>
            <a:pathLst>
              <a:path w="168" h="526">
                <a:moveTo>
                  <a:pt x="88" y="0"/>
                </a:moveTo>
                <a:lnTo>
                  <a:pt x="117" y="28"/>
                </a:lnTo>
                <a:lnTo>
                  <a:pt x="125" y="44"/>
                </a:lnTo>
                <a:lnTo>
                  <a:pt x="153" y="105"/>
                </a:lnTo>
                <a:lnTo>
                  <a:pt x="167" y="167"/>
                </a:lnTo>
                <a:lnTo>
                  <a:pt x="168" y="177"/>
                </a:lnTo>
                <a:lnTo>
                  <a:pt x="168" y="187"/>
                </a:lnTo>
                <a:lnTo>
                  <a:pt x="164" y="257"/>
                </a:lnTo>
                <a:lnTo>
                  <a:pt x="158" y="323"/>
                </a:lnTo>
                <a:lnTo>
                  <a:pt x="150" y="393"/>
                </a:lnTo>
                <a:lnTo>
                  <a:pt x="142" y="454"/>
                </a:lnTo>
                <a:lnTo>
                  <a:pt x="107" y="507"/>
                </a:lnTo>
                <a:lnTo>
                  <a:pt x="82" y="526"/>
                </a:lnTo>
                <a:lnTo>
                  <a:pt x="78" y="526"/>
                </a:lnTo>
                <a:lnTo>
                  <a:pt x="29" y="487"/>
                </a:lnTo>
                <a:lnTo>
                  <a:pt x="10" y="454"/>
                </a:lnTo>
                <a:lnTo>
                  <a:pt x="10" y="448"/>
                </a:lnTo>
                <a:lnTo>
                  <a:pt x="19" y="401"/>
                </a:lnTo>
                <a:lnTo>
                  <a:pt x="22" y="389"/>
                </a:lnTo>
                <a:lnTo>
                  <a:pt x="31" y="328"/>
                </a:lnTo>
                <a:lnTo>
                  <a:pt x="33" y="297"/>
                </a:lnTo>
                <a:lnTo>
                  <a:pt x="33" y="281"/>
                </a:lnTo>
                <a:lnTo>
                  <a:pt x="26" y="207"/>
                </a:lnTo>
                <a:lnTo>
                  <a:pt x="13" y="143"/>
                </a:lnTo>
                <a:lnTo>
                  <a:pt x="5" y="112"/>
                </a:lnTo>
                <a:lnTo>
                  <a:pt x="3" y="103"/>
                </a:lnTo>
                <a:lnTo>
                  <a:pt x="1" y="94"/>
                </a:lnTo>
                <a:lnTo>
                  <a:pt x="0" y="86"/>
                </a:lnTo>
                <a:lnTo>
                  <a:pt x="1" y="78"/>
                </a:lnTo>
                <a:lnTo>
                  <a:pt x="38" y="20"/>
                </a:lnTo>
                <a:lnTo>
                  <a:pt x="80" y="0"/>
                </a:lnTo>
                <a:lnTo>
                  <a:pt x="88" y="0"/>
                </a:lnTo>
                <a:close/>
              </a:path>
            </a:pathLst>
          </a:custGeom>
          <a:solidFill>
            <a:srgbClr val="ddddd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03440" y="3338640"/>
            <a:ext cx="169920" cy="585720"/>
          </a:xfrm>
          <a:custGeom>
            <a:avLst/>
            <a:gdLst/>
            <a:ahLst/>
            <a:rect l="l" t="t" r="r" b="b"/>
            <a:pathLst>
              <a:path w="151" h="526">
                <a:moveTo>
                  <a:pt x="73" y="1"/>
                </a:moveTo>
                <a:lnTo>
                  <a:pt x="129" y="41"/>
                </a:lnTo>
                <a:lnTo>
                  <a:pt x="148" y="84"/>
                </a:lnTo>
                <a:lnTo>
                  <a:pt x="147" y="92"/>
                </a:lnTo>
                <a:lnTo>
                  <a:pt x="145" y="100"/>
                </a:lnTo>
                <a:lnTo>
                  <a:pt x="144" y="109"/>
                </a:lnTo>
                <a:lnTo>
                  <a:pt x="141" y="119"/>
                </a:lnTo>
                <a:lnTo>
                  <a:pt x="139" y="130"/>
                </a:lnTo>
                <a:lnTo>
                  <a:pt x="128" y="191"/>
                </a:lnTo>
                <a:lnTo>
                  <a:pt x="122" y="264"/>
                </a:lnTo>
                <a:lnTo>
                  <a:pt x="122" y="279"/>
                </a:lnTo>
                <a:lnTo>
                  <a:pt x="122" y="295"/>
                </a:lnTo>
                <a:lnTo>
                  <a:pt x="130" y="358"/>
                </a:lnTo>
                <a:lnTo>
                  <a:pt x="143" y="409"/>
                </a:lnTo>
                <a:lnTo>
                  <a:pt x="145" y="418"/>
                </a:lnTo>
                <a:lnTo>
                  <a:pt x="151" y="451"/>
                </a:lnTo>
                <a:lnTo>
                  <a:pt x="151" y="456"/>
                </a:lnTo>
                <a:lnTo>
                  <a:pt x="111" y="508"/>
                </a:lnTo>
                <a:lnTo>
                  <a:pt x="82" y="526"/>
                </a:lnTo>
                <a:lnTo>
                  <a:pt x="78" y="525"/>
                </a:lnTo>
                <a:lnTo>
                  <a:pt x="29" y="477"/>
                </a:lnTo>
                <a:lnTo>
                  <a:pt x="12" y="411"/>
                </a:lnTo>
                <a:lnTo>
                  <a:pt x="5" y="341"/>
                </a:lnTo>
                <a:lnTo>
                  <a:pt x="1" y="265"/>
                </a:lnTo>
                <a:lnTo>
                  <a:pt x="0" y="198"/>
                </a:lnTo>
                <a:lnTo>
                  <a:pt x="0" y="185"/>
                </a:lnTo>
                <a:lnTo>
                  <a:pt x="0" y="174"/>
                </a:lnTo>
                <a:lnTo>
                  <a:pt x="5" y="113"/>
                </a:lnTo>
                <a:lnTo>
                  <a:pt x="24" y="44"/>
                </a:lnTo>
                <a:lnTo>
                  <a:pt x="65" y="0"/>
                </a:lnTo>
                <a:lnTo>
                  <a:pt x="73" y="1"/>
                </a:lnTo>
                <a:close/>
              </a:path>
            </a:pathLst>
          </a:custGeom>
          <a:solidFill>
            <a:srgbClr val="ddddd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31880" y="3363840"/>
            <a:ext cx="986040" cy="493920"/>
          </a:xfrm>
          <a:custGeom>
            <a:avLst/>
            <a:gdLst/>
            <a:ahLst/>
            <a:rect l="l" t="t" r="r" b="b"/>
            <a:pathLst>
              <a:path w="936" h="446">
                <a:moveTo>
                  <a:pt x="507" y="0"/>
                </a:moveTo>
                <a:lnTo>
                  <a:pt x="571" y="2"/>
                </a:lnTo>
                <a:lnTo>
                  <a:pt x="635" y="4"/>
                </a:lnTo>
                <a:lnTo>
                  <a:pt x="697" y="7"/>
                </a:lnTo>
                <a:lnTo>
                  <a:pt x="782" y="13"/>
                </a:lnTo>
                <a:lnTo>
                  <a:pt x="851" y="18"/>
                </a:lnTo>
                <a:lnTo>
                  <a:pt x="912" y="24"/>
                </a:lnTo>
                <a:lnTo>
                  <a:pt x="926" y="90"/>
                </a:lnTo>
                <a:lnTo>
                  <a:pt x="934" y="164"/>
                </a:lnTo>
                <a:lnTo>
                  <a:pt x="936" y="247"/>
                </a:lnTo>
                <a:lnTo>
                  <a:pt x="935" y="275"/>
                </a:lnTo>
                <a:lnTo>
                  <a:pt x="926" y="350"/>
                </a:lnTo>
                <a:lnTo>
                  <a:pt x="892" y="413"/>
                </a:lnTo>
                <a:lnTo>
                  <a:pt x="828" y="427"/>
                </a:lnTo>
                <a:lnTo>
                  <a:pt x="738" y="435"/>
                </a:lnTo>
                <a:lnTo>
                  <a:pt x="671" y="437"/>
                </a:lnTo>
                <a:lnTo>
                  <a:pt x="601" y="438"/>
                </a:lnTo>
                <a:lnTo>
                  <a:pt x="566" y="438"/>
                </a:lnTo>
                <a:lnTo>
                  <a:pt x="530" y="438"/>
                </a:lnTo>
                <a:lnTo>
                  <a:pt x="495" y="437"/>
                </a:lnTo>
                <a:lnTo>
                  <a:pt x="461" y="437"/>
                </a:lnTo>
                <a:lnTo>
                  <a:pt x="427" y="437"/>
                </a:lnTo>
                <a:lnTo>
                  <a:pt x="395" y="436"/>
                </a:lnTo>
                <a:lnTo>
                  <a:pt x="364" y="436"/>
                </a:lnTo>
                <a:lnTo>
                  <a:pt x="335" y="437"/>
                </a:lnTo>
                <a:lnTo>
                  <a:pt x="308" y="437"/>
                </a:lnTo>
                <a:lnTo>
                  <a:pt x="283" y="439"/>
                </a:lnTo>
                <a:lnTo>
                  <a:pt x="261" y="440"/>
                </a:lnTo>
                <a:lnTo>
                  <a:pt x="241" y="442"/>
                </a:lnTo>
                <a:lnTo>
                  <a:pt x="221" y="443"/>
                </a:lnTo>
                <a:lnTo>
                  <a:pt x="202" y="445"/>
                </a:lnTo>
                <a:lnTo>
                  <a:pt x="183" y="445"/>
                </a:lnTo>
                <a:lnTo>
                  <a:pt x="165" y="446"/>
                </a:lnTo>
                <a:lnTo>
                  <a:pt x="147" y="446"/>
                </a:lnTo>
                <a:lnTo>
                  <a:pt x="131" y="446"/>
                </a:lnTo>
                <a:lnTo>
                  <a:pt x="61" y="440"/>
                </a:lnTo>
                <a:lnTo>
                  <a:pt x="5" y="413"/>
                </a:lnTo>
                <a:lnTo>
                  <a:pt x="0" y="351"/>
                </a:lnTo>
                <a:lnTo>
                  <a:pt x="0" y="331"/>
                </a:lnTo>
                <a:lnTo>
                  <a:pt x="1" y="310"/>
                </a:lnTo>
                <a:lnTo>
                  <a:pt x="4" y="241"/>
                </a:lnTo>
                <a:lnTo>
                  <a:pt x="10" y="172"/>
                </a:lnTo>
                <a:lnTo>
                  <a:pt x="21" y="111"/>
                </a:lnTo>
                <a:lnTo>
                  <a:pt x="49" y="55"/>
                </a:lnTo>
                <a:lnTo>
                  <a:pt x="109" y="29"/>
                </a:lnTo>
                <a:lnTo>
                  <a:pt x="183" y="16"/>
                </a:lnTo>
                <a:lnTo>
                  <a:pt x="252" y="9"/>
                </a:lnTo>
                <a:lnTo>
                  <a:pt x="329" y="4"/>
                </a:lnTo>
                <a:lnTo>
                  <a:pt x="415" y="1"/>
                </a:lnTo>
                <a:lnTo>
                  <a:pt x="476" y="0"/>
                </a:lnTo>
                <a:lnTo>
                  <a:pt x="507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5480" y="3754440"/>
            <a:ext cx="2117880" cy="1162080"/>
          </a:xfrm>
          <a:custGeom>
            <a:avLst/>
            <a:gdLst/>
            <a:ahLst/>
            <a:rect l="l" t="t" r="r" b="b"/>
            <a:pathLst>
              <a:path w="1904" h="1044">
                <a:moveTo>
                  <a:pt x="1827" y="0"/>
                </a:moveTo>
                <a:lnTo>
                  <a:pt x="1883" y="24"/>
                </a:lnTo>
                <a:lnTo>
                  <a:pt x="1884" y="31"/>
                </a:lnTo>
                <a:lnTo>
                  <a:pt x="1883" y="40"/>
                </a:lnTo>
                <a:lnTo>
                  <a:pt x="1881" y="50"/>
                </a:lnTo>
                <a:lnTo>
                  <a:pt x="1878" y="61"/>
                </a:lnTo>
                <a:lnTo>
                  <a:pt x="1873" y="74"/>
                </a:lnTo>
                <a:lnTo>
                  <a:pt x="1859" y="149"/>
                </a:lnTo>
                <a:lnTo>
                  <a:pt x="1850" y="219"/>
                </a:lnTo>
                <a:lnTo>
                  <a:pt x="1845" y="295"/>
                </a:lnTo>
                <a:lnTo>
                  <a:pt x="1842" y="369"/>
                </a:lnTo>
                <a:lnTo>
                  <a:pt x="1841" y="392"/>
                </a:lnTo>
                <a:lnTo>
                  <a:pt x="1841" y="414"/>
                </a:lnTo>
                <a:lnTo>
                  <a:pt x="1845" y="485"/>
                </a:lnTo>
                <a:lnTo>
                  <a:pt x="1864" y="545"/>
                </a:lnTo>
                <a:lnTo>
                  <a:pt x="1885" y="583"/>
                </a:lnTo>
                <a:lnTo>
                  <a:pt x="1890" y="592"/>
                </a:lnTo>
                <a:lnTo>
                  <a:pt x="1904" y="630"/>
                </a:lnTo>
                <a:lnTo>
                  <a:pt x="1904" y="637"/>
                </a:lnTo>
                <a:lnTo>
                  <a:pt x="1859" y="679"/>
                </a:lnTo>
                <a:lnTo>
                  <a:pt x="1794" y="701"/>
                </a:lnTo>
                <a:lnTo>
                  <a:pt x="1730" y="714"/>
                </a:lnTo>
                <a:lnTo>
                  <a:pt x="1661" y="723"/>
                </a:lnTo>
                <a:lnTo>
                  <a:pt x="1594" y="729"/>
                </a:lnTo>
                <a:lnTo>
                  <a:pt x="1522" y="732"/>
                </a:lnTo>
                <a:lnTo>
                  <a:pt x="1493" y="733"/>
                </a:lnTo>
                <a:lnTo>
                  <a:pt x="1475" y="733"/>
                </a:lnTo>
                <a:lnTo>
                  <a:pt x="1397" y="731"/>
                </a:lnTo>
                <a:lnTo>
                  <a:pt x="1336" y="727"/>
                </a:lnTo>
                <a:lnTo>
                  <a:pt x="1275" y="722"/>
                </a:lnTo>
                <a:lnTo>
                  <a:pt x="1196" y="715"/>
                </a:lnTo>
                <a:lnTo>
                  <a:pt x="1127" y="707"/>
                </a:lnTo>
                <a:lnTo>
                  <a:pt x="1120" y="706"/>
                </a:lnTo>
                <a:lnTo>
                  <a:pt x="1112" y="706"/>
                </a:lnTo>
                <a:lnTo>
                  <a:pt x="1104" y="705"/>
                </a:lnTo>
                <a:lnTo>
                  <a:pt x="1096" y="705"/>
                </a:lnTo>
                <a:lnTo>
                  <a:pt x="1087" y="705"/>
                </a:lnTo>
                <a:lnTo>
                  <a:pt x="1079" y="705"/>
                </a:lnTo>
                <a:lnTo>
                  <a:pt x="1018" y="708"/>
                </a:lnTo>
                <a:lnTo>
                  <a:pt x="1010" y="709"/>
                </a:lnTo>
                <a:lnTo>
                  <a:pt x="1010" y="709"/>
                </a:lnTo>
                <a:lnTo>
                  <a:pt x="981" y="655"/>
                </a:lnTo>
                <a:lnTo>
                  <a:pt x="981" y="646"/>
                </a:lnTo>
                <a:lnTo>
                  <a:pt x="983" y="635"/>
                </a:lnTo>
                <a:lnTo>
                  <a:pt x="986" y="623"/>
                </a:lnTo>
                <a:lnTo>
                  <a:pt x="989" y="610"/>
                </a:lnTo>
                <a:lnTo>
                  <a:pt x="991" y="598"/>
                </a:lnTo>
                <a:lnTo>
                  <a:pt x="951" y="553"/>
                </a:lnTo>
                <a:lnTo>
                  <a:pt x="882" y="540"/>
                </a:lnTo>
                <a:lnTo>
                  <a:pt x="863" y="540"/>
                </a:lnTo>
                <a:lnTo>
                  <a:pt x="844" y="540"/>
                </a:lnTo>
                <a:lnTo>
                  <a:pt x="777" y="554"/>
                </a:lnTo>
                <a:lnTo>
                  <a:pt x="746" y="587"/>
                </a:lnTo>
                <a:lnTo>
                  <a:pt x="746" y="591"/>
                </a:lnTo>
                <a:lnTo>
                  <a:pt x="755" y="650"/>
                </a:lnTo>
                <a:lnTo>
                  <a:pt x="776" y="684"/>
                </a:lnTo>
                <a:lnTo>
                  <a:pt x="776" y="685"/>
                </a:lnTo>
                <a:lnTo>
                  <a:pt x="777" y="752"/>
                </a:lnTo>
                <a:lnTo>
                  <a:pt x="777" y="780"/>
                </a:lnTo>
                <a:lnTo>
                  <a:pt x="777" y="795"/>
                </a:lnTo>
                <a:lnTo>
                  <a:pt x="756" y="855"/>
                </a:lnTo>
                <a:lnTo>
                  <a:pt x="706" y="894"/>
                </a:lnTo>
                <a:lnTo>
                  <a:pt x="649" y="905"/>
                </a:lnTo>
                <a:lnTo>
                  <a:pt x="641" y="905"/>
                </a:lnTo>
                <a:lnTo>
                  <a:pt x="588" y="882"/>
                </a:lnTo>
                <a:lnTo>
                  <a:pt x="587" y="879"/>
                </a:lnTo>
                <a:lnTo>
                  <a:pt x="553" y="826"/>
                </a:lnTo>
                <a:lnTo>
                  <a:pt x="512" y="803"/>
                </a:lnTo>
                <a:lnTo>
                  <a:pt x="506" y="803"/>
                </a:lnTo>
                <a:lnTo>
                  <a:pt x="477" y="823"/>
                </a:lnTo>
                <a:lnTo>
                  <a:pt x="470" y="829"/>
                </a:lnTo>
                <a:lnTo>
                  <a:pt x="413" y="861"/>
                </a:lnTo>
                <a:lnTo>
                  <a:pt x="369" y="880"/>
                </a:lnTo>
                <a:lnTo>
                  <a:pt x="358" y="885"/>
                </a:lnTo>
                <a:lnTo>
                  <a:pt x="303" y="911"/>
                </a:lnTo>
                <a:lnTo>
                  <a:pt x="277" y="948"/>
                </a:lnTo>
                <a:lnTo>
                  <a:pt x="275" y="952"/>
                </a:lnTo>
                <a:lnTo>
                  <a:pt x="245" y="993"/>
                </a:lnTo>
                <a:lnTo>
                  <a:pt x="240" y="997"/>
                </a:lnTo>
                <a:lnTo>
                  <a:pt x="235" y="1001"/>
                </a:lnTo>
                <a:lnTo>
                  <a:pt x="230" y="1006"/>
                </a:lnTo>
                <a:lnTo>
                  <a:pt x="225" y="1012"/>
                </a:lnTo>
                <a:lnTo>
                  <a:pt x="219" y="1018"/>
                </a:lnTo>
                <a:lnTo>
                  <a:pt x="214" y="1024"/>
                </a:lnTo>
                <a:lnTo>
                  <a:pt x="178" y="1044"/>
                </a:lnTo>
                <a:lnTo>
                  <a:pt x="172" y="1043"/>
                </a:lnTo>
                <a:lnTo>
                  <a:pt x="129" y="983"/>
                </a:lnTo>
                <a:lnTo>
                  <a:pt x="114" y="940"/>
                </a:lnTo>
                <a:lnTo>
                  <a:pt x="105" y="920"/>
                </a:lnTo>
                <a:lnTo>
                  <a:pt x="77" y="864"/>
                </a:lnTo>
                <a:lnTo>
                  <a:pt x="58" y="830"/>
                </a:lnTo>
                <a:lnTo>
                  <a:pt x="48" y="813"/>
                </a:lnTo>
                <a:lnTo>
                  <a:pt x="17" y="749"/>
                </a:lnTo>
                <a:lnTo>
                  <a:pt x="1" y="680"/>
                </a:lnTo>
                <a:lnTo>
                  <a:pt x="0" y="660"/>
                </a:lnTo>
                <a:lnTo>
                  <a:pt x="1" y="640"/>
                </a:lnTo>
                <a:lnTo>
                  <a:pt x="4" y="619"/>
                </a:lnTo>
                <a:lnTo>
                  <a:pt x="9" y="596"/>
                </a:lnTo>
                <a:lnTo>
                  <a:pt x="14" y="574"/>
                </a:lnTo>
                <a:lnTo>
                  <a:pt x="17" y="555"/>
                </a:lnTo>
                <a:lnTo>
                  <a:pt x="20" y="540"/>
                </a:lnTo>
                <a:lnTo>
                  <a:pt x="21" y="526"/>
                </a:lnTo>
                <a:lnTo>
                  <a:pt x="22" y="515"/>
                </a:lnTo>
                <a:lnTo>
                  <a:pt x="22" y="506"/>
                </a:lnTo>
                <a:lnTo>
                  <a:pt x="13" y="479"/>
                </a:lnTo>
                <a:lnTo>
                  <a:pt x="12" y="476"/>
                </a:lnTo>
                <a:lnTo>
                  <a:pt x="11" y="472"/>
                </a:lnTo>
                <a:lnTo>
                  <a:pt x="10" y="469"/>
                </a:lnTo>
                <a:lnTo>
                  <a:pt x="11" y="464"/>
                </a:lnTo>
                <a:lnTo>
                  <a:pt x="38" y="401"/>
                </a:lnTo>
                <a:lnTo>
                  <a:pt x="78" y="357"/>
                </a:lnTo>
                <a:lnTo>
                  <a:pt x="103" y="350"/>
                </a:lnTo>
                <a:lnTo>
                  <a:pt x="108" y="350"/>
                </a:lnTo>
                <a:lnTo>
                  <a:pt x="113" y="351"/>
                </a:lnTo>
                <a:lnTo>
                  <a:pt x="118" y="351"/>
                </a:lnTo>
                <a:lnTo>
                  <a:pt x="123" y="352"/>
                </a:lnTo>
                <a:lnTo>
                  <a:pt x="129" y="354"/>
                </a:lnTo>
                <a:lnTo>
                  <a:pt x="136" y="355"/>
                </a:lnTo>
                <a:lnTo>
                  <a:pt x="203" y="367"/>
                </a:lnTo>
                <a:lnTo>
                  <a:pt x="268" y="375"/>
                </a:lnTo>
                <a:lnTo>
                  <a:pt x="303" y="377"/>
                </a:lnTo>
                <a:lnTo>
                  <a:pt x="312" y="376"/>
                </a:lnTo>
                <a:lnTo>
                  <a:pt x="320" y="376"/>
                </a:lnTo>
                <a:lnTo>
                  <a:pt x="327" y="375"/>
                </a:lnTo>
                <a:lnTo>
                  <a:pt x="332" y="373"/>
                </a:lnTo>
                <a:lnTo>
                  <a:pt x="340" y="373"/>
                </a:lnTo>
                <a:lnTo>
                  <a:pt x="401" y="345"/>
                </a:lnTo>
                <a:lnTo>
                  <a:pt x="449" y="296"/>
                </a:lnTo>
                <a:lnTo>
                  <a:pt x="456" y="289"/>
                </a:lnTo>
                <a:lnTo>
                  <a:pt x="482" y="264"/>
                </a:lnTo>
                <a:lnTo>
                  <a:pt x="486" y="261"/>
                </a:lnTo>
                <a:lnTo>
                  <a:pt x="509" y="235"/>
                </a:lnTo>
                <a:lnTo>
                  <a:pt x="511" y="232"/>
                </a:lnTo>
                <a:lnTo>
                  <a:pt x="564" y="203"/>
                </a:lnTo>
                <a:lnTo>
                  <a:pt x="640" y="178"/>
                </a:lnTo>
                <a:lnTo>
                  <a:pt x="711" y="157"/>
                </a:lnTo>
                <a:lnTo>
                  <a:pt x="725" y="153"/>
                </a:lnTo>
                <a:lnTo>
                  <a:pt x="787" y="129"/>
                </a:lnTo>
                <a:lnTo>
                  <a:pt x="811" y="110"/>
                </a:lnTo>
                <a:lnTo>
                  <a:pt x="816" y="105"/>
                </a:lnTo>
                <a:lnTo>
                  <a:pt x="860" y="83"/>
                </a:lnTo>
                <a:lnTo>
                  <a:pt x="865" y="82"/>
                </a:lnTo>
                <a:lnTo>
                  <a:pt x="909" y="49"/>
                </a:lnTo>
                <a:lnTo>
                  <a:pt x="916" y="41"/>
                </a:lnTo>
                <a:lnTo>
                  <a:pt x="972" y="13"/>
                </a:lnTo>
                <a:lnTo>
                  <a:pt x="1041" y="6"/>
                </a:lnTo>
                <a:lnTo>
                  <a:pt x="1057" y="6"/>
                </a:lnTo>
                <a:lnTo>
                  <a:pt x="1128" y="13"/>
                </a:lnTo>
                <a:lnTo>
                  <a:pt x="1188" y="24"/>
                </a:lnTo>
                <a:lnTo>
                  <a:pt x="1211" y="27"/>
                </a:lnTo>
                <a:lnTo>
                  <a:pt x="1235" y="30"/>
                </a:lnTo>
                <a:lnTo>
                  <a:pt x="1262" y="31"/>
                </a:lnTo>
                <a:lnTo>
                  <a:pt x="1290" y="32"/>
                </a:lnTo>
                <a:lnTo>
                  <a:pt x="1320" y="32"/>
                </a:lnTo>
                <a:lnTo>
                  <a:pt x="1350" y="32"/>
                </a:lnTo>
                <a:lnTo>
                  <a:pt x="1413" y="29"/>
                </a:lnTo>
                <a:lnTo>
                  <a:pt x="1475" y="25"/>
                </a:lnTo>
                <a:lnTo>
                  <a:pt x="1562" y="17"/>
                </a:lnTo>
                <a:lnTo>
                  <a:pt x="1633" y="10"/>
                </a:lnTo>
                <a:lnTo>
                  <a:pt x="1652" y="8"/>
                </a:lnTo>
                <a:lnTo>
                  <a:pt x="1667" y="6"/>
                </a:lnTo>
                <a:lnTo>
                  <a:pt x="1679" y="5"/>
                </a:lnTo>
                <a:lnTo>
                  <a:pt x="1687" y="5"/>
                </a:lnTo>
                <a:lnTo>
                  <a:pt x="1709" y="4"/>
                </a:lnTo>
                <a:lnTo>
                  <a:pt x="1729" y="3"/>
                </a:lnTo>
                <a:lnTo>
                  <a:pt x="1749" y="3"/>
                </a:lnTo>
                <a:lnTo>
                  <a:pt x="1767" y="2"/>
                </a:lnTo>
                <a:lnTo>
                  <a:pt x="1784" y="1"/>
                </a:lnTo>
                <a:lnTo>
                  <a:pt x="1800" y="0"/>
                </a:lnTo>
                <a:lnTo>
                  <a:pt x="1814" y="0"/>
                </a:lnTo>
                <a:lnTo>
                  <a:pt x="1827" y="0"/>
                </a:lnTo>
                <a:close/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690640"/>
            <a:ext cx="2113200" cy="1162080"/>
          </a:xfrm>
          <a:custGeom>
            <a:avLst/>
            <a:gdLst/>
            <a:ahLst/>
            <a:rect l="l" t="t" r="r" b="b"/>
            <a:pathLst>
              <a:path w="1904" h="1044">
                <a:moveTo>
                  <a:pt x="1827" y="0"/>
                </a:moveTo>
                <a:lnTo>
                  <a:pt x="1883" y="24"/>
                </a:lnTo>
                <a:lnTo>
                  <a:pt x="1884" y="31"/>
                </a:lnTo>
                <a:lnTo>
                  <a:pt x="1883" y="39"/>
                </a:lnTo>
                <a:lnTo>
                  <a:pt x="1881" y="49"/>
                </a:lnTo>
                <a:lnTo>
                  <a:pt x="1877" y="61"/>
                </a:lnTo>
                <a:lnTo>
                  <a:pt x="1873" y="74"/>
                </a:lnTo>
                <a:lnTo>
                  <a:pt x="1859" y="148"/>
                </a:lnTo>
                <a:lnTo>
                  <a:pt x="1850" y="219"/>
                </a:lnTo>
                <a:lnTo>
                  <a:pt x="1845" y="295"/>
                </a:lnTo>
                <a:lnTo>
                  <a:pt x="1842" y="369"/>
                </a:lnTo>
                <a:lnTo>
                  <a:pt x="1841" y="392"/>
                </a:lnTo>
                <a:lnTo>
                  <a:pt x="1841" y="414"/>
                </a:lnTo>
                <a:lnTo>
                  <a:pt x="1845" y="485"/>
                </a:lnTo>
                <a:lnTo>
                  <a:pt x="1864" y="544"/>
                </a:lnTo>
                <a:lnTo>
                  <a:pt x="1885" y="583"/>
                </a:lnTo>
                <a:lnTo>
                  <a:pt x="1889" y="591"/>
                </a:lnTo>
                <a:lnTo>
                  <a:pt x="1904" y="629"/>
                </a:lnTo>
                <a:lnTo>
                  <a:pt x="1904" y="636"/>
                </a:lnTo>
                <a:lnTo>
                  <a:pt x="1858" y="678"/>
                </a:lnTo>
                <a:lnTo>
                  <a:pt x="1794" y="700"/>
                </a:lnTo>
                <a:lnTo>
                  <a:pt x="1730" y="714"/>
                </a:lnTo>
                <a:lnTo>
                  <a:pt x="1661" y="723"/>
                </a:lnTo>
                <a:lnTo>
                  <a:pt x="1594" y="728"/>
                </a:lnTo>
                <a:lnTo>
                  <a:pt x="1522" y="732"/>
                </a:lnTo>
                <a:lnTo>
                  <a:pt x="1493" y="732"/>
                </a:lnTo>
                <a:lnTo>
                  <a:pt x="1475" y="732"/>
                </a:lnTo>
                <a:lnTo>
                  <a:pt x="1397" y="730"/>
                </a:lnTo>
                <a:lnTo>
                  <a:pt x="1336" y="726"/>
                </a:lnTo>
                <a:lnTo>
                  <a:pt x="1274" y="722"/>
                </a:lnTo>
                <a:lnTo>
                  <a:pt x="1196" y="714"/>
                </a:lnTo>
                <a:lnTo>
                  <a:pt x="1127" y="706"/>
                </a:lnTo>
                <a:lnTo>
                  <a:pt x="1120" y="705"/>
                </a:lnTo>
                <a:lnTo>
                  <a:pt x="1113" y="705"/>
                </a:lnTo>
                <a:lnTo>
                  <a:pt x="1078" y="702"/>
                </a:lnTo>
                <a:lnTo>
                  <a:pt x="1074" y="702"/>
                </a:lnTo>
                <a:lnTo>
                  <a:pt x="1010" y="709"/>
                </a:lnTo>
                <a:lnTo>
                  <a:pt x="1010" y="708"/>
                </a:lnTo>
                <a:lnTo>
                  <a:pt x="980" y="655"/>
                </a:lnTo>
                <a:lnTo>
                  <a:pt x="981" y="645"/>
                </a:lnTo>
                <a:lnTo>
                  <a:pt x="983" y="634"/>
                </a:lnTo>
                <a:lnTo>
                  <a:pt x="985" y="623"/>
                </a:lnTo>
                <a:lnTo>
                  <a:pt x="989" y="610"/>
                </a:lnTo>
                <a:lnTo>
                  <a:pt x="991" y="597"/>
                </a:lnTo>
                <a:lnTo>
                  <a:pt x="951" y="553"/>
                </a:lnTo>
                <a:lnTo>
                  <a:pt x="881" y="540"/>
                </a:lnTo>
                <a:lnTo>
                  <a:pt x="862" y="539"/>
                </a:lnTo>
                <a:lnTo>
                  <a:pt x="843" y="540"/>
                </a:lnTo>
                <a:lnTo>
                  <a:pt x="777" y="553"/>
                </a:lnTo>
                <a:lnTo>
                  <a:pt x="746" y="587"/>
                </a:lnTo>
                <a:lnTo>
                  <a:pt x="746" y="590"/>
                </a:lnTo>
                <a:lnTo>
                  <a:pt x="755" y="650"/>
                </a:lnTo>
                <a:lnTo>
                  <a:pt x="777" y="684"/>
                </a:lnTo>
                <a:lnTo>
                  <a:pt x="777" y="684"/>
                </a:lnTo>
                <a:lnTo>
                  <a:pt x="777" y="685"/>
                </a:lnTo>
                <a:lnTo>
                  <a:pt x="778" y="685"/>
                </a:lnTo>
                <a:lnTo>
                  <a:pt x="778" y="686"/>
                </a:lnTo>
                <a:lnTo>
                  <a:pt x="778" y="687"/>
                </a:lnTo>
                <a:lnTo>
                  <a:pt x="778" y="689"/>
                </a:lnTo>
                <a:lnTo>
                  <a:pt x="748" y="742"/>
                </a:lnTo>
                <a:lnTo>
                  <a:pt x="742" y="750"/>
                </a:lnTo>
                <a:lnTo>
                  <a:pt x="710" y="813"/>
                </a:lnTo>
                <a:lnTo>
                  <a:pt x="705" y="824"/>
                </a:lnTo>
                <a:lnTo>
                  <a:pt x="673" y="882"/>
                </a:lnTo>
                <a:lnTo>
                  <a:pt x="640" y="904"/>
                </a:lnTo>
                <a:lnTo>
                  <a:pt x="632" y="903"/>
                </a:lnTo>
                <a:lnTo>
                  <a:pt x="587" y="881"/>
                </a:lnTo>
                <a:lnTo>
                  <a:pt x="587" y="878"/>
                </a:lnTo>
                <a:lnTo>
                  <a:pt x="552" y="825"/>
                </a:lnTo>
                <a:lnTo>
                  <a:pt x="512" y="803"/>
                </a:lnTo>
                <a:lnTo>
                  <a:pt x="506" y="803"/>
                </a:lnTo>
                <a:lnTo>
                  <a:pt x="477" y="822"/>
                </a:lnTo>
                <a:lnTo>
                  <a:pt x="470" y="828"/>
                </a:lnTo>
                <a:lnTo>
                  <a:pt x="413" y="861"/>
                </a:lnTo>
                <a:lnTo>
                  <a:pt x="369" y="880"/>
                </a:lnTo>
                <a:lnTo>
                  <a:pt x="358" y="884"/>
                </a:lnTo>
                <a:lnTo>
                  <a:pt x="303" y="911"/>
                </a:lnTo>
                <a:lnTo>
                  <a:pt x="277" y="947"/>
                </a:lnTo>
                <a:lnTo>
                  <a:pt x="275" y="951"/>
                </a:lnTo>
                <a:lnTo>
                  <a:pt x="245" y="992"/>
                </a:lnTo>
                <a:lnTo>
                  <a:pt x="240" y="996"/>
                </a:lnTo>
                <a:lnTo>
                  <a:pt x="235" y="1001"/>
                </a:lnTo>
                <a:lnTo>
                  <a:pt x="230" y="1006"/>
                </a:lnTo>
                <a:lnTo>
                  <a:pt x="225" y="1012"/>
                </a:lnTo>
                <a:lnTo>
                  <a:pt x="219" y="1018"/>
                </a:lnTo>
                <a:lnTo>
                  <a:pt x="214" y="1023"/>
                </a:lnTo>
                <a:lnTo>
                  <a:pt x="178" y="1044"/>
                </a:lnTo>
                <a:lnTo>
                  <a:pt x="171" y="1042"/>
                </a:lnTo>
                <a:lnTo>
                  <a:pt x="129" y="982"/>
                </a:lnTo>
                <a:lnTo>
                  <a:pt x="113" y="940"/>
                </a:lnTo>
                <a:lnTo>
                  <a:pt x="105" y="919"/>
                </a:lnTo>
                <a:lnTo>
                  <a:pt x="77" y="863"/>
                </a:lnTo>
                <a:lnTo>
                  <a:pt x="58" y="829"/>
                </a:lnTo>
                <a:lnTo>
                  <a:pt x="48" y="813"/>
                </a:lnTo>
                <a:lnTo>
                  <a:pt x="17" y="748"/>
                </a:lnTo>
                <a:lnTo>
                  <a:pt x="1" y="679"/>
                </a:lnTo>
                <a:lnTo>
                  <a:pt x="0" y="660"/>
                </a:lnTo>
                <a:lnTo>
                  <a:pt x="1" y="639"/>
                </a:lnTo>
                <a:lnTo>
                  <a:pt x="4" y="618"/>
                </a:lnTo>
                <a:lnTo>
                  <a:pt x="9" y="595"/>
                </a:lnTo>
                <a:lnTo>
                  <a:pt x="14" y="573"/>
                </a:lnTo>
                <a:lnTo>
                  <a:pt x="18" y="553"/>
                </a:lnTo>
                <a:lnTo>
                  <a:pt x="28" y="493"/>
                </a:lnTo>
                <a:lnTo>
                  <a:pt x="32" y="455"/>
                </a:lnTo>
                <a:lnTo>
                  <a:pt x="33" y="448"/>
                </a:lnTo>
                <a:lnTo>
                  <a:pt x="49" y="385"/>
                </a:lnTo>
                <a:lnTo>
                  <a:pt x="80" y="327"/>
                </a:lnTo>
                <a:lnTo>
                  <a:pt x="130" y="292"/>
                </a:lnTo>
                <a:lnTo>
                  <a:pt x="135" y="292"/>
                </a:lnTo>
                <a:lnTo>
                  <a:pt x="140" y="292"/>
                </a:lnTo>
                <a:lnTo>
                  <a:pt x="197" y="308"/>
                </a:lnTo>
                <a:lnTo>
                  <a:pt x="206" y="311"/>
                </a:lnTo>
                <a:lnTo>
                  <a:pt x="271" y="331"/>
                </a:lnTo>
                <a:lnTo>
                  <a:pt x="294" y="334"/>
                </a:lnTo>
                <a:lnTo>
                  <a:pt x="300" y="334"/>
                </a:lnTo>
                <a:lnTo>
                  <a:pt x="306" y="333"/>
                </a:lnTo>
                <a:lnTo>
                  <a:pt x="311" y="332"/>
                </a:lnTo>
                <a:lnTo>
                  <a:pt x="319" y="332"/>
                </a:lnTo>
                <a:lnTo>
                  <a:pt x="387" y="318"/>
                </a:lnTo>
                <a:lnTo>
                  <a:pt x="446" y="289"/>
                </a:lnTo>
                <a:lnTo>
                  <a:pt x="496" y="250"/>
                </a:lnTo>
                <a:lnTo>
                  <a:pt x="509" y="234"/>
                </a:lnTo>
                <a:lnTo>
                  <a:pt x="511" y="232"/>
                </a:lnTo>
                <a:lnTo>
                  <a:pt x="564" y="203"/>
                </a:lnTo>
                <a:lnTo>
                  <a:pt x="640" y="178"/>
                </a:lnTo>
                <a:lnTo>
                  <a:pt x="711" y="156"/>
                </a:lnTo>
                <a:lnTo>
                  <a:pt x="725" y="152"/>
                </a:lnTo>
                <a:lnTo>
                  <a:pt x="787" y="129"/>
                </a:lnTo>
                <a:lnTo>
                  <a:pt x="811" y="110"/>
                </a:lnTo>
                <a:lnTo>
                  <a:pt x="816" y="104"/>
                </a:lnTo>
                <a:lnTo>
                  <a:pt x="860" y="82"/>
                </a:lnTo>
                <a:lnTo>
                  <a:pt x="864" y="81"/>
                </a:lnTo>
                <a:lnTo>
                  <a:pt x="909" y="48"/>
                </a:lnTo>
                <a:lnTo>
                  <a:pt x="916" y="41"/>
                </a:lnTo>
                <a:lnTo>
                  <a:pt x="972" y="12"/>
                </a:lnTo>
                <a:lnTo>
                  <a:pt x="1041" y="5"/>
                </a:lnTo>
                <a:lnTo>
                  <a:pt x="1057" y="6"/>
                </a:lnTo>
                <a:lnTo>
                  <a:pt x="1128" y="13"/>
                </a:lnTo>
                <a:lnTo>
                  <a:pt x="1188" y="23"/>
                </a:lnTo>
                <a:lnTo>
                  <a:pt x="1211" y="27"/>
                </a:lnTo>
                <a:lnTo>
                  <a:pt x="1235" y="29"/>
                </a:lnTo>
                <a:lnTo>
                  <a:pt x="1262" y="31"/>
                </a:lnTo>
                <a:lnTo>
                  <a:pt x="1290" y="32"/>
                </a:lnTo>
                <a:lnTo>
                  <a:pt x="1320" y="32"/>
                </a:lnTo>
                <a:lnTo>
                  <a:pt x="1350" y="31"/>
                </a:lnTo>
                <a:lnTo>
                  <a:pt x="1413" y="28"/>
                </a:lnTo>
                <a:lnTo>
                  <a:pt x="1475" y="24"/>
                </a:lnTo>
                <a:lnTo>
                  <a:pt x="1562" y="16"/>
                </a:lnTo>
                <a:lnTo>
                  <a:pt x="1633" y="9"/>
                </a:lnTo>
                <a:lnTo>
                  <a:pt x="1652" y="7"/>
                </a:lnTo>
                <a:lnTo>
                  <a:pt x="1667" y="6"/>
                </a:lnTo>
                <a:lnTo>
                  <a:pt x="1679" y="5"/>
                </a:lnTo>
                <a:lnTo>
                  <a:pt x="1687" y="4"/>
                </a:lnTo>
                <a:lnTo>
                  <a:pt x="1709" y="4"/>
                </a:lnTo>
                <a:lnTo>
                  <a:pt x="1729" y="3"/>
                </a:lnTo>
                <a:lnTo>
                  <a:pt x="1749" y="2"/>
                </a:lnTo>
                <a:lnTo>
                  <a:pt x="1767" y="1"/>
                </a:lnTo>
                <a:lnTo>
                  <a:pt x="1784" y="0"/>
                </a:lnTo>
                <a:lnTo>
                  <a:pt x="1799" y="0"/>
                </a:lnTo>
                <a:lnTo>
                  <a:pt x="1814" y="0"/>
                </a:lnTo>
                <a:lnTo>
                  <a:pt x="1827" y="0"/>
                </a:lnTo>
                <a:close/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81000" y="2416320"/>
            <a:ext cx="674640" cy="652320"/>
          </a:xfrm>
          <a:custGeom>
            <a:avLst/>
            <a:gdLst/>
            <a:ahLst/>
            <a:rect l="l" t="t" r="r" b="b"/>
            <a:pathLst>
              <a:path w="606" h="589">
                <a:moveTo>
                  <a:pt x="241" y="0"/>
                </a:moveTo>
                <a:lnTo>
                  <a:pt x="296" y="24"/>
                </a:lnTo>
                <a:lnTo>
                  <a:pt x="344" y="76"/>
                </a:lnTo>
                <a:lnTo>
                  <a:pt x="377" y="139"/>
                </a:lnTo>
                <a:lnTo>
                  <a:pt x="401" y="202"/>
                </a:lnTo>
                <a:lnTo>
                  <a:pt x="409" y="229"/>
                </a:lnTo>
                <a:lnTo>
                  <a:pt x="413" y="240"/>
                </a:lnTo>
                <a:lnTo>
                  <a:pt x="440" y="296"/>
                </a:lnTo>
                <a:lnTo>
                  <a:pt x="502" y="322"/>
                </a:lnTo>
                <a:lnTo>
                  <a:pt x="561" y="336"/>
                </a:lnTo>
                <a:lnTo>
                  <a:pt x="579" y="348"/>
                </a:lnTo>
                <a:lnTo>
                  <a:pt x="593" y="359"/>
                </a:lnTo>
                <a:lnTo>
                  <a:pt x="602" y="371"/>
                </a:lnTo>
                <a:lnTo>
                  <a:pt x="606" y="383"/>
                </a:lnTo>
                <a:lnTo>
                  <a:pt x="606" y="395"/>
                </a:lnTo>
                <a:lnTo>
                  <a:pt x="603" y="407"/>
                </a:lnTo>
                <a:lnTo>
                  <a:pt x="559" y="457"/>
                </a:lnTo>
                <a:lnTo>
                  <a:pt x="504" y="495"/>
                </a:lnTo>
                <a:lnTo>
                  <a:pt x="440" y="535"/>
                </a:lnTo>
                <a:lnTo>
                  <a:pt x="418" y="548"/>
                </a:lnTo>
                <a:lnTo>
                  <a:pt x="397" y="562"/>
                </a:lnTo>
                <a:lnTo>
                  <a:pt x="376" y="575"/>
                </a:lnTo>
                <a:lnTo>
                  <a:pt x="356" y="589"/>
                </a:lnTo>
                <a:lnTo>
                  <a:pt x="347" y="585"/>
                </a:lnTo>
                <a:lnTo>
                  <a:pt x="307" y="540"/>
                </a:lnTo>
                <a:lnTo>
                  <a:pt x="306" y="532"/>
                </a:lnTo>
                <a:lnTo>
                  <a:pt x="305" y="524"/>
                </a:lnTo>
                <a:lnTo>
                  <a:pt x="272" y="469"/>
                </a:lnTo>
                <a:lnTo>
                  <a:pt x="214" y="450"/>
                </a:lnTo>
                <a:lnTo>
                  <a:pt x="167" y="441"/>
                </a:lnTo>
                <a:lnTo>
                  <a:pt x="159" y="440"/>
                </a:lnTo>
                <a:lnTo>
                  <a:pt x="98" y="424"/>
                </a:lnTo>
                <a:lnTo>
                  <a:pt x="47" y="387"/>
                </a:lnTo>
                <a:lnTo>
                  <a:pt x="39" y="380"/>
                </a:lnTo>
                <a:lnTo>
                  <a:pt x="35" y="376"/>
                </a:lnTo>
                <a:lnTo>
                  <a:pt x="31" y="373"/>
                </a:lnTo>
                <a:lnTo>
                  <a:pt x="27" y="369"/>
                </a:lnTo>
                <a:lnTo>
                  <a:pt x="23" y="366"/>
                </a:lnTo>
                <a:lnTo>
                  <a:pt x="20" y="363"/>
                </a:lnTo>
                <a:lnTo>
                  <a:pt x="0" y="304"/>
                </a:lnTo>
                <a:lnTo>
                  <a:pt x="0" y="293"/>
                </a:lnTo>
                <a:lnTo>
                  <a:pt x="0" y="287"/>
                </a:lnTo>
                <a:lnTo>
                  <a:pt x="15" y="224"/>
                </a:lnTo>
                <a:lnTo>
                  <a:pt x="55" y="170"/>
                </a:lnTo>
                <a:lnTo>
                  <a:pt x="89" y="147"/>
                </a:lnTo>
                <a:lnTo>
                  <a:pt x="93" y="145"/>
                </a:lnTo>
                <a:lnTo>
                  <a:pt x="116" y="94"/>
                </a:lnTo>
                <a:lnTo>
                  <a:pt x="117" y="90"/>
                </a:lnTo>
                <a:lnTo>
                  <a:pt x="156" y="36"/>
                </a:lnTo>
                <a:lnTo>
                  <a:pt x="214" y="2"/>
                </a:lnTo>
                <a:lnTo>
                  <a:pt x="232" y="0"/>
                </a:lnTo>
                <a:lnTo>
                  <a:pt x="24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81000" y="2416320"/>
            <a:ext cx="674640" cy="652320"/>
          </a:xfrm>
          <a:custGeom>
            <a:avLst/>
            <a:gdLst/>
            <a:ahLst/>
            <a:rect l="l" t="t" r="r" b="b"/>
            <a:pathLst>
              <a:path w="606" h="589">
                <a:moveTo>
                  <a:pt x="356" y="589"/>
                </a:moveTo>
                <a:lnTo>
                  <a:pt x="418" y="548"/>
                </a:lnTo>
                <a:lnTo>
                  <a:pt x="462" y="522"/>
                </a:lnTo>
                <a:lnTo>
                  <a:pt x="483" y="508"/>
                </a:lnTo>
                <a:lnTo>
                  <a:pt x="542" y="470"/>
                </a:lnTo>
                <a:lnTo>
                  <a:pt x="596" y="420"/>
                </a:lnTo>
                <a:lnTo>
                  <a:pt x="606" y="395"/>
                </a:lnTo>
                <a:lnTo>
                  <a:pt x="606" y="383"/>
                </a:lnTo>
                <a:lnTo>
                  <a:pt x="561" y="336"/>
                </a:lnTo>
                <a:lnTo>
                  <a:pt x="544" y="332"/>
                </a:lnTo>
                <a:lnTo>
                  <a:pt x="528" y="328"/>
                </a:lnTo>
                <a:lnTo>
                  <a:pt x="465" y="311"/>
                </a:lnTo>
                <a:lnTo>
                  <a:pt x="423" y="266"/>
                </a:lnTo>
                <a:lnTo>
                  <a:pt x="405" y="216"/>
                </a:lnTo>
                <a:lnTo>
                  <a:pt x="401" y="202"/>
                </a:lnTo>
                <a:lnTo>
                  <a:pt x="377" y="139"/>
                </a:lnTo>
                <a:lnTo>
                  <a:pt x="344" y="76"/>
                </a:lnTo>
                <a:lnTo>
                  <a:pt x="296" y="24"/>
                </a:lnTo>
                <a:lnTo>
                  <a:pt x="241" y="0"/>
                </a:lnTo>
                <a:lnTo>
                  <a:pt x="232" y="0"/>
                </a:lnTo>
                <a:lnTo>
                  <a:pt x="223" y="0"/>
                </a:lnTo>
                <a:lnTo>
                  <a:pt x="163" y="29"/>
                </a:lnTo>
                <a:lnTo>
                  <a:pt x="123" y="75"/>
                </a:lnTo>
                <a:lnTo>
                  <a:pt x="116" y="99"/>
                </a:lnTo>
                <a:lnTo>
                  <a:pt x="115" y="103"/>
                </a:lnTo>
                <a:lnTo>
                  <a:pt x="85" y="148"/>
                </a:lnTo>
                <a:lnTo>
                  <a:pt x="80" y="150"/>
                </a:lnTo>
                <a:lnTo>
                  <a:pt x="34" y="196"/>
                </a:lnTo>
                <a:lnTo>
                  <a:pt x="3" y="252"/>
                </a:lnTo>
                <a:lnTo>
                  <a:pt x="0" y="293"/>
                </a:lnTo>
                <a:lnTo>
                  <a:pt x="0" y="299"/>
                </a:lnTo>
                <a:lnTo>
                  <a:pt x="17" y="359"/>
                </a:lnTo>
                <a:lnTo>
                  <a:pt x="27" y="369"/>
                </a:lnTo>
                <a:lnTo>
                  <a:pt x="31" y="373"/>
                </a:lnTo>
                <a:lnTo>
                  <a:pt x="35" y="376"/>
                </a:lnTo>
                <a:lnTo>
                  <a:pt x="39" y="380"/>
                </a:lnTo>
                <a:lnTo>
                  <a:pt x="42" y="384"/>
                </a:lnTo>
                <a:lnTo>
                  <a:pt x="47" y="387"/>
                </a:lnTo>
                <a:lnTo>
                  <a:pt x="98" y="424"/>
                </a:lnTo>
                <a:lnTo>
                  <a:pt x="159" y="440"/>
                </a:lnTo>
                <a:lnTo>
                  <a:pt x="175" y="443"/>
                </a:lnTo>
                <a:lnTo>
                  <a:pt x="183" y="444"/>
                </a:lnTo>
                <a:lnTo>
                  <a:pt x="244" y="458"/>
                </a:lnTo>
                <a:lnTo>
                  <a:pt x="298" y="493"/>
                </a:lnTo>
                <a:lnTo>
                  <a:pt x="307" y="540"/>
                </a:lnTo>
                <a:lnTo>
                  <a:pt x="308" y="547"/>
                </a:lnTo>
                <a:lnTo>
                  <a:pt x="338" y="586"/>
                </a:lnTo>
                <a:lnTo>
                  <a:pt x="347" y="58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7760" y="2882880"/>
            <a:ext cx="676440" cy="388800"/>
          </a:xfrm>
          <a:custGeom>
            <a:avLst/>
            <a:gdLst/>
            <a:ahLst/>
            <a:rect l="l" t="t" r="r" b="b"/>
            <a:pathLst>
              <a:path w="607" h="349">
                <a:moveTo>
                  <a:pt x="486" y="26"/>
                </a:moveTo>
                <a:lnTo>
                  <a:pt x="539" y="72"/>
                </a:lnTo>
                <a:lnTo>
                  <a:pt x="573" y="127"/>
                </a:lnTo>
                <a:lnTo>
                  <a:pt x="597" y="187"/>
                </a:lnTo>
                <a:lnTo>
                  <a:pt x="607" y="240"/>
                </a:lnTo>
                <a:lnTo>
                  <a:pt x="607" y="254"/>
                </a:lnTo>
                <a:lnTo>
                  <a:pt x="605" y="266"/>
                </a:lnTo>
                <a:lnTo>
                  <a:pt x="600" y="275"/>
                </a:lnTo>
                <a:lnTo>
                  <a:pt x="593" y="281"/>
                </a:lnTo>
                <a:lnTo>
                  <a:pt x="583" y="283"/>
                </a:lnTo>
                <a:lnTo>
                  <a:pt x="570" y="281"/>
                </a:lnTo>
                <a:lnTo>
                  <a:pt x="555" y="275"/>
                </a:lnTo>
                <a:lnTo>
                  <a:pt x="541" y="269"/>
                </a:lnTo>
                <a:lnTo>
                  <a:pt x="528" y="263"/>
                </a:lnTo>
                <a:lnTo>
                  <a:pt x="460" y="243"/>
                </a:lnTo>
                <a:lnTo>
                  <a:pt x="394" y="236"/>
                </a:lnTo>
                <a:lnTo>
                  <a:pt x="382" y="236"/>
                </a:lnTo>
                <a:lnTo>
                  <a:pt x="322" y="243"/>
                </a:lnTo>
                <a:lnTo>
                  <a:pt x="265" y="272"/>
                </a:lnTo>
                <a:lnTo>
                  <a:pt x="224" y="321"/>
                </a:lnTo>
                <a:lnTo>
                  <a:pt x="221" y="326"/>
                </a:lnTo>
                <a:lnTo>
                  <a:pt x="217" y="332"/>
                </a:lnTo>
                <a:lnTo>
                  <a:pt x="160" y="349"/>
                </a:lnTo>
                <a:lnTo>
                  <a:pt x="149" y="349"/>
                </a:lnTo>
                <a:lnTo>
                  <a:pt x="82" y="336"/>
                </a:lnTo>
                <a:lnTo>
                  <a:pt x="30" y="302"/>
                </a:lnTo>
                <a:lnTo>
                  <a:pt x="2" y="242"/>
                </a:lnTo>
                <a:lnTo>
                  <a:pt x="0" y="212"/>
                </a:lnTo>
                <a:lnTo>
                  <a:pt x="0" y="201"/>
                </a:lnTo>
                <a:lnTo>
                  <a:pt x="15" y="140"/>
                </a:lnTo>
                <a:lnTo>
                  <a:pt x="58" y="89"/>
                </a:lnTo>
                <a:lnTo>
                  <a:pt x="103" y="80"/>
                </a:lnTo>
                <a:lnTo>
                  <a:pt x="113" y="80"/>
                </a:lnTo>
                <a:lnTo>
                  <a:pt x="180" y="88"/>
                </a:lnTo>
                <a:lnTo>
                  <a:pt x="192" y="90"/>
                </a:lnTo>
                <a:lnTo>
                  <a:pt x="204" y="91"/>
                </a:lnTo>
                <a:lnTo>
                  <a:pt x="217" y="93"/>
                </a:lnTo>
                <a:lnTo>
                  <a:pt x="229" y="94"/>
                </a:lnTo>
                <a:lnTo>
                  <a:pt x="241" y="95"/>
                </a:lnTo>
                <a:lnTo>
                  <a:pt x="254" y="95"/>
                </a:lnTo>
                <a:lnTo>
                  <a:pt x="316" y="84"/>
                </a:lnTo>
                <a:lnTo>
                  <a:pt x="370" y="58"/>
                </a:lnTo>
                <a:lnTo>
                  <a:pt x="412" y="9"/>
                </a:lnTo>
                <a:lnTo>
                  <a:pt x="415" y="0"/>
                </a:lnTo>
                <a:lnTo>
                  <a:pt x="486" y="2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7760" y="2882880"/>
            <a:ext cx="676440" cy="388800"/>
          </a:xfrm>
          <a:custGeom>
            <a:avLst/>
            <a:gdLst/>
            <a:ahLst/>
            <a:rect l="l" t="t" r="r" b="b"/>
            <a:pathLst>
              <a:path w="607" h="349">
                <a:moveTo>
                  <a:pt x="300" y="249"/>
                </a:moveTo>
                <a:lnTo>
                  <a:pt x="369" y="237"/>
                </a:lnTo>
                <a:lnTo>
                  <a:pt x="394" y="236"/>
                </a:lnTo>
                <a:lnTo>
                  <a:pt x="407" y="237"/>
                </a:lnTo>
                <a:lnTo>
                  <a:pt x="474" y="246"/>
                </a:lnTo>
                <a:lnTo>
                  <a:pt x="541" y="269"/>
                </a:lnTo>
                <a:lnTo>
                  <a:pt x="555" y="275"/>
                </a:lnTo>
                <a:lnTo>
                  <a:pt x="570" y="281"/>
                </a:lnTo>
                <a:lnTo>
                  <a:pt x="607" y="240"/>
                </a:lnTo>
                <a:lnTo>
                  <a:pt x="606" y="223"/>
                </a:lnTo>
                <a:lnTo>
                  <a:pt x="582" y="147"/>
                </a:lnTo>
                <a:lnTo>
                  <a:pt x="551" y="89"/>
                </a:lnTo>
                <a:lnTo>
                  <a:pt x="500" y="33"/>
                </a:lnTo>
                <a:lnTo>
                  <a:pt x="415" y="0"/>
                </a:lnTo>
                <a:lnTo>
                  <a:pt x="412" y="9"/>
                </a:lnTo>
                <a:lnTo>
                  <a:pt x="407" y="18"/>
                </a:lnTo>
                <a:lnTo>
                  <a:pt x="360" y="64"/>
                </a:lnTo>
                <a:lnTo>
                  <a:pt x="304" y="87"/>
                </a:lnTo>
                <a:lnTo>
                  <a:pt x="241" y="95"/>
                </a:lnTo>
                <a:lnTo>
                  <a:pt x="229" y="94"/>
                </a:lnTo>
                <a:lnTo>
                  <a:pt x="217" y="93"/>
                </a:lnTo>
                <a:lnTo>
                  <a:pt x="204" y="91"/>
                </a:lnTo>
                <a:lnTo>
                  <a:pt x="192" y="90"/>
                </a:lnTo>
                <a:lnTo>
                  <a:pt x="180" y="88"/>
                </a:lnTo>
                <a:lnTo>
                  <a:pt x="168" y="86"/>
                </a:lnTo>
                <a:lnTo>
                  <a:pt x="103" y="80"/>
                </a:lnTo>
                <a:lnTo>
                  <a:pt x="93" y="80"/>
                </a:lnTo>
                <a:lnTo>
                  <a:pt x="36" y="105"/>
                </a:lnTo>
                <a:lnTo>
                  <a:pt x="8" y="160"/>
                </a:lnTo>
                <a:lnTo>
                  <a:pt x="0" y="212"/>
                </a:lnTo>
                <a:lnTo>
                  <a:pt x="0" y="222"/>
                </a:lnTo>
                <a:lnTo>
                  <a:pt x="19" y="287"/>
                </a:lnTo>
                <a:lnTo>
                  <a:pt x="71" y="332"/>
                </a:lnTo>
                <a:lnTo>
                  <a:pt x="138" y="348"/>
                </a:lnTo>
                <a:lnTo>
                  <a:pt x="160" y="349"/>
                </a:lnTo>
                <a:lnTo>
                  <a:pt x="171" y="349"/>
                </a:lnTo>
                <a:lnTo>
                  <a:pt x="224" y="321"/>
                </a:lnTo>
                <a:lnTo>
                  <a:pt x="227" y="315"/>
                </a:lnTo>
                <a:lnTo>
                  <a:pt x="269" y="268"/>
                </a:lnTo>
                <a:lnTo>
                  <a:pt x="297" y="250"/>
                </a:lnTo>
                <a:lnTo>
                  <a:pt x="300" y="24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32080" y="2846520"/>
            <a:ext cx="252360" cy="341280"/>
          </a:xfrm>
          <a:custGeom>
            <a:avLst/>
            <a:gdLst/>
            <a:ahLst/>
            <a:rect l="l" t="t" r="r" b="b"/>
            <a:pathLst>
              <a:path w="227" h="308">
                <a:moveTo>
                  <a:pt x="101" y="0"/>
                </a:moveTo>
                <a:lnTo>
                  <a:pt x="160" y="25"/>
                </a:lnTo>
                <a:lnTo>
                  <a:pt x="189" y="81"/>
                </a:lnTo>
                <a:lnTo>
                  <a:pt x="189" y="88"/>
                </a:lnTo>
                <a:lnTo>
                  <a:pt x="190" y="96"/>
                </a:lnTo>
                <a:lnTo>
                  <a:pt x="204" y="157"/>
                </a:lnTo>
                <a:lnTo>
                  <a:pt x="207" y="172"/>
                </a:lnTo>
                <a:lnTo>
                  <a:pt x="211" y="187"/>
                </a:lnTo>
                <a:lnTo>
                  <a:pt x="226" y="258"/>
                </a:lnTo>
                <a:lnTo>
                  <a:pt x="227" y="280"/>
                </a:lnTo>
                <a:lnTo>
                  <a:pt x="226" y="290"/>
                </a:lnTo>
                <a:lnTo>
                  <a:pt x="224" y="297"/>
                </a:lnTo>
                <a:lnTo>
                  <a:pt x="220" y="303"/>
                </a:lnTo>
                <a:lnTo>
                  <a:pt x="215" y="307"/>
                </a:lnTo>
                <a:lnTo>
                  <a:pt x="208" y="308"/>
                </a:lnTo>
                <a:lnTo>
                  <a:pt x="199" y="307"/>
                </a:lnTo>
                <a:lnTo>
                  <a:pt x="140" y="271"/>
                </a:lnTo>
                <a:lnTo>
                  <a:pt x="84" y="219"/>
                </a:lnTo>
                <a:lnTo>
                  <a:pt x="35" y="160"/>
                </a:lnTo>
                <a:lnTo>
                  <a:pt x="1" y="100"/>
                </a:lnTo>
                <a:lnTo>
                  <a:pt x="0" y="91"/>
                </a:lnTo>
                <a:lnTo>
                  <a:pt x="0" y="84"/>
                </a:lnTo>
                <a:lnTo>
                  <a:pt x="26" y="27"/>
                </a:lnTo>
                <a:lnTo>
                  <a:pt x="85" y="0"/>
                </a:lnTo>
                <a:lnTo>
                  <a:pt x="93" y="0"/>
                </a:lnTo>
                <a:lnTo>
                  <a:pt x="10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4200" y="2717640"/>
            <a:ext cx="946080" cy="55800"/>
          </a:xfrm>
          <a:custGeom>
            <a:avLst/>
            <a:gdLst/>
            <a:ahLst/>
            <a:rect l="l" t="t" r="r" b="b"/>
            <a:pathLst>
              <a:path w="852" h="52">
                <a:moveTo>
                  <a:pt x="842" y="12"/>
                </a:moveTo>
                <a:lnTo>
                  <a:pt x="852" y="2"/>
                </a:lnTo>
                <a:lnTo>
                  <a:pt x="852" y="1"/>
                </a:lnTo>
                <a:lnTo>
                  <a:pt x="850" y="0"/>
                </a:lnTo>
                <a:lnTo>
                  <a:pt x="848" y="0"/>
                </a:lnTo>
                <a:lnTo>
                  <a:pt x="846" y="0"/>
                </a:lnTo>
                <a:lnTo>
                  <a:pt x="842" y="0"/>
                </a:lnTo>
                <a:lnTo>
                  <a:pt x="837" y="0"/>
                </a:lnTo>
                <a:lnTo>
                  <a:pt x="770" y="5"/>
                </a:lnTo>
                <a:lnTo>
                  <a:pt x="704" y="12"/>
                </a:lnTo>
                <a:lnTo>
                  <a:pt x="628" y="24"/>
                </a:lnTo>
                <a:lnTo>
                  <a:pt x="607" y="28"/>
                </a:lnTo>
                <a:lnTo>
                  <a:pt x="543" y="37"/>
                </a:lnTo>
                <a:lnTo>
                  <a:pt x="476" y="46"/>
                </a:lnTo>
                <a:lnTo>
                  <a:pt x="405" y="51"/>
                </a:lnTo>
                <a:lnTo>
                  <a:pt x="357" y="52"/>
                </a:lnTo>
                <a:lnTo>
                  <a:pt x="332" y="52"/>
                </a:lnTo>
                <a:lnTo>
                  <a:pt x="260" y="48"/>
                </a:lnTo>
                <a:lnTo>
                  <a:pt x="193" y="43"/>
                </a:lnTo>
                <a:lnTo>
                  <a:pt x="133" y="36"/>
                </a:lnTo>
                <a:lnTo>
                  <a:pt x="81" y="30"/>
                </a:lnTo>
                <a:lnTo>
                  <a:pt x="67" y="28"/>
                </a:lnTo>
                <a:lnTo>
                  <a:pt x="5" y="23"/>
                </a:lnTo>
                <a:lnTo>
                  <a:pt x="0" y="23"/>
                </a:lnTo>
              </a:path>
            </a:pathLst>
          </a:custGeom>
          <a:noFill/>
          <a:ln w="1008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8640" y="3424320"/>
            <a:ext cx="674640" cy="600120"/>
          </a:xfrm>
          <a:custGeom>
            <a:avLst/>
            <a:gdLst/>
            <a:ahLst/>
            <a:rect l="l" t="t" r="r" b="b"/>
            <a:pathLst>
              <a:path w="607" h="539">
                <a:moveTo>
                  <a:pt x="237" y="0"/>
                </a:moveTo>
                <a:lnTo>
                  <a:pt x="304" y="14"/>
                </a:lnTo>
                <a:lnTo>
                  <a:pt x="312" y="17"/>
                </a:lnTo>
                <a:lnTo>
                  <a:pt x="366" y="44"/>
                </a:lnTo>
                <a:lnTo>
                  <a:pt x="399" y="95"/>
                </a:lnTo>
                <a:lnTo>
                  <a:pt x="411" y="162"/>
                </a:lnTo>
                <a:lnTo>
                  <a:pt x="412" y="173"/>
                </a:lnTo>
                <a:lnTo>
                  <a:pt x="431" y="233"/>
                </a:lnTo>
                <a:lnTo>
                  <a:pt x="482" y="267"/>
                </a:lnTo>
                <a:lnTo>
                  <a:pt x="544" y="282"/>
                </a:lnTo>
                <a:lnTo>
                  <a:pt x="561" y="286"/>
                </a:lnTo>
                <a:lnTo>
                  <a:pt x="580" y="298"/>
                </a:lnTo>
                <a:lnTo>
                  <a:pt x="593" y="310"/>
                </a:lnTo>
                <a:lnTo>
                  <a:pt x="602" y="322"/>
                </a:lnTo>
                <a:lnTo>
                  <a:pt x="606" y="333"/>
                </a:lnTo>
                <a:lnTo>
                  <a:pt x="607" y="346"/>
                </a:lnTo>
                <a:lnTo>
                  <a:pt x="603" y="358"/>
                </a:lnTo>
                <a:lnTo>
                  <a:pt x="560" y="407"/>
                </a:lnTo>
                <a:lnTo>
                  <a:pt x="504" y="446"/>
                </a:lnTo>
                <a:lnTo>
                  <a:pt x="440" y="485"/>
                </a:lnTo>
                <a:lnTo>
                  <a:pt x="418" y="499"/>
                </a:lnTo>
                <a:lnTo>
                  <a:pt x="397" y="512"/>
                </a:lnTo>
                <a:lnTo>
                  <a:pt x="376" y="526"/>
                </a:lnTo>
                <a:lnTo>
                  <a:pt x="356" y="539"/>
                </a:lnTo>
                <a:lnTo>
                  <a:pt x="347" y="536"/>
                </a:lnTo>
                <a:lnTo>
                  <a:pt x="307" y="490"/>
                </a:lnTo>
                <a:lnTo>
                  <a:pt x="306" y="482"/>
                </a:lnTo>
                <a:lnTo>
                  <a:pt x="305" y="474"/>
                </a:lnTo>
                <a:lnTo>
                  <a:pt x="273" y="419"/>
                </a:lnTo>
                <a:lnTo>
                  <a:pt x="214" y="400"/>
                </a:lnTo>
                <a:lnTo>
                  <a:pt x="167" y="392"/>
                </a:lnTo>
                <a:lnTo>
                  <a:pt x="159" y="390"/>
                </a:lnTo>
                <a:lnTo>
                  <a:pt x="98" y="375"/>
                </a:lnTo>
                <a:lnTo>
                  <a:pt x="47" y="338"/>
                </a:lnTo>
                <a:lnTo>
                  <a:pt x="39" y="330"/>
                </a:lnTo>
                <a:lnTo>
                  <a:pt x="35" y="326"/>
                </a:lnTo>
                <a:lnTo>
                  <a:pt x="31" y="323"/>
                </a:lnTo>
                <a:lnTo>
                  <a:pt x="27" y="320"/>
                </a:lnTo>
                <a:lnTo>
                  <a:pt x="24" y="316"/>
                </a:lnTo>
                <a:lnTo>
                  <a:pt x="20" y="313"/>
                </a:lnTo>
                <a:lnTo>
                  <a:pt x="0" y="255"/>
                </a:lnTo>
                <a:lnTo>
                  <a:pt x="0" y="243"/>
                </a:lnTo>
                <a:lnTo>
                  <a:pt x="0" y="237"/>
                </a:lnTo>
                <a:lnTo>
                  <a:pt x="22" y="174"/>
                </a:lnTo>
                <a:lnTo>
                  <a:pt x="73" y="132"/>
                </a:lnTo>
                <a:lnTo>
                  <a:pt x="93" y="123"/>
                </a:lnTo>
                <a:lnTo>
                  <a:pt x="99" y="121"/>
                </a:lnTo>
                <a:lnTo>
                  <a:pt x="126" y="76"/>
                </a:lnTo>
                <a:lnTo>
                  <a:pt x="127" y="71"/>
                </a:lnTo>
                <a:lnTo>
                  <a:pt x="166" y="23"/>
                </a:lnTo>
                <a:lnTo>
                  <a:pt x="229" y="0"/>
                </a:lnTo>
                <a:lnTo>
                  <a:pt x="237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98640" y="3424320"/>
            <a:ext cx="674640" cy="600120"/>
          </a:xfrm>
          <a:custGeom>
            <a:avLst/>
            <a:gdLst/>
            <a:ahLst/>
            <a:rect l="l" t="t" r="r" b="b"/>
            <a:pathLst>
              <a:path w="607" h="539">
                <a:moveTo>
                  <a:pt x="356" y="539"/>
                </a:moveTo>
                <a:lnTo>
                  <a:pt x="418" y="499"/>
                </a:lnTo>
                <a:lnTo>
                  <a:pt x="462" y="472"/>
                </a:lnTo>
                <a:lnTo>
                  <a:pt x="484" y="459"/>
                </a:lnTo>
                <a:lnTo>
                  <a:pt x="543" y="420"/>
                </a:lnTo>
                <a:lnTo>
                  <a:pt x="597" y="370"/>
                </a:lnTo>
                <a:lnTo>
                  <a:pt x="607" y="346"/>
                </a:lnTo>
                <a:lnTo>
                  <a:pt x="606" y="333"/>
                </a:lnTo>
                <a:lnTo>
                  <a:pt x="561" y="286"/>
                </a:lnTo>
                <a:lnTo>
                  <a:pt x="544" y="282"/>
                </a:lnTo>
                <a:lnTo>
                  <a:pt x="529" y="279"/>
                </a:lnTo>
                <a:lnTo>
                  <a:pt x="466" y="261"/>
                </a:lnTo>
                <a:lnTo>
                  <a:pt x="423" y="216"/>
                </a:lnTo>
                <a:lnTo>
                  <a:pt x="410" y="151"/>
                </a:lnTo>
                <a:lnTo>
                  <a:pt x="408" y="140"/>
                </a:lnTo>
                <a:lnTo>
                  <a:pt x="389" y="73"/>
                </a:lnTo>
                <a:lnTo>
                  <a:pt x="343" y="28"/>
                </a:lnTo>
                <a:lnTo>
                  <a:pt x="304" y="14"/>
                </a:lnTo>
                <a:lnTo>
                  <a:pt x="295" y="12"/>
                </a:lnTo>
                <a:lnTo>
                  <a:pt x="229" y="0"/>
                </a:lnTo>
                <a:lnTo>
                  <a:pt x="220" y="1"/>
                </a:lnTo>
                <a:lnTo>
                  <a:pt x="157" y="30"/>
                </a:lnTo>
                <a:lnTo>
                  <a:pt x="126" y="80"/>
                </a:lnTo>
                <a:lnTo>
                  <a:pt x="125" y="84"/>
                </a:lnTo>
                <a:lnTo>
                  <a:pt x="89" y="124"/>
                </a:lnTo>
                <a:lnTo>
                  <a:pt x="84" y="126"/>
                </a:lnTo>
                <a:lnTo>
                  <a:pt x="32" y="163"/>
                </a:lnTo>
                <a:lnTo>
                  <a:pt x="1" y="220"/>
                </a:lnTo>
                <a:lnTo>
                  <a:pt x="0" y="243"/>
                </a:lnTo>
                <a:lnTo>
                  <a:pt x="0" y="249"/>
                </a:lnTo>
                <a:lnTo>
                  <a:pt x="17" y="310"/>
                </a:lnTo>
                <a:lnTo>
                  <a:pt x="27" y="320"/>
                </a:lnTo>
                <a:lnTo>
                  <a:pt x="31" y="323"/>
                </a:lnTo>
                <a:lnTo>
                  <a:pt x="35" y="326"/>
                </a:lnTo>
                <a:lnTo>
                  <a:pt x="39" y="330"/>
                </a:lnTo>
                <a:lnTo>
                  <a:pt x="43" y="334"/>
                </a:lnTo>
                <a:lnTo>
                  <a:pt x="47" y="338"/>
                </a:lnTo>
                <a:lnTo>
                  <a:pt x="98" y="375"/>
                </a:lnTo>
                <a:lnTo>
                  <a:pt x="159" y="390"/>
                </a:lnTo>
                <a:lnTo>
                  <a:pt x="175" y="393"/>
                </a:lnTo>
                <a:lnTo>
                  <a:pt x="183" y="394"/>
                </a:lnTo>
                <a:lnTo>
                  <a:pt x="244" y="408"/>
                </a:lnTo>
                <a:lnTo>
                  <a:pt x="298" y="444"/>
                </a:lnTo>
                <a:lnTo>
                  <a:pt x="307" y="490"/>
                </a:lnTo>
                <a:lnTo>
                  <a:pt x="308" y="498"/>
                </a:lnTo>
                <a:lnTo>
                  <a:pt x="338" y="536"/>
                </a:lnTo>
                <a:lnTo>
                  <a:pt x="347" y="53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77920" y="4475160"/>
            <a:ext cx="270000" cy="299880"/>
          </a:xfrm>
          <a:custGeom>
            <a:avLst/>
            <a:gdLst/>
            <a:ahLst/>
            <a:rect l="l" t="t" r="r" b="b"/>
            <a:pathLst>
              <a:path w="243" h="270">
                <a:moveTo>
                  <a:pt x="166" y="1"/>
                </a:moveTo>
                <a:lnTo>
                  <a:pt x="201" y="28"/>
                </a:lnTo>
                <a:lnTo>
                  <a:pt x="210" y="50"/>
                </a:lnTo>
                <a:lnTo>
                  <a:pt x="233" y="116"/>
                </a:lnTo>
                <a:lnTo>
                  <a:pt x="243" y="167"/>
                </a:lnTo>
                <a:lnTo>
                  <a:pt x="242" y="174"/>
                </a:lnTo>
                <a:lnTo>
                  <a:pt x="199" y="229"/>
                </a:lnTo>
                <a:lnTo>
                  <a:pt x="147" y="262"/>
                </a:lnTo>
                <a:lnTo>
                  <a:pt x="107" y="270"/>
                </a:lnTo>
                <a:lnTo>
                  <a:pt x="98" y="270"/>
                </a:lnTo>
                <a:lnTo>
                  <a:pt x="41" y="256"/>
                </a:lnTo>
                <a:lnTo>
                  <a:pt x="38" y="255"/>
                </a:lnTo>
                <a:lnTo>
                  <a:pt x="5" y="204"/>
                </a:lnTo>
                <a:lnTo>
                  <a:pt x="0" y="175"/>
                </a:lnTo>
                <a:lnTo>
                  <a:pt x="0" y="169"/>
                </a:lnTo>
                <a:lnTo>
                  <a:pt x="35" y="120"/>
                </a:lnTo>
                <a:lnTo>
                  <a:pt x="44" y="112"/>
                </a:lnTo>
                <a:lnTo>
                  <a:pt x="49" y="109"/>
                </a:lnTo>
                <a:lnTo>
                  <a:pt x="78" y="68"/>
                </a:lnTo>
                <a:lnTo>
                  <a:pt x="81" y="63"/>
                </a:lnTo>
                <a:lnTo>
                  <a:pt x="120" y="15"/>
                </a:lnTo>
                <a:lnTo>
                  <a:pt x="161" y="0"/>
                </a:lnTo>
                <a:lnTo>
                  <a:pt x="166" y="1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77920" y="4475160"/>
            <a:ext cx="270000" cy="299880"/>
          </a:xfrm>
          <a:custGeom>
            <a:avLst/>
            <a:gdLst/>
            <a:ahLst/>
            <a:rect l="l" t="t" r="r" b="b"/>
            <a:pathLst>
              <a:path w="243" h="270">
                <a:moveTo>
                  <a:pt x="41" y="256"/>
                </a:moveTo>
                <a:lnTo>
                  <a:pt x="5" y="204"/>
                </a:lnTo>
                <a:lnTo>
                  <a:pt x="0" y="175"/>
                </a:lnTo>
                <a:lnTo>
                  <a:pt x="0" y="169"/>
                </a:lnTo>
                <a:lnTo>
                  <a:pt x="35" y="120"/>
                </a:lnTo>
                <a:lnTo>
                  <a:pt x="44" y="112"/>
                </a:lnTo>
                <a:lnTo>
                  <a:pt x="49" y="109"/>
                </a:lnTo>
                <a:lnTo>
                  <a:pt x="78" y="68"/>
                </a:lnTo>
                <a:lnTo>
                  <a:pt x="81" y="63"/>
                </a:lnTo>
                <a:lnTo>
                  <a:pt x="120" y="15"/>
                </a:lnTo>
                <a:lnTo>
                  <a:pt x="161" y="0"/>
                </a:lnTo>
                <a:lnTo>
                  <a:pt x="166" y="1"/>
                </a:lnTo>
                <a:lnTo>
                  <a:pt x="201" y="28"/>
                </a:lnTo>
                <a:lnTo>
                  <a:pt x="210" y="50"/>
                </a:lnTo>
                <a:lnTo>
                  <a:pt x="233" y="116"/>
                </a:lnTo>
                <a:lnTo>
                  <a:pt x="243" y="167"/>
                </a:lnTo>
                <a:lnTo>
                  <a:pt x="242" y="174"/>
                </a:lnTo>
                <a:lnTo>
                  <a:pt x="199" y="229"/>
                </a:lnTo>
                <a:lnTo>
                  <a:pt x="147" y="262"/>
                </a:lnTo>
                <a:lnTo>
                  <a:pt x="107" y="270"/>
                </a:lnTo>
                <a:lnTo>
                  <a:pt x="98" y="270"/>
                </a:lnTo>
                <a:lnTo>
                  <a:pt x="41" y="256"/>
                </a:lnTo>
                <a:lnTo>
                  <a:pt x="41" y="25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92240" y="4545000"/>
            <a:ext cx="39600" cy="108000"/>
          </a:xfrm>
          <a:custGeom>
            <a:avLst/>
            <a:gdLst/>
            <a:ahLst/>
            <a:rect l="l" t="t" r="r" b="b"/>
            <a:pathLst>
              <a:path w="35" h="98">
                <a:moveTo>
                  <a:pt x="33" y="0"/>
                </a:moveTo>
                <a:lnTo>
                  <a:pt x="0" y="47"/>
                </a:lnTo>
                <a:lnTo>
                  <a:pt x="1" y="51"/>
                </a:lnTo>
                <a:lnTo>
                  <a:pt x="28" y="91"/>
                </a:lnTo>
                <a:lnTo>
                  <a:pt x="35" y="9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73160" y="3454560"/>
            <a:ext cx="38160" cy="109440"/>
          </a:xfrm>
          <a:custGeom>
            <a:avLst/>
            <a:gdLst/>
            <a:ahLst/>
            <a:rect l="l" t="t" r="r" b="b"/>
            <a:pathLst>
              <a:path w="34" h="98">
                <a:moveTo>
                  <a:pt x="33" y="0"/>
                </a:moveTo>
                <a:lnTo>
                  <a:pt x="0" y="47"/>
                </a:lnTo>
                <a:lnTo>
                  <a:pt x="0" y="51"/>
                </a:lnTo>
                <a:lnTo>
                  <a:pt x="28" y="91"/>
                </a:lnTo>
                <a:lnTo>
                  <a:pt x="34" y="9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55640" y="3780000"/>
            <a:ext cx="944640" cy="55440"/>
          </a:xfrm>
          <a:custGeom>
            <a:avLst/>
            <a:gdLst/>
            <a:ahLst/>
            <a:rect l="l" t="t" r="r" b="b"/>
            <a:pathLst>
              <a:path w="852" h="49">
                <a:moveTo>
                  <a:pt x="842" y="33"/>
                </a:moveTo>
                <a:lnTo>
                  <a:pt x="852" y="24"/>
                </a:lnTo>
                <a:lnTo>
                  <a:pt x="852" y="23"/>
                </a:lnTo>
                <a:lnTo>
                  <a:pt x="831" y="20"/>
                </a:lnTo>
                <a:lnTo>
                  <a:pt x="824" y="20"/>
                </a:lnTo>
                <a:lnTo>
                  <a:pt x="755" y="22"/>
                </a:lnTo>
                <a:lnTo>
                  <a:pt x="685" y="28"/>
                </a:lnTo>
                <a:lnTo>
                  <a:pt x="627" y="34"/>
                </a:lnTo>
                <a:lnTo>
                  <a:pt x="606" y="36"/>
                </a:lnTo>
                <a:lnTo>
                  <a:pt x="542" y="43"/>
                </a:lnTo>
                <a:lnTo>
                  <a:pt x="474" y="47"/>
                </a:lnTo>
                <a:lnTo>
                  <a:pt x="403" y="49"/>
                </a:lnTo>
                <a:lnTo>
                  <a:pt x="379" y="49"/>
                </a:lnTo>
                <a:lnTo>
                  <a:pt x="306" y="44"/>
                </a:lnTo>
                <a:lnTo>
                  <a:pt x="236" y="36"/>
                </a:lnTo>
                <a:lnTo>
                  <a:pt x="171" y="26"/>
                </a:lnTo>
                <a:lnTo>
                  <a:pt x="97" y="14"/>
                </a:lnTo>
                <a:lnTo>
                  <a:pt x="81" y="11"/>
                </a:lnTo>
                <a:lnTo>
                  <a:pt x="66" y="9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1008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5400" y="3838680"/>
            <a:ext cx="674640" cy="388800"/>
          </a:xfrm>
          <a:custGeom>
            <a:avLst/>
            <a:gdLst/>
            <a:ahLst/>
            <a:rect l="l" t="t" r="r" b="b"/>
            <a:pathLst>
              <a:path w="608" h="350">
                <a:moveTo>
                  <a:pt x="486" y="26"/>
                </a:moveTo>
                <a:lnTo>
                  <a:pt x="539" y="73"/>
                </a:lnTo>
                <a:lnTo>
                  <a:pt x="573" y="127"/>
                </a:lnTo>
                <a:lnTo>
                  <a:pt x="597" y="187"/>
                </a:lnTo>
                <a:lnTo>
                  <a:pt x="608" y="240"/>
                </a:lnTo>
                <a:lnTo>
                  <a:pt x="607" y="254"/>
                </a:lnTo>
                <a:lnTo>
                  <a:pt x="605" y="266"/>
                </a:lnTo>
                <a:lnTo>
                  <a:pt x="600" y="276"/>
                </a:lnTo>
                <a:lnTo>
                  <a:pt x="593" y="281"/>
                </a:lnTo>
                <a:lnTo>
                  <a:pt x="583" y="284"/>
                </a:lnTo>
                <a:lnTo>
                  <a:pt x="571" y="282"/>
                </a:lnTo>
                <a:lnTo>
                  <a:pt x="555" y="276"/>
                </a:lnTo>
                <a:lnTo>
                  <a:pt x="542" y="269"/>
                </a:lnTo>
                <a:lnTo>
                  <a:pt x="528" y="263"/>
                </a:lnTo>
                <a:lnTo>
                  <a:pt x="461" y="243"/>
                </a:lnTo>
                <a:lnTo>
                  <a:pt x="395" y="237"/>
                </a:lnTo>
                <a:lnTo>
                  <a:pt x="382" y="237"/>
                </a:lnTo>
                <a:lnTo>
                  <a:pt x="322" y="244"/>
                </a:lnTo>
                <a:lnTo>
                  <a:pt x="265" y="272"/>
                </a:lnTo>
                <a:lnTo>
                  <a:pt x="224" y="321"/>
                </a:lnTo>
                <a:lnTo>
                  <a:pt x="221" y="327"/>
                </a:lnTo>
                <a:lnTo>
                  <a:pt x="217" y="332"/>
                </a:lnTo>
                <a:lnTo>
                  <a:pt x="161" y="350"/>
                </a:lnTo>
                <a:lnTo>
                  <a:pt x="150" y="349"/>
                </a:lnTo>
                <a:lnTo>
                  <a:pt x="82" y="336"/>
                </a:lnTo>
                <a:lnTo>
                  <a:pt x="30" y="303"/>
                </a:lnTo>
                <a:lnTo>
                  <a:pt x="2" y="242"/>
                </a:lnTo>
                <a:lnTo>
                  <a:pt x="0" y="212"/>
                </a:lnTo>
                <a:lnTo>
                  <a:pt x="0" y="202"/>
                </a:lnTo>
                <a:lnTo>
                  <a:pt x="15" y="141"/>
                </a:lnTo>
                <a:lnTo>
                  <a:pt x="59" y="89"/>
                </a:lnTo>
                <a:lnTo>
                  <a:pt x="104" y="80"/>
                </a:lnTo>
                <a:lnTo>
                  <a:pt x="114" y="80"/>
                </a:lnTo>
                <a:lnTo>
                  <a:pt x="181" y="88"/>
                </a:lnTo>
                <a:lnTo>
                  <a:pt x="193" y="90"/>
                </a:lnTo>
                <a:lnTo>
                  <a:pt x="205" y="92"/>
                </a:lnTo>
                <a:lnTo>
                  <a:pt x="217" y="94"/>
                </a:lnTo>
                <a:lnTo>
                  <a:pt x="229" y="95"/>
                </a:lnTo>
                <a:lnTo>
                  <a:pt x="242" y="95"/>
                </a:lnTo>
                <a:lnTo>
                  <a:pt x="254" y="95"/>
                </a:lnTo>
                <a:lnTo>
                  <a:pt x="316" y="84"/>
                </a:lnTo>
                <a:lnTo>
                  <a:pt x="371" y="58"/>
                </a:lnTo>
                <a:lnTo>
                  <a:pt x="412" y="10"/>
                </a:lnTo>
                <a:lnTo>
                  <a:pt x="416" y="0"/>
                </a:lnTo>
                <a:lnTo>
                  <a:pt x="486" y="2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5400" y="3838680"/>
            <a:ext cx="674640" cy="388800"/>
          </a:xfrm>
          <a:custGeom>
            <a:avLst/>
            <a:gdLst/>
            <a:ahLst/>
            <a:rect l="l" t="t" r="r" b="b"/>
            <a:pathLst>
              <a:path w="608" h="350">
                <a:moveTo>
                  <a:pt x="301" y="249"/>
                </a:moveTo>
                <a:lnTo>
                  <a:pt x="370" y="237"/>
                </a:lnTo>
                <a:lnTo>
                  <a:pt x="395" y="237"/>
                </a:lnTo>
                <a:lnTo>
                  <a:pt x="408" y="237"/>
                </a:lnTo>
                <a:lnTo>
                  <a:pt x="474" y="246"/>
                </a:lnTo>
                <a:lnTo>
                  <a:pt x="542" y="269"/>
                </a:lnTo>
                <a:lnTo>
                  <a:pt x="555" y="276"/>
                </a:lnTo>
                <a:lnTo>
                  <a:pt x="571" y="282"/>
                </a:lnTo>
                <a:lnTo>
                  <a:pt x="608" y="240"/>
                </a:lnTo>
                <a:lnTo>
                  <a:pt x="606" y="224"/>
                </a:lnTo>
                <a:lnTo>
                  <a:pt x="582" y="147"/>
                </a:lnTo>
                <a:lnTo>
                  <a:pt x="551" y="90"/>
                </a:lnTo>
                <a:lnTo>
                  <a:pt x="500" y="34"/>
                </a:lnTo>
                <a:lnTo>
                  <a:pt x="416" y="0"/>
                </a:lnTo>
                <a:lnTo>
                  <a:pt x="412" y="10"/>
                </a:lnTo>
                <a:lnTo>
                  <a:pt x="408" y="19"/>
                </a:lnTo>
                <a:lnTo>
                  <a:pt x="361" y="64"/>
                </a:lnTo>
                <a:lnTo>
                  <a:pt x="304" y="88"/>
                </a:lnTo>
                <a:lnTo>
                  <a:pt x="242" y="95"/>
                </a:lnTo>
                <a:lnTo>
                  <a:pt x="229" y="95"/>
                </a:lnTo>
                <a:lnTo>
                  <a:pt x="217" y="94"/>
                </a:lnTo>
                <a:lnTo>
                  <a:pt x="205" y="92"/>
                </a:lnTo>
                <a:lnTo>
                  <a:pt x="193" y="90"/>
                </a:lnTo>
                <a:lnTo>
                  <a:pt x="181" y="88"/>
                </a:lnTo>
                <a:lnTo>
                  <a:pt x="169" y="86"/>
                </a:lnTo>
                <a:lnTo>
                  <a:pt x="104" y="80"/>
                </a:lnTo>
                <a:lnTo>
                  <a:pt x="94" y="81"/>
                </a:lnTo>
                <a:lnTo>
                  <a:pt x="37" y="105"/>
                </a:lnTo>
                <a:lnTo>
                  <a:pt x="8" y="161"/>
                </a:lnTo>
                <a:lnTo>
                  <a:pt x="0" y="212"/>
                </a:lnTo>
                <a:lnTo>
                  <a:pt x="0" y="222"/>
                </a:lnTo>
                <a:lnTo>
                  <a:pt x="19" y="287"/>
                </a:lnTo>
                <a:lnTo>
                  <a:pt x="71" y="332"/>
                </a:lnTo>
                <a:lnTo>
                  <a:pt x="139" y="349"/>
                </a:lnTo>
                <a:lnTo>
                  <a:pt x="161" y="350"/>
                </a:lnTo>
                <a:lnTo>
                  <a:pt x="171" y="349"/>
                </a:lnTo>
                <a:lnTo>
                  <a:pt x="224" y="321"/>
                </a:lnTo>
                <a:lnTo>
                  <a:pt x="228" y="316"/>
                </a:lnTo>
                <a:lnTo>
                  <a:pt x="269" y="269"/>
                </a:lnTo>
                <a:lnTo>
                  <a:pt x="298" y="250"/>
                </a:lnTo>
                <a:lnTo>
                  <a:pt x="301" y="24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3798720"/>
            <a:ext cx="252360" cy="343080"/>
          </a:xfrm>
          <a:custGeom>
            <a:avLst/>
            <a:gdLst/>
            <a:ahLst/>
            <a:rect l="l" t="t" r="r" b="b"/>
            <a:pathLst>
              <a:path w="227" h="308">
                <a:moveTo>
                  <a:pt x="101" y="1"/>
                </a:moveTo>
                <a:lnTo>
                  <a:pt x="161" y="25"/>
                </a:lnTo>
                <a:lnTo>
                  <a:pt x="189" y="81"/>
                </a:lnTo>
                <a:lnTo>
                  <a:pt x="190" y="88"/>
                </a:lnTo>
                <a:lnTo>
                  <a:pt x="190" y="97"/>
                </a:lnTo>
                <a:lnTo>
                  <a:pt x="204" y="158"/>
                </a:lnTo>
                <a:lnTo>
                  <a:pt x="208" y="172"/>
                </a:lnTo>
                <a:lnTo>
                  <a:pt x="212" y="187"/>
                </a:lnTo>
                <a:lnTo>
                  <a:pt x="226" y="258"/>
                </a:lnTo>
                <a:lnTo>
                  <a:pt x="227" y="281"/>
                </a:lnTo>
                <a:lnTo>
                  <a:pt x="226" y="290"/>
                </a:lnTo>
                <a:lnTo>
                  <a:pt x="224" y="298"/>
                </a:lnTo>
                <a:lnTo>
                  <a:pt x="220" y="303"/>
                </a:lnTo>
                <a:lnTo>
                  <a:pt x="215" y="307"/>
                </a:lnTo>
                <a:lnTo>
                  <a:pt x="208" y="308"/>
                </a:lnTo>
                <a:lnTo>
                  <a:pt x="199" y="307"/>
                </a:lnTo>
                <a:lnTo>
                  <a:pt x="140" y="271"/>
                </a:lnTo>
                <a:lnTo>
                  <a:pt x="85" y="219"/>
                </a:lnTo>
                <a:lnTo>
                  <a:pt x="36" y="161"/>
                </a:lnTo>
                <a:lnTo>
                  <a:pt x="1" y="100"/>
                </a:lnTo>
                <a:lnTo>
                  <a:pt x="0" y="92"/>
                </a:lnTo>
                <a:lnTo>
                  <a:pt x="0" y="84"/>
                </a:lnTo>
                <a:lnTo>
                  <a:pt x="27" y="28"/>
                </a:lnTo>
                <a:lnTo>
                  <a:pt x="86" y="1"/>
                </a:lnTo>
                <a:lnTo>
                  <a:pt x="93" y="0"/>
                </a:lnTo>
                <a:lnTo>
                  <a:pt x="101" y="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78000" y="3171960"/>
            <a:ext cx="1130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6640" y="294948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tebral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78000" y="3676680"/>
            <a:ext cx="1133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49800" y="350208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vertebral di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4683240"/>
            <a:ext cx="2016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79680" y="45100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et j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59280" y="3171960"/>
            <a:ext cx="2104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4683240"/>
            <a:ext cx="2158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586560" y="4433400"/>
            <a:ext cx="0" cy="249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0160" y="40068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ural 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179960"/>
            <a:ext cx="2151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0560" y="551808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agital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24040" y="551808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nsversal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34200" y="2668680"/>
            <a:ext cx="143496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7840" y="2917800"/>
            <a:ext cx="0" cy="106056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62160" y="23018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 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12960" y="32385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5 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natomy of the vertebrae and the disc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48080" y="3508200"/>
            <a:ext cx="628560" cy="25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89320" y="3408480"/>
            <a:ext cx="978120" cy="14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84640" y="3711600"/>
            <a:ext cx="977760" cy="14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86280" y="3760920"/>
            <a:ext cx="2117520" cy="1162080"/>
          </a:xfrm>
          <a:custGeom>
            <a:avLst/>
            <a:gdLst/>
            <a:ahLst/>
            <a:rect l="l" t="t" r="r" b="b"/>
            <a:pathLst>
              <a:path w="1904" h="1044">
                <a:moveTo>
                  <a:pt x="1827" y="0"/>
                </a:moveTo>
                <a:lnTo>
                  <a:pt x="1883" y="24"/>
                </a:lnTo>
                <a:lnTo>
                  <a:pt x="1884" y="31"/>
                </a:lnTo>
                <a:lnTo>
                  <a:pt x="1883" y="40"/>
                </a:lnTo>
                <a:lnTo>
                  <a:pt x="1881" y="50"/>
                </a:lnTo>
                <a:lnTo>
                  <a:pt x="1878" y="61"/>
                </a:lnTo>
                <a:lnTo>
                  <a:pt x="1873" y="74"/>
                </a:lnTo>
                <a:lnTo>
                  <a:pt x="1859" y="149"/>
                </a:lnTo>
                <a:lnTo>
                  <a:pt x="1850" y="219"/>
                </a:lnTo>
                <a:lnTo>
                  <a:pt x="1845" y="295"/>
                </a:lnTo>
                <a:lnTo>
                  <a:pt x="1842" y="369"/>
                </a:lnTo>
                <a:lnTo>
                  <a:pt x="1841" y="392"/>
                </a:lnTo>
                <a:lnTo>
                  <a:pt x="1841" y="414"/>
                </a:lnTo>
                <a:lnTo>
                  <a:pt x="1845" y="485"/>
                </a:lnTo>
                <a:lnTo>
                  <a:pt x="1864" y="545"/>
                </a:lnTo>
                <a:lnTo>
                  <a:pt x="1885" y="583"/>
                </a:lnTo>
                <a:lnTo>
                  <a:pt x="1890" y="592"/>
                </a:lnTo>
                <a:lnTo>
                  <a:pt x="1904" y="630"/>
                </a:lnTo>
                <a:lnTo>
                  <a:pt x="1904" y="637"/>
                </a:lnTo>
                <a:lnTo>
                  <a:pt x="1859" y="679"/>
                </a:lnTo>
                <a:lnTo>
                  <a:pt x="1794" y="701"/>
                </a:lnTo>
                <a:lnTo>
                  <a:pt x="1730" y="714"/>
                </a:lnTo>
                <a:lnTo>
                  <a:pt x="1661" y="723"/>
                </a:lnTo>
                <a:lnTo>
                  <a:pt x="1594" y="729"/>
                </a:lnTo>
                <a:lnTo>
                  <a:pt x="1522" y="732"/>
                </a:lnTo>
                <a:lnTo>
                  <a:pt x="1493" y="733"/>
                </a:lnTo>
                <a:lnTo>
                  <a:pt x="1475" y="733"/>
                </a:lnTo>
                <a:lnTo>
                  <a:pt x="1397" y="731"/>
                </a:lnTo>
                <a:lnTo>
                  <a:pt x="1336" y="727"/>
                </a:lnTo>
                <a:lnTo>
                  <a:pt x="1275" y="722"/>
                </a:lnTo>
                <a:lnTo>
                  <a:pt x="1196" y="715"/>
                </a:lnTo>
                <a:lnTo>
                  <a:pt x="1127" y="707"/>
                </a:lnTo>
                <a:lnTo>
                  <a:pt x="1120" y="706"/>
                </a:lnTo>
                <a:lnTo>
                  <a:pt x="1112" y="706"/>
                </a:lnTo>
                <a:lnTo>
                  <a:pt x="1104" y="705"/>
                </a:lnTo>
                <a:lnTo>
                  <a:pt x="1096" y="705"/>
                </a:lnTo>
                <a:lnTo>
                  <a:pt x="1087" y="705"/>
                </a:lnTo>
                <a:lnTo>
                  <a:pt x="1079" y="705"/>
                </a:lnTo>
                <a:lnTo>
                  <a:pt x="1018" y="708"/>
                </a:lnTo>
                <a:lnTo>
                  <a:pt x="1010" y="709"/>
                </a:lnTo>
                <a:lnTo>
                  <a:pt x="1010" y="709"/>
                </a:lnTo>
                <a:lnTo>
                  <a:pt x="981" y="655"/>
                </a:lnTo>
                <a:lnTo>
                  <a:pt x="981" y="646"/>
                </a:lnTo>
                <a:lnTo>
                  <a:pt x="983" y="635"/>
                </a:lnTo>
                <a:lnTo>
                  <a:pt x="986" y="623"/>
                </a:lnTo>
                <a:lnTo>
                  <a:pt x="989" y="610"/>
                </a:lnTo>
                <a:lnTo>
                  <a:pt x="991" y="598"/>
                </a:lnTo>
                <a:lnTo>
                  <a:pt x="951" y="553"/>
                </a:lnTo>
                <a:lnTo>
                  <a:pt x="882" y="540"/>
                </a:lnTo>
                <a:lnTo>
                  <a:pt x="863" y="540"/>
                </a:lnTo>
                <a:lnTo>
                  <a:pt x="844" y="540"/>
                </a:lnTo>
                <a:lnTo>
                  <a:pt x="777" y="554"/>
                </a:lnTo>
                <a:lnTo>
                  <a:pt x="746" y="587"/>
                </a:lnTo>
                <a:lnTo>
                  <a:pt x="746" y="591"/>
                </a:lnTo>
                <a:lnTo>
                  <a:pt x="755" y="650"/>
                </a:lnTo>
                <a:lnTo>
                  <a:pt x="776" y="684"/>
                </a:lnTo>
                <a:lnTo>
                  <a:pt x="776" y="685"/>
                </a:lnTo>
                <a:lnTo>
                  <a:pt x="777" y="752"/>
                </a:lnTo>
                <a:lnTo>
                  <a:pt x="777" y="780"/>
                </a:lnTo>
                <a:lnTo>
                  <a:pt x="777" y="795"/>
                </a:lnTo>
                <a:lnTo>
                  <a:pt x="756" y="855"/>
                </a:lnTo>
                <a:lnTo>
                  <a:pt x="706" y="894"/>
                </a:lnTo>
                <a:lnTo>
                  <a:pt x="649" y="905"/>
                </a:lnTo>
                <a:lnTo>
                  <a:pt x="641" y="905"/>
                </a:lnTo>
                <a:lnTo>
                  <a:pt x="588" y="882"/>
                </a:lnTo>
                <a:lnTo>
                  <a:pt x="587" y="879"/>
                </a:lnTo>
                <a:lnTo>
                  <a:pt x="553" y="826"/>
                </a:lnTo>
                <a:lnTo>
                  <a:pt x="512" y="803"/>
                </a:lnTo>
                <a:lnTo>
                  <a:pt x="506" y="803"/>
                </a:lnTo>
                <a:lnTo>
                  <a:pt x="477" y="823"/>
                </a:lnTo>
                <a:lnTo>
                  <a:pt x="470" y="829"/>
                </a:lnTo>
                <a:lnTo>
                  <a:pt x="413" y="861"/>
                </a:lnTo>
                <a:lnTo>
                  <a:pt x="369" y="880"/>
                </a:lnTo>
                <a:lnTo>
                  <a:pt x="358" y="885"/>
                </a:lnTo>
                <a:lnTo>
                  <a:pt x="303" y="911"/>
                </a:lnTo>
                <a:lnTo>
                  <a:pt x="277" y="948"/>
                </a:lnTo>
                <a:lnTo>
                  <a:pt x="275" y="952"/>
                </a:lnTo>
                <a:lnTo>
                  <a:pt x="245" y="993"/>
                </a:lnTo>
                <a:lnTo>
                  <a:pt x="240" y="997"/>
                </a:lnTo>
                <a:lnTo>
                  <a:pt x="235" y="1001"/>
                </a:lnTo>
                <a:lnTo>
                  <a:pt x="230" y="1006"/>
                </a:lnTo>
                <a:lnTo>
                  <a:pt x="225" y="1012"/>
                </a:lnTo>
                <a:lnTo>
                  <a:pt x="219" y="1018"/>
                </a:lnTo>
                <a:lnTo>
                  <a:pt x="214" y="1024"/>
                </a:lnTo>
                <a:lnTo>
                  <a:pt x="178" y="1044"/>
                </a:lnTo>
                <a:lnTo>
                  <a:pt x="172" y="1043"/>
                </a:lnTo>
                <a:lnTo>
                  <a:pt x="129" y="983"/>
                </a:lnTo>
                <a:lnTo>
                  <a:pt x="114" y="940"/>
                </a:lnTo>
                <a:lnTo>
                  <a:pt x="105" y="920"/>
                </a:lnTo>
                <a:lnTo>
                  <a:pt x="77" y="864"/>
                </a:lnTo>
                <a:lnTo>
                  <a:pt x="58" y="830"/>
                </a:lnTo>
                <a:lnTo>
                  <a:pt x="48" y="813"/>
                </a:lnTo>
                <a:lnTo>
                  <a:pt x="17" y="749"/>
                </a:lnTo>
                <a:lnTo>
                  <a:pt x="1" y="680"/>
                </a:lnTo>
                <a:lnTo>
                  <a:pt x="0" y="660"/>
                </a:lnTo>
                <a:lnTo>
                  <a:pt x="1" y="640"/>
                </a:lnTo>
                <a:lnTo>
                  <a:pt x="4" y="619"/>
                </a:lnTo>
                <a:lnTo>
                  <a:pt x="9" y="596"/>
                </a:lnTo>
                <a:lnTo>
                  <a:pt x="14" y="574"/>
                </a:lnTo>
                <a:lnTo>
                  <a:pt x="17" y="555"/>
                </a:lnTo>
                <a:lnTo>
                  <a:pt x="20" y="540"/>
                </a:lnTo>
                <a:lnTo>
                  <a:pt x="21" y="526"/>
                </a:lnTo>
                <a:lnTo>
                  <a:pt x="22" y="515"/>
                </a:lnTo>
                <a:lnTo>
                  <a:pt x="22" y="506"/>
                </a:lnTo>
                <a:lnTo>
                  <a:pt x="13" y="479"/>
                </a:lnTo>
                <a:lnTo>
                  <a:pt x="12" y="476"/>
                </a:lnTo>
                <a:lnTo>
                  <a:pt x="11" y="472"/>
                </a:lnTo>
                <a:lnTo>
                  <a:pt x="10" y="469"/>
                </a:lnTo>
                <a:lnTo>
                  <a:pt x="11" y="464"/>
                </a:lnTo>
                <a:lnTo>
                  <a:pt x="38" y="401"/>
                </a:lnTo>
                <a:lnTo>
                  <a:pt x="78" y="357"/>
                </a:lnTo>
                <a:lnTo>
                  <a:pt x="103" y="350"/>
                </a:lnTo>
                <a:lnTo>
                  <a:pt x="108" y="350"/>
                </a:lnTo>
                <a:lnTo>
                  <a:pt x="113" y="351"/>
                </a:lnTo>
                <a:lnTo>
                  <a:pt x="118" y="351"/>
                </a:lnTo>
                <a:lnTo>
                  <a:pt x="123" y="352"/>
                </a:lnTo>
                <a:lnTo>
                  <a:pt x="129" y="354"/>
                </a:lnTo>
                <a:lnTo>
                  <a:pt x="136" y="355"/>
                </a:lnTo>
                <a:lnTo>
                  <a:pt x="203" y="367"/>
                </a:lnTo>
                <a:lnTo>
                  <a:pt x="268" y="375"/>
                </a:lnTo>
                <a:lnTo>
                  <a:pt x="303" y="377"/>
                </a:lnTo>
                <a:lnTo>
                  <a:pt x="312" y="376"/>
                </a:lnTo>
                <a:lnTo>
                  <a:pt x="320" y="376"/>
                </a:lnTo>
                <a:lnTo>
                  <a:pt x="327" y="375"/>
                </a:lnTo>
                <a:lnTo>
                  <a:pt x="332" y="373"/>
                </a:lnTo>
                <a:lnTo>
                  <a:pt x="340" y="373"/>
                </a:lnTo>
                <a:lnTo>
                  <a:pt x="401" y="345"/>
                </a:lnTo>
                <a:lnTo>
                  <a:pt x="449" y="296"/>
                </a:lnTo>
                <a:lnTo>
                  <a:pt x="456" y="289"/>
                </a:lnTo>
                <a:lnTo>
                  <a:pt x="482" y="264"/>
                </a:lnTo>
                <a:lnTo>
                  <a:pt x="486" y="261"/>
                </a:lnTo>
                <a:lnTo>
                  <a:pt x="509" y="235"/>
                </a:lnTo>
                <a:lnTo>
                  <a:pt x="511" y="232"/>
                </a:lnTo>
                <a:lnTo>
                  <a:pt x="564" y="203"/>
                </a:lnTo>
                <a:lnTo>
                  <a:pt x="640" y="178"/>
                </a:lnTo>
                <a:lnTo>
                  <a:pt x="711" y="157"/>
                </a:lnTo>
                <a:lnTo>
                  <a:pt x="725" y="153"/>
                </a:lnTo>
                <a:lnTo>
                  <a:pt x="787" y="129"/>
                </a:lnTo>
                <a:lnTo>
                  <a:pt x="811" y="110"/>
                </a:lnTo>
                <a:lnTo>
                  <a:pt x="816" y="105"/>
                </a:lnTo>
                <a:lnTo>
                  <a:pt x="860" y="83"/>
                </a:lnTo>
                <a:lnTo>
                  <a:pt x="865" y="82"/>
                </a:lnTo>
                <a:lnTo>
                  <a:pt x="909" y="49"/>
                </a:lnTo>
                <a:lnTo>
                  <a:pt x="916" y="41"/>
                </a:lnTo>
                <a:lnTo>
                  <a:pt x="972" y="13"/>
                </a:lnTo>
                <a:lnTo>
                  <a:pt x="1041" y="6"/>
                </a:lnTo>
                <a:lnTo>
                  <a:pt x="1057" y="6"/>
                </a:lnTo>
                <a:lnTo>
                  <a:pt x="1128" y="13"/>
                </a:lnTo>
                <a:lnTo>
                  <a:pt x="1188" y="24"/>
                </a:lnTo>
                <a:lnTo>
                  <a:pt x="1211" y="27"/>
                </a:lnTo>
                <a:lnTo>
                  <a:pt x="1235" y="30"/>
                </a:lnTo>
                <a:lnTo>
                  <a:pt x="1262" y="31"/>
                </a:lnTo>
                <a:lnTo>
                  <a:pt x="1290" y="32"/>
                </a:lnTo>
                <a:lnTo>
                  <a:pt x="1320" y="32"/>
                </a:lnTo>
                <a:lnTo>
                  <a:pt x="1350" y="32"/>
                </a:lnTo>
                <a:lnTo>
                  <a:pt x="1413" y="29"/>
                </a:lnTo>
                <a:lnTo>
                  <a:pt x="1475" y="25"/>
                </a:lnTo>
                <a:lnTo>
                  <a:pt x="1562" y="17"/>
                </a:lnTo>
                <a:lnTo>
                  <a:pt x="1633" y="10"/>
                </a:lnTo>
                <a:lnTo>
                  <a:pt x="1652" y="8"/>
                </a:lnTo>
                <a:lnTo>
                  <a:pt x="1667" y="6"/>
                </a:lnTo>
                <a:lnTo>
                  <a:pt x="1679" y="5"/>
                </a:lnTo>
                <a:lnTo>
                  <a:pt x="1687" y="5"/>
                </a:lnTo>
                <a:lnTo>
                  <a:pt x="1709" y="4"/>
                </a:lnTo>
                <a:lnTo>
                  <a:pt x="1729" y="3"/>
                </a:lnTo>
                <a:lnTo>
                  <a:pt x="1749" y="3"/>
                </a:lnTo>
                <a:lnTo>
                  <a:pt x="1767" y="2"/>
                </a:lnTo>
                <a:lnTo>
                  <a:pt x="1784" y="1"/>
                </a:lnTo>
                <a:lnTo>
                  <a:pt x="1800" y="0"/>
                </a:lnTo>
                <a:lnTo>
                  <a:pt x="1814" y="0"/>
                </a:lnTo>
                <a:lnTo>
                  <a:pt x="1827" y="0"/>
                </a:lnTo>
                <a:close/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70080" y="2695680"/>
            <a:ext cx="2114640" cy="1162080"/>
          </a:xfrm>
          <a:custGeom>
            <a:avLst/>
            <a:gdLst/>
            <a:ahLst/>
            <a:rect l="l" t="t" r="r" b="b"/>
            <a:pathLst>
              <a:path w="1904" h="1044">
                <a:moveTo>
                  <a:pt x="1827" y="0"/>
                </a:moveTo>
                <a:lnTo>
                  <a:pt x="1883" y="24"/>
                </a:lnTo>
                <a:lnTo>
                  <a:pt x="1884" y="31"/>
                </a:lnTo>
                <a:lnTo>
                  <a:pt x="1883" y="39"/>
                </a:lnTo>
                <a:lnTo>
                  <a:pt x="1881" y="49"/>
                </a:lnTo>
                <a:lnTo>
                  <a:pt x="1877" y="61"/>
                </a:lnTo>
                <a:lnTo>
                  <a:pt x="1873" y="74"/>
                </a:lnTo>
                <a:lnTo>
                  <a:pt x="1859" y="148"/>
                </a:lnTo>
                <a:lnTo>
                  <a:pt x="1850" y="219"/>
                </a:lnTo>
                <a:lnTo>
                  <a:pt x="1845" y="295"/>
                </a:lnTo>
                <a:lnTo>
                  <a:pt x="1842" y="369"/>
                </a:lnTo>
                <a:lnTo>
                  <a:pt x="1841" y="392"/>
                </a:lnTo>
                <a:lnTo>
                  <a:pt x="1841" y="414"/>
                </a:lnTo>
                <a:lnTo>
                  <a:pt x="1845" y="485"/>
                </a:lnTo>
                <a:lnTo>
                  <a:pt x="1864" y="544"/>
                </a:lnTo>
                <a:lnTo>
                  <a:pt x="1885" y="583"/>
                </a:lnTo>
                <a:lnTo>
                  <a:pt x="1889" y="591"/>
                </a:lnTo>
                <a:lnTo>
                  <a:pt x="1904" y="629"/>
                </a:lnTo>
                <a:lnTo>
                  <a:pt x="1904" y="636"/>
                </a:lnTo>
                <a:lnTo>
                  <a:pt x="1858" y="678"/>
                </a:lnTo>
                <a:lnTo>
                  <a:pt x="1794" y="700"/>
                </a:lnTo>
                <a:lnTo>
                  <a:pt x="1730" y="714"/>
                </a:lnTo>
                <a:lnTo>
                  <a:pt x="1661" y="723"/>
                </a:lnTo>
                <a:lnTo>
                  <a:pt x="1594" y="728"/>
                </a:lnTo>
                <a:lnTo>
                  <a:pt x="1522" y="732"/>
                </a:lnTo>
                <a:lnTo>
                  <a:pt x="1493" y="732"/>
                </a:lnTo>
                <a:lnTo>
                  <a:pt x="1475" y="732"/>
                </a:lnTo>
                <a:lnTo>
                  <a:pt x="1397" y="730"/>
                </a:lnTo>
                <a:lnTo>
                  <a:pt x="1336" y="726"/>
                </a:lnTo>
                <a:lnTo>
                  <a:pt x="1274" y="722"/>
                </a:lnTo>
                <a:lnTo>
                  <a:pt x="1196" y="714"/>
                </a:lnTo>
                <a:lnTo>
                  <a:pt x="1127" y="706"/>
                </a:lnTo>
                <a:lnTo>
                  <a:pt x="1120" y="705"/>
                </a:lnTo>
                <a:lnTo>
                  <a:pt x="1113" y="705"/>
                </a:lnTo>
                <a:lnTo>
                  <a:pt x="1078" y="702"/>
                </a:lnTo>
                <a:lnTo>
                  <a:pt x="1074" y="702"/>
                </a:lnTo>
                <a:lnTo>
                  <a:pt x="1010" y="709"/>
                </a:lnTo>
                <a:lnTo>
                  <a:pt x="1010" y="708"/>
                </a:lnTo>
                <a:lnTo>
                  <a:pt x="980" y="655"/>
                </a:lnTo>
                <a:lnTo>
                  <a:pt x="981" y="645"/>
                </a:lnTo>
                <a:lnTo>
                  <a:pt x="983" y="634"/>
                </a:lnTo>
                <a:lnTo>
                  <a:pt x="985" y="623"/>
                </a:lnTo>
                <a:lnTo>
                  <a:pt x="989" y="610"/>
                </a:lnTo>
                <a:lnTo>
                  <a:pt x="991" y="597"/>
                </a:lnTo>
                <a:lnTo>
                  <a:pt x="951" y="553"/>
                </a:lnTo>
                <a:lnTo>
                  <a:pt x="881" y="540"/>
                </a:lnTo>
                <a:lnTo>
                  <a:pt x="862" y="539"/>
                </a:lnTo>
                <a:lnTo>
                  <a:pt x="843" y="540"/>
                </a:lnTo>
                <a:lnTo>
                  <a:pt x="777" y="553"/>
                </a:lnTo>
                <a:lnTo>
                  <a:pt x="746" y="587"/>
                </a:lnTo>
                <a:lnTo>
                  <a:pt x="746" y="590"/>
                </a:lnTo>
                <a:lnTo>
                  <a:pt x="755" y="650"/>
                </a:lnTo>
                <a:lnTo>
                  <a:pt x="777" y="684"/>
                </a:lnTo>
                <a:lnTo>
                  <a:pt x="777" y="684"/>
                </a:lnTo>
                <a:lnTo>
                  <a:pt x="777" y="685"/>
                </a:lnTo>
                <a:lnTo>
                  <a:pt x="778" y="685"/>
                </a:lnTo>
                <a:lnTo>
                  <a:pt x="778" y="686"/>
                </a:lnTo>
                <a:lnTo>
                  <a:pt x="778" y="687"/>
                </a:lnTo>
                <a:lnTo>
                  <a:pt x="778" y="689"/>
                </a:lnTo>
                <a:lnTo>
                  <a:pt x="748" y="742"/>
                </a:lnTo>
                <a:lnTo>
                  <a:pt x="742" y="750"/>
                </a:lnTo>
                <a:lnTo>
                  <a:pt x="710" y="813"/>
                </a:lnTo>
                <a:lnTo>
                  <a:pt x="705" y="824"/>
                </a:lnTo>
                <a:lnTo>
                  <a:pt x="673" y="882"/>
                </a:lnTo>
                <a:lnTo>
                  <a:pt x="640" y="904"/>
                </a:lnTo>
                <a:lnTo>
                  <a:pt x="632" y="903"/>
                </a:lnTo>
                <a:lnTo>
                  <a:pt x="587" y="881"/>
                </a:lnTo>
                <a:lnTo>
                  <a:pt x="587" y="878"/>
                </a:lnTo>
                <a:lnTo>
                  <a:pt x="552" y="825"/>
                </a:lnTo>
                <a:lnTo>
                  <a:pt x="512" y="803"/>
                </a:lnTo>
                <a:lnTo>
                  <a:pt x="506" y="803"/>
                </a:lnTo>
                <a:lnTo>
                  <a:pt x="477" y="822"/>
                </a:lnTo>
                <a:lnTo>
                  <a:pt x="470" y="828"/>
                </a:lnTo>
                <a:lnTo>
                  <a:pt x="413" y="861"/>
                </a:lnTo>
                <a:lnTo>
                  <a:pt x="369" y="880"/>
                </a:lnTo>
                <a:lnTo>
                  <a:pt x="358" y="884"/>
                </a:lnTo>
                <a:lnTo>
                  <a:pt x="303" y="911"/>
                </a:lnTo>
                <a:lnTo>
                  <a:pt x="277" y="947"/>
                </a:lnTo>
                <a:lnTo>
                  <a:pt x="275" y="951"/>
                </a:lnTo>
                <a:lnTo>
                  <a:pt x="245" y="992"/>
                </a:lnTo>
                <a:lnTo>
                  <a:pt x="240" y="996"/>
                </a:lnTo>
                <a:lnTo>
                  <a:pt x="235" y="1001"/>
                </a:lnTo>
                <a:lnTo>
                  <a:pt x="230" y="1006"/>
                </a:lnTo>
                <a:lnTo>
                  <a:pt x="225" y="1012"/>
                </a:lnTo>
                <a:lnTo>
                  <a:pt x="219" y="1018"/>
                </a:lnTo>
                <a:lnTo>
                  <a:pt x="214" y="1023"/>
                </a:lnTo>
                <a:lnTo>
                  <a:pt x="178" y="1044"/>
                </a:lnTo>
                <a:lnTo>
                  <a:pt x="171" y="1042"/>
                </a:lnTo>
                <a:lnTo>
                  <a:pt x="129" y="982"/>
                </a:lnTo>
                <a:lnTo>
                  <a:pt x="113" y="940"/>
                </a:lnTo>
                <a:lnTo>
                  <a:pt x="105" y="919"/>
                </a:lnTo>
                <a:lnTo>
                  <a:pt x="77" y="863"/>
                </a:lnTo>
                <a:lnTo>
                  <a:pt x="58" y="829"/>
                </a:lnTo>
                <a:lnTo>
                  <a:pt x="48" y="813"/>
                </a:lnTo>
                <a:lnTo>
                  <a:pt x="17" y="748"/>
                </a:lnTo>
                <a:lnTo>
                  <a:pt x="1" y="679"/>
                </a:lnTo>
                <a:lnTo>
                  <a:pt x="0" y="660"/>
                </a:lnTo>
                <a:lnTo>
                  <a:pt x="1" y="639"/>
                </a:lnTo>
                <a:lnTo>
                  <a:pt x="4" y="618"/>
                </a:lnTo>
                <a:lnTo>
                  <a:pt x="9" y="595"/>
                </a:lnTo>
                <a:lnTo>
                  <a:pt x="14" y="573"/>
                </a:lnTo>
                <a:lnTo>
                  <a:pt x="18" y="553"/>
                </a:lnTo>
                <a:lnTo>
                  <a:pt x="28" y="493"/>
                </a:lnTo>
                <a:lnTo>
                  <a:pt x="32" y="455"/>
                </a:lnTo>
                <a:lnTo>
                  <a:pt x="33" y="448"/>
                </a:lnTo>
                <a:lnTo>
                  <a:pt x="49" y="385"/>
                </a:lnTo>
                <a:lnTo>
                  <a:pt x="80" y="327"/>
                </a:lnTo>
                <a:lnTo>
                  <a:pt x="130" y="292"/>
                </a:lnTo>
                <a:lnTo>
                  <a:pt x="135" y="292"/>
                </a:lnTo>
                <a:lnTo>
                  <a:pt x="140" y="292"/>
                </a:lnTo>
                <a:lnTo>
                  <a:pt x="197" y="308"/>
                </a:lnTo>
                <a:lnTo>
                  <a:pt x="206" y="311"/>
                </a:lnTo>
                <a:lnTo>
                  <a:pt x="271" y="331"/>
                </a:lnTo>
                <a:lnTo>
                  <a:pt x="294" y="334"/>
                </a:lnTo>
                <a:lnTo>
                  <a:pt x="300" y="334"/>
                </a:lnTo>
                <a:lnTo>
                  <a:pt x="306" y="333"/>
                </a:lnTo>
                <a:lnTo>
                  <a:pt x="311" y="332"/>
                </a:lnTo>
                <a:lnTo>
                  <a:pt x="319" y="332"/>
                </a:lnTo>
                <a:lnTo>
                  <a:pt x="387" y="318"/>
                </a:lnTo>
                <a:lnTo>
                  <a:pt x="446" y="289"/>
                </a:lnTo>
                <a:lnTo>
                  <a:pt x="496" y="250"/>
                </a:lnTo>
                <a:lnTo>
                  <a:pt x="509" y="234"/>
                </a:lnTo>
                <a:lnTo>
                  <a:pt x="511" y="232"/>
                </a:lnTo>
                <a:lnTo>
                  <a:pt x="564" y="203"/>
                </a:lnTo>
                <a:lnTo>
                  <a:pt x="640" y="178"/>
                </a:lnTo>
                <a:lnTo>
                  <a:pt x="711" y="156"/>
                </a:lnTo>
                <a:lnTo>
                  <a:pt x="725" y="152"/>
                </a:lnTo>
                <a:lnTo>
                  <a:pt x="787" y="129"/>
                </a:lnTo>
                <a:lnTo>
                  <a:pt x="811" y="110"/>
                </a:lnTo>
                <a:lnTo>
                  <a:pt x="816" y="104"/>
                </a:lnTo>
                <a:lnTo>
                  <a:pt x="860" y="82"/>
                </a:lnTo>
                <a:lnTo>
                  <a:pt x="864" y="81"/>
                </a:lnTo>
                <a:lnTo>
                  <a:pt x="909" y="48"/>
                </a:lnTo>
                <a:lnTo>
                  <a:pt x="916" y="41"/>
                </a:lnTo>
                <a:lnTo>
                  <a:pt x="972" y="12"/>
                </a:lnTo>
                <a:lnTo>
                  <a:pt x="1041" y="5"/>
                </a:lnTo>
                <a:lnTo>
                  <a:pt x="1057" y="6"/>
                </a:lnTo>
                <a:lnTo>
                  <a:pt x="1128" y="13"/>
                </a:lnTo>
                <a:lnTo>
                  <a:pt x="1188" y="23"/>
                </a:lnTo>
                <a:lnTo>
                  <a:pt x="1211" y="27"/>
                </a:lnTo>
                <a:lnTo>
                  <a:pt x="1235" y="29"/>
                </a:lnTo>
                <a:lnTo>
                  <a:pt x="1262" y="31"/>
                </a:lnTo>
                <a:lnTo>
                  <a:pt x="1290" y="32"/>
                </a:lnTo>
                <a:lnTo>
                  <a:pt x="1320" y="32"/>
                </a:lnTo>
                <a:lnTo>
                  <a:pt x="1350" y="31"/>
                </a:lnTo>
                <a:lnTo>
                  <a:pt x="1413" y="28"/>
                </a:lnTo>
                <a:lnTo>
                  <a:pt x="1475" y="24"/>
                </a:lnTo>
                <a:lnTo>
                  <a:pt x="1562" y="16"/>
                </a:lnTo>
                <a:lnTo>
                  <a:pt x="1633" y="9"/>
                </a:lnTo>
                <a:lnTo>
                  <a:pt x="1652" y="7"/>
                </a:lnTo>
                <a:lnTo>
                  <a:pt x="1667" y="6"/>
                </a:lnTo>
                <a:lnTo>
                  <a:pt x="1679" y="5"/>
                </a:lnTo>
                <a:lnTo>
                  <a:pt x="1687" y="4"/>
                </a:lnTo>
                <a:lnTo>
                  <a:pt x="1709" y="4"/>
                </a:lnTo>
                <a:lnTo>
                  <a:pt x="1729" y="3"/>
                </a:lnTo>
                <a:lnTo>
                  <a:pt x="1749" y="2"/>
                </a:lnTo>
                <a:lnTo>
                  <a:pt x="1767" y="1"/>
                </a:lnTo>
                <a:lnTo>
                  <a:pt x="1784" y="0"/>
                </a:lnTo>
                <a:lnTo>
                  <a:pt x="1799" y="0"/>
                </a:lnTo>
                <a:lnTo>
                  <a:pt x="1814" y="0"/>
                </a:lnTo>
                <a:lnTo>
                  <a:pt x="1827" y="0"/>
                </a:lnTo>
                <a:close/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11440" y="2421000"/>
            <a:ext cx="676440" cy="654120"/>
          </a:xfrm>
          <a:custGeom>
            <a:avLst/>
            <a:gdLst/>
            <a:ahLst/>
            <a:rect l="l" t="t" r="r" b="b"/>
            <a:pathLst>
              <a:path w="606" h="589">
                <a:moveTo>
                  <a:pt x="241" y="0"/>
                </a:moveTo>
                <a:lnTo>
                  <a:pt x="296" y="24"/>
                </a:lnTo>
                <a:lnTo>
                  <a:pt x="344" y="76"/>
                </a:lnTo>
                <a:lnTo>
                  <a:pt x="377" y="139"/>
                </a:lnTo>
                <a:lnTo>
                  <a:pt x="401" y="202"/>
                </a:lnTo>
                <a:lnTo>
                  <a:pt x="409" y="229"/>
                </a:lnTo>
                <a:lnTo>
                  <a:pt x="413" y="240"/>
                </a:lnTo>
                <a:lnTo>
                  <a:pt x="440" y="296"/>
                </a:lnTo>
                <a:lnTo>
                  <a:pt x="502" y="322"/>
                </a:lnTo>
                <a:lnTo>
                  <a:pt x="561" y="336"/>
                </a:lnTo>
                <a:lnTo>
                  <a:pt x="579" y="348"/>
                </a:lnTo>
                <a:lnTo>
                  <a:pt x="593" y="359"/>
                </a:lnTo>
                <a:lnTo>
                  <a:pt x="602" y="371"/>
                </a:lnTo>
                <a:lnTo>
                  <a:pt x="606" y="383"/>
                </a:lnTo>
                <a:lnTo>
                  <a:pt x="606" y="395"/>
                </a:lnTo>
                <a:lnTo>
                  <a:pt x="603" y="407"/>
                </a:lnTo>
                <a:lnTo>
                  <a:pt x="559" y="457"/>
                </a:lnTo>
                <a:lnTo>
                  <a:pt x="504" y="495"/>
                </a:lnTo>
                <a:lnTo>
                  <a:pt x="440" y="535"/>
                </a:lnTo>
                <a:lnTo>
                  <a:pt x="418" y="548"/>
                </a:lnTo>
                <a:lnTo>
                  <a:pt x="397" y="562"/>
                </a:lnTo>
                <a:lnTo>
                  <a:pt x="376" y="575"/>
                </a:lnTo>
                <a:lnTo>
                  <a:pt x="356" y="589"/>
                </a:lnTo>
                <a:lnTo>
                  <a:pt x="347" y="585"/>
                </a:lnTo>
                <a:lnTo>
                  <a:pt x="307" y="540"/>
                </a:lnTo>
                <a:lnTo>
                  <a:pt x="306" y="532"/>
                </a:lnTo>
                <a:lnTo>
                  <a:pt x="305" y="524"/>
                </a:lnTo>
                <a:lnTo>
                  <a:pt x="272" y="469"/>
                </a:lnTo>
                <a:lnTo>
                  <a:pt x="214" y="450"/>
                </a:lnTo>
                <a:lnTo>
                  <a:pt x="167" y="441"/>
                </a:lnTo>
                <a:lnTo>
                  <a:pt x="159" y="440"/>
                </a:lnTo>
                <a:lnTo>
                  <a:pt x="98" y="424"/>
                </a:lnTo>
                <a:lnTo>
                  <a:pt x="47" y="387"/>
                </a:lnTo>
                <a:lnTo>
                  <a:pt x="39" y="380"/>
                </a:lnTo>
                <a:lnTo>
                  <a:pt x="35" y="376"/>
                </a:lnTo>
                <a:lnTo>
                  <a:pt x="31" y="373"/>
                </a:lnTo>
                <a:lnTo>
                  <a:pt x="27" y="369"/>
                </a:lnTo>
                <a:lnTo>
                  <a:pt x="23" y="366"/>
                </a:lnTo>
                <a:lnTo>
                  <a:pt x="20" y="363"/>
                </a:lnTo>
                <a:lnTo>
                  <a:pt x="0" y="304"/>
                </a:lnTo>
                <a:lnTo>
                  <a:pt x="0" y="293"/>
                </a:lnTo>
                <a:lnTo>
                  <a:pt x="0" y="287"/>
                </a:lnTo>
                <a:lnTo>
                  <a:pt x="15" y="224"/>
                </a:lnTo>
                <a:lnTo>
                  <a:pt x="55" y="170"/>
                </a:lnTo>
                <a:lnTo>
                  <a:pt x="89" y="147"/>
                </a:lnTo>
                <a:lnTo>
                  <a:pt x="93" y="145"/>
                </a:lnTo>
                <a:lnTo>
                  <a:pt x="116" y="94"/>
                </a:lnTo>
                <a:lnTo>
                  <a:pt x="117" y="90"/>
                </a:lnTo>
                <a:lnTo>
                  <a:pt x="156" y="36"/>
                </a:lnTo>
                <a:lnTo>
                  <a:pt x="214" y="2"/>
                </a:lnTo>
                <a:lnTo>
                  <a:pt x="232" y="0"/>
                </a:lnTo>
                <a:lnTo>
                  <a:pt x="24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11440" y="2421000"/>
            <a:ext cx="676440" cy="654120"/>
          </a:xfrm>
          <a:custGeom>
            <a:avLst/>
            <a:gdLst/>
            <a:ahLst/>
            <a:rect l="l" t="t" r="r" b="b"/>
            <a:pathLst>
              <a:path w="606" h="589">
                <a:moveTo>
                  <a:pt x="356" y="589"/>
                </a:moveTo>
                <a:lnTo>
                  <a:pt x="418" y="548"/>
                </a:lnTo>
                <a:lnTo>
                  <a:pt x="462" y="522"/>
                </a:lnTo>
                <a:lnTo>
                  <a:pt x="483" y="508"/>
                </a:lnTo>
                <a:lnTo>
                  <a:pt x="542" y="470"/>
                </a:lnTo>
                <a:lnTo>
                  <a:pt x="596" y="420"/>
                </a:lnTo>
                <a:lnTo>
                  <a:pt x="606" y="395"/>
                </a:lnTo>
                <a:lnTo>
                  <a:pt x="606" y="383"/>
                </a:lnTo>
                <a:lnTo>
                  <a:pt x="561" y="336"/>
                </a:lnTo>
                <a:lnTo>
                  <a:pt x="544" y="332"/>
                </a:lnTo>
                <a:lnTo>
                  <a:pt x="528" y="328"/>
                </a:lnTo>
                <a:lnTo>
                  <a:pt x="465" y="311"/>
                </a:lnTo>
                <a:lnTo>
                  <a:pt x="423" y="266"/>
                </a:lnTo>
                <a:lnTo>
                  <a:pt x="405" y="216"/>
                </a:lnTo>
                <a:lnTo>
                  <a:pt x="401" y="202"/>
                </a:lnTo>
                <a:lnTo>
                  <a:pt x="377" y="139"/>
                </a:lnTo>
                <a:lnTo>
                  <a:pt x="344" y="76"/>
                </a:lnTo>
                <a:lnTo>
                  <a:pt x="296" y="24"/>
                </a:lnTo>
                <a:lnTo>
                  <a:pt x="241" y="0"/>
                </a:lnTo>
                <a:lnTo>
                  <a:pt x="232" y="0"/>
                </a:lnTo>
                <a:lnTo>
                  <a:pt x="223" y="0"/>
                </a:lnTo>
                <a:lnTo>
                  <a:pt x="163" y="29"/>
                </a:lnTo>
                <a:lnTo>
                  <a:pt x="123" y="75"/>
                </a:lnTo>
                <a:lnTo>
                  <a:pt x="116" y="99"/>
                </a:lnTo>
                <a:lnTo>
                  <a:pt x="115" y="103"/>
                </a:lnTo>
                <a:lnTo>
                  <a:pt x="85" y="148"/>
                </a:lnTo>
                <a:lnTo>
                  <a:pt x="80" y="150"/>
                </a:lnTo>
                <a:lnTo>
                  <a:pt x="34" y="196"/>
                </a:lnTo>
                <a:lnTo>
                  <a:pt x="3" y="252"/>
                </a:lnTo>
                <a:lnTo>
                  <a:pt x="0" y="293"/>
                </a:lnTo>
                <a:lnTo>
                  <a:pt x="0" y="299"/>
                </a:lnTo>
                <a:lnTo>
                  <a:pt x="17" y="359"/>
                </a:lnTo>
                <a:lnTo>
                  <a:pt x="27" y="369"/>
                </a:lnTo>
                <a:lnTo>
                  <a:pt x="31" y="373"/>
                </a:lnTo>
                <a:lnTo>
                  <a:pt x="35" y="376"/>
                </a:lnTo>
                <a:lnTo>
                  <a:pt x="39" y="380"/>
                </a:lnTo>
                <a:lnTo>
                  <a:pt x="42" y="384"/>
                </a:lnTo>
                <a:lnTo>
                  <a:pt x="47" y="387"/>
                </a:lnTo>
                <a:lnTo>
                  <a:pt x="98" y="424"/>
                </a:lnTo>
                <a:lnTo>
                  <a:pt x="159" y="440"/>
                </a:lnTo>
                <a:lnTo>
                  <a:pt x="175" y="443"/>
                </a:lnTo>
                <a:lnTo>
                  <a:pt x="183" y="444"/>
                </a:lnTo>
                <a:lnTo>
                  <a:pt x="244" y="458"/>
                </a:lnTo>
                <a:lnTo>
                  <a:pt x="298" y="493"/>
                </a:lnTo>
                <a:lnTo>
                  <a:pt x="307" y="540"/>
                </a:lnTo>
                <a:lnTo>
                  <a:pt x="308" y="547"/>
                </a:lnTo>
                <a:lnTo>
                  <a:pt x="338" y="586"/>
                </a:lnTo>
                <a:lnTo>
                  <a:pt x="347" y="58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10000" y="2887560"/>
            <a:ext cx="674640" cy="389160"/>
          </a:xfrm>
          <a:custGeom>
            <a:avLst/>
            <a:gdLst/>
            <a:ahLst/>
            <a:rect l="l" t="t" r="r" b="b"/>
            <a:pathLst>
              <a:path w="607" h="349">
                <a:moveTo>
                  <a:pt x="486" y="26"/>
                </a:moveTo>
                <a:lnTo>
                  <a:pt x="539" y="72"/>
                </a:lnTo>
                <a:lnTo>
                  <a:pt x="573" y="127"/>
                </a:lnTo>
                <a:lnTo>
                  <a:pt x="597" y="187"/>
                </a:lnTo>
                <a:lnTo>
                  <a:pt x="607" y="240"/>
                </a:lnTo>
                <a:lnTo>
                  <a:pt x="607" y="254"/>
                </a:lnTo>
                <a:lnTo>
                  <a:pt x="605" y="266"/>
                </a:lnTo>
                <a:lnTo>
                  <a:pt x="600" y="275"/>
                </a:lnTo>
                <a:lnTo>
                  <a:pt x="593" y="281"/>
                </a:lnTo>
                <a:lnTo>
                  <a:pt x="583" y="283"/>
                </a:lnTo>
                <a:lnTo>
                  <a:pt x="570" y="281"/>
                </a:lnTo>
                <a:lnTo>
                  <a:pt x="555" y="275"/>
                </a:lnTo>
                <a:lnTo>
                  <a:pt x="541" y="269"/>
                </a:lnTo>
                <a:lnTo>
                  <a:pt x="528" y="263"/>
                </a:lnTo>
                <a:lnTo>
                  <a:pt x="460" y="243"/>
                </a:lnTo>
                <a:lnTo>
                  <a:pt x="394" y="236"/>
                </a:lnTo>
                <a:lnTo>
                  <a:pt x="382" y="236"/>
                </a:lnTo>
                <a:lnTo>
                  <a:pt x="322" y="243"/>
                </a:lnTo>
                <a:lnTo>
                  <a:pt x="265" y="272"/>
                </a:lnTo>
                <a:lnTo>
                  <a:pt x="224" y="321"/>
                </a:lnTo>
                <a:lnTo>
                  <a:pt x="221" y="326"/>
                </a:lnTo>
                <a:lnTo>
                  <a:pt x="217" y="332"/>
                </a:lnTo>
                <a:lnTo>
                  <a:pt x="160" y="349"/>
                </a:lnTo>
                <a:lnTo>
                  <a:pt x="149" y="349"/>
                </a:lnTo>
                <a:lnTo>
                  <a:pt x="82" y="336"/>
                </a:lnTo>
                <a:lnTo>
                  <a:pt x="30" y="302"/>
                </a:lnTo>
                <a:lnTo>
                  <a:pt x="2" y="242"/>
                </a:lnTo>
                <a:lnTo>
                  <a:pt x="0" y="212"/>
                </a:lnTo>
                <a:lnTo>
                  <a:pt x="0" y="201"/>
                </a:lnTo>
                <a:lnTo>
                  <a:pt x="15" y="140"/>
                </a:lnTo>
                <a:lnTo>
                  <a:pt x="58" y="89"/>
                </a:lnTo>
                <a:lnTo>
                  <a:pt x="103" y="80"/>
                </a:lnTo>
                <a:lnTo>
                  <a:pt x="113" y="80"/>
                </a:lnTo>
                <a:lnTo>
                  <a:pt x="180" y="88"/>
                </a:lnTo>
                <a:lnTo>
                  <a:pt x="192" y="90"/>
                </a:lnTo>
                <a:lnTo>
                  <a:pt x="204" y="91"/>
                </a:lnTo>
                <a:lnTo>
                  <a:pt x="217" y="93"/>
                </a:lnTo>
                <a:lnTo>
                  <a:pt x="229" y="94"/>
                </a:lnTo>
                <a:lnTo>
                  <a:pt x="241" y="95"/>
                </a:lnTo>
                <a:lnTo>
                  <a:pt x="254" y="95"/>
                </a:lnTo>
                <a:lnTo>
                  <a:pt x="316" y="84"/>
                </a:lnTo>
                <a:lnTo>
                  <a:pt x="370" y="58"/>
                </a:lnTo>
                <a:lnTo>
                  <a:pt x="412" y="9"/>
                </a:lnTo>
                <a:lnTo>
                  <a:pt x="415" y="0"/>
                </a:lnTo>
                <a:lnTo>
                  <a:pt x="486" y="2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10000" y="2887560"/>
            <a:ext cx="674640" cy="389160"/>
          </a:xfrm>
          <a:custGeom>
            <a:avLst/>
            <a:gdLst/>
            <a:ahLst/>
            <a:rect l="l" t="t" r="r" b="b"/>
            <a:pathLst>
              <a:path w="607" h="349">
                <a:moveTo>
                  <a:pt x="300" y="249"/>
                </a:moveTo>
                <a:lnTo>
                  <a:pt x="369" y="237"/>
                </a:lnTo>
                <a:lnTo>
                  <a:pt x="394" y="236"/>
                </a:lnTo>
                <a:lnTo>
                  <a:pt x="407" y="237"/>
                </a:lnTo>
                <a:lnTo>
                  <a:pt x="474" y="246"/>
                </a:lnTo>
                <a:lnTo>
                  <a:pt x="541" y="269"/>
                </a:lnTo>
                <a:lnTo>
                  <a:pt x="555" y="275"/>
                </a:lnTo>
                <a:lnTo>
                  <a:pt x="570" y="281"/>
                </a:lnTo>
                <a:lnTo>
                  <a:pt x="607" y="240"/>
                </a:lnTo>
                <a:lnTo>
                  <a:pt x="606" y="223"/>
                </a:lnTo>
                <a:lnTo>
                  <a:pt x="582" y="147"/>
                </a:lnTo>
                <a:lnTo>
                  <a:pt x="551" y="89"/>
                </a:lnTo>
                <a:lnTo>
                  <a:pt x="500" y="33"/>
                </a:lnTo>
                <a:lnTo>
                  <a:pt x="415" y="0"/>
                </a:lnTo>
                <a:lnTo>
                  <a:pt x="412" y="9"/>
                </a:lnTo>
                <a:lnTo>
                  <a:pt x="407" y="18"/>
                </a:lnTo>
                <a:lnTo>
                  <a:pt x="360" y="64"/>
                </a:lnTo>
                <a:lnTo>
                  <a:pt x="304" y="87"/>
                </a:lnTo>
                <a:lnTo>
                  <a:pt x="241" y="95"/>
                </a:lnTo>
                <a:lnTo>
                  <a:pt x="229" y="94"/>
                </a:lnTo>
                <a:lnTo>
                  <a:pt x="217" y="93"/>
                </a:lnTo>
                <a:lnTo>
                  <a:pt x="204" y="91"/>
                </a:lnTo>
                <a:lnTo>
                  <a:pt x="192" y="90"/>
                </a:lnTo>
                <a:lnTo>
                  <a:pt x="180" y="88"/>
                </a:lnTo>
                <a:lnTo>
                  <a:pt x="168" y="86"/>
                </a:lnTo>
                <a:lnTo>
                  <a:pt x="103" y="80"/>
                </a:lnTo>
                <a:lnTo>
                  <a:pt x="93" y="80"/>
                </a:lnTo>
                <a:lnTo>
                  <a:pt x="36" y="105"/>
                </a:lnTo>
                <a:lnTo>
                  <a:pt x="8" y="160"/>
                </a:lnTo>
                <a:lnTo>
                  <a:pt x="0" y="212"/>
                </a:lnTo>
                <a:lnTo>
                  <a:pt x="0" y="222"/>
                </a:lnTo>
                <a:lnTo>
                  <a:pt x="19" y="287"/>
                </a:lnTo>
                <a:lnTo>
                  <a:pt x="71" y="332"/>
                </a:lnTo>
                <a:lnTo>
                  <a:pt x="138" y="348"/>
                </a:lnTo>
                <a:lnTo>
                  <a:pt x="160" y="349"/>
                </a:lnTo>
                <a:lnTo>
                  <a:pt x="171" y="349"/>
                </a:lnTo>
                <a:lnTo>
                  <a:pt x="224" y="321"/>
                </a:lnTo>
                <a:lnTo>
                  <a:pt x="227" y="315"/>
                </a:lnTo>
                <a:lnTo>
                  <a:pt x="269" y="268"/>
                </a:lnTo>
                <a:lnTo>
                  <a:pt x="297" y="250"/>
                </a:lnTo>
                <a:lnTo>
                  <a:pt x="300" y="24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2851200"/>
            <a:ext cx="252360" cy="342720"/>
          </a:xfrm>
          <a:custGeom>
            <a:avLst/>
            <a:gdLst/>
            <a:ahLst/>
            <a:rect l="l" t="t" r="r" b="b"/>
            <a:pathLst>
              <a:path w="227" h="308">
                <a:moveTo>
                  <a:pt x="101" y="0"/>
                </a:moveTo>
                <a:lnTo>
                  <a:pt x="160" y="25"/>
                </a:lnTo>
                <a:lnTo>
                  <a:pt x="189" y="81"/>
                </a:lnTo>
                <a:lnTo>
                  <a:pt x="189" y="88"/>
                </a:lnTo>
                <a:lnTo>
                  <a:pt x="190" y="96"/>
                </a:lnTo>
                <a:lnTo>
                  <a:pt x="204" y="157"/>
                </a:lnTo>
                <a:lnTo>
                  <a:pt x="207" y="172"/>
                </a:lnTo>
                <a:lnTo>
                  <a:pt x="211" y="187"/>
                </a:lnTo>
                <a:lnTo>
                  <a:pt x="226" y="258"/>
                </a:lnTo>
                <a:lnTo>
                  <a:pt x="227" y="280"/>
                </a:lnTo>
                <a:lnTo>
                  <a:pt x="226" y="290"/>
                </a:lnTo>
                <a:lnTo>
                  <a:pt x="224" y="297"/>
                </a:lnTo>
                <a:lnTo>
                  <a:pt x="220" y="303"/>
                </a:lnTo>
                <a:lnTo>
                  <a:pt x="215" y="307"/>
                </a:lnTo>
                <a:lnTo>
                  <a:pt x="208" y="308"/>
                </a:lnTo>
                <a:lnTo>
                  <a:pt x="199" y="307"/>
                </a:lnTo>
                <a:lnTo>
                  <a:pt x="140" y="271"/>
                </a:lnTo>
                <a:lnTo>
                  <a:pt x="84" y="219"/>
                </a:lnTo>
                <a:lnTo>
                  <a:pt x="35" y="160"/>
                </a:lnTo>
                <a:lnTo>
                  <a:pt x="1" y="100"/>
                </a:lnTo>
                <a:lnTo>
                  <a:pt x="0" y="91"/>
                </a:lnTo>
                <a:lnTo>
                  <a:pt x="0" y="84"/>
                </a:lnTo>
                <a:lnTo>
                  <a:pt x="26" y="27"/>
                </a:lnTo>
                <a:lnTo>
                  <a:pt x="85" y="0"/>
                </a:lnTo>
                <a:lnTo>
                  <a:pt x="93" y="0"/>
                </a:lnTo>
                <a:lnTo>
                  <a:pt x="10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84640" y="2724120"/>
            <a:ext cx="947880" cy="55440"/>
          </a:xfrm>
          <a:custGeom>
            <a:avLst/>
            <a:gdLst/>
            <a:ahLst/>
            <a:rect l="l" t="t" r="r" b="b"/>
            <a:pathLst>
              <a:path w="852" h="52">
                <a:moveTo>
                  <a:pt x="842" y="12"/>
                </a:moveTo>
                <a:lnTo>
                  <a:pt x="852" y="2"/>
                </a:lnTo>
                <a:lnTo>
                  <a:pt x="852" y="1"/>
                </a:lnTo>
                <a:lnTo>
                  <a:pt x="850" y="0"/>
                </a:lnTo>
                <a:lnTo>
                  <a:pt x="848" y="0"/>
                </a:lnTo>
                <a:lnTo>
                  <a:pt x="846" y="0"/>
                </a:lnTo>
                <a:lnTo>
                  <a:pt x="842" y="0"/>
                </a:lnTo>
                <a:lnTo>
                  <a:pt x="837" y="0"/>
                </a:lnTo>
                <a:lnTo>
                  <a:pt x="770" y="5"/>
                </a:lnTo>
                <a:lnTo>
                  <a:pt x="704" y="12"/>
                </a:lnTo>
                <a:lnTo>
                  <a:pt x="628" y="24"/>
                </a:lnTo>
                <a:lnTo>
                  <a:pt x="607" y="28"/>
                </a:lnTo>
                <a:lnTo>
                  <a:pt x="543" y="37"/>
                </a:lnTo>
                <a:lnTo>
                  <a:pt x="476" y="46"/>
                </a:lnTo>
                <a:lnTo>
                  <a:pt x="405" y="51"/>
                </a:lnTo>
                <a:lnTo>
                  <a:pt x="357" y="52"/>
                </a:lnTo>
                <a:lnTo>
                  <a:pt x="332" y="52"/>
                </a:lnTo>
                <a:lnTo>
                  <a:pt x="260" y="48"/>
                </a:lnTo>
                <a:lnTo>
                  <a:pt x="193" y="43"/>
                </a:lnTo>
                <a:lnTo>
                  <a:pt x="133" y="36"/>
                </a:lnTo>
                <a:lnTo>
                  <a:pt x="81" y="30"/>
                </a:lnTo>
                <a:lnTo>
                  <a:pt x="67" y="28"/>
                </a:lnTo>
                <a:lnTo>
                  <a:pt x="5" y="23"/>
                </a:lnTo>
                <a:lnTo>
                  <a:pt x="0" y="23"/>
                </a:lnTo>
              </a:path>
            </a:pathLst>
          </a:custGeom>
          <a:noFill/>
          <a:ln w="1008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29080" y="3430440"/>
            <a:ext cx="674640" cy="600120"/>
          </a:xfrm>
          <a:custGeom>
            <a:avLst/>
            <a:gdLst/>
            <a:ahLst/>
            <a:rect l="l" t="t" r="r" b="b"/>
            <a:pathLst>
              <a:path w="607" h="539">
                <a:moveTo>
                  <a:pt x="237" y="0"/>
                </a:moveTo>
                <a:lnTo>
                  <a:pt x="304" y="14"/>
                </a:lnTo>
                <a:lnTo>
                  <a:pt x="312" y="17"/>
                </a:lnTo>
                <a:lnTo>
                  <a:pt x="366" y="44"/>
                </a:lnTo>
                <a:lnTo>
                  <a:pt x="399" y="95"/>
                </a:lnTo>
                <a:lnTo>
                  <a:pt x="411" y="162"/>
                </a:lnTo>
                <a:lnTo>
                  <a:pt x="412" y="173"/>
                </a:lnTo>
                <a:lnTo>
                  <a:pt x="431" y="233"/>
                </a:lnTo>
                <a:lnTo>
                  <a:pt x="482" y="267"/>
                </a:lnTo>
                <a:lnTo>
                  <a:pt x="544" y="282"/>
                </a:lnTo>
                <a:lnTo>
                  <a:pt x="561" y="286"/>
                </a:lnTo>
                <a:lnTo>
                  <a:pt x="580" y="298"/>
                </a:lnTo>
                <a:lnTo>
                  <a:pt x="593" y="310"/>
                </a:lnTo>
                <a:lnTo>
                  <a:pt x="602" y="322"/>
                </a:lnTo>
                <a:lnTo>
                  <a:pt x="606" y="333"/>
                </a:lnTo>
                <a:lnTo>
                  <a:pt x="607" y="346"/>
                </a:lnTo>
                <a:lnTo>
                  <a:pt x="603" y="358"/>
                </a:lnTo>
                <a:lnTo>
                  <a:pt x="560" y="407"/>
                </a:lnTo>
                <a:lnTo>
                  <a:pt x="504" y="446"/>
                </a:lnTo>
                <a:lnTo>
                  <a:pt x="440" y="485"/>
                </a:lnTo>
                <a:lnTo>
                  <a:pt x="418" y="499"/>
                </a:lnTo>
                <a:lnTo>
                  <a:pt x="397" y="512"/>
                </a:lnTo>
                <a:lnTo>
                  <a:pt x="376" y="526"/>
                </a:lnTo>
                <a:lnTo>
                  <a:pt x="356" y="539"/>
                </a:lnTo>
                <a:lnTo>
                  <a:pt x="347" y="536"/>
                </a:lnTo>
                <a:lnTo>
                  <a:pt x="307" y="490"/>
                </a:lnTo>
                <a:lnTo>
                  <a:pt x="306" y="482"/>
                </a:lnTo>
                <a:lnTo>
                  <a:pt x="305" y="474"/>
                </a:lnTo>
                <a:lnTo>
                  <a:pt x="273" y="419"/>
                </a:lnTo>
                <a:lnTo>
                  <a:pt x="214" y="400"/>
                </a:lnTo>
                <a:lnTo>
                  <a:pt x="167" y="392"/>
                </a:lnTo>
                <a:lnTo>
                  <a:pt x="159" y="390"/>
                </a:lnTo>
                <a:lnTo>
                  <a:pt x="98" y="375"/>
                </a:lnTo>
                <a:lnTo>
                  <a:pt x="47" y="338"/>
                </a:lnTo>
                <a:lnTo>
                  <a:pt x="39" y="330"/>
                </a:lnTo>
                <a:lnTo>
                  <a:pt x="35" y="326"/>
                </a:lnTo>
                <a:lnTo>
                  <a:pt x="31" y="323"/>
                </a:lnTo>
                <a:lnTo>
                  <a:pt x="27" y="320"/>
                </a:lnTo>
                <a:lnTo>
                  <a:pt x="24" y="316"/>
                </a:lnTo>
                <a:lnTo>
                  <a:pt x="20" y="313"/>
                </a:lnTo>
                <a:lnTo>
                  <a:pt x="0" y="255"/>
                </a:lnTo>
                <a:lnTo>
                  <a:pt x="0" y="243"/>
                </a:lnTo>
                <a:lnTo>
                  <a:pt x="0" y="237"/>
                </a:lnTo>
                <a:lnTo>
                  <a:pt x="22" y="174"/>
                </a:lnTo>
                <a:lnTo>
                  <a:pt x="73" y="132"/>
                </a:lnTo>
                <a:lnTo>
                  <a:pt x="93" y="123"/>
                </a:lnTo>
                <a:lnTo>
                  <a:pt x="99" y="121"/>
                </a:lnTo>
                <a:lnTo>
                  <a:pt x="126" y="76"/>
                </a:lnTo>
                <a:lnTo>
                  <a:pt x="127" y="71"/>
                </a:lnTo>
                <a:lnTo>
                  <a:pt x="166" y="23"/>
                </a:lnTo>
                <a:lnTo>
                  <a:pt x="229" y="0"/>
                </a:lnTo>
                <a:lnTo>
                  <a:pt x="237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29080" y="3430440"/>
            <a:ext cx="674640" cy="600120"/>
          </a:xfrm>
          <a:custGeom>
            <a:avLst/>
            <a:gdLst/>
            <a:ahLst/>
            <a:rect l="l" t="t" r="r" b="b"/>
            <a:pathLst>
              <a:path w="607" h="539">
                <a:moveTo>
                  <a:pt x="356" y="539"/>
                </a:moveTo>
                <a:lnTo>
                  <a:pt x="418" y="499"/>
                </a:lnTo>
                <a:lnTo>
                  <a:pt x="462" y="472"/>
                </a:lnTo>
                <a:lnTo>
                  <a:pt x="484" y="459"/>
                </a:lnTo>
                <a:lnTo>
                  <a:pt x="543" y="420"/>
                </a:lnTo>
                <a:lnTo>
                  <a:pt x="597" y="370"/>
                </a:lnTo>
                <a:lnTo>
                  <a:pt x="607" y="346"/>
                </a:lnTo>
                <a:lnTo>
                  <a:pt x="606" y="333"/>
                </a:lnTo>
                <a:lnTo>
                  <a:pt x="561" y="286"/>
                </a:lnTo>
                <a:lnTo>
                  <a:pt x="544" y="282"/>
                </a:lnTo>
                <a:lnTo>
                  <a:pt x="529" y="279"/>
                </a:lnTo>
                <a:lnTo>
                  <a:pt x="466" y="261"/>
                </a:lnTo>
                <a:lnTo>
                  <a:pt x="423" y="216"/>
                </a:lnTo>
                <a:lnTo>
                  <a:pt x="410" y="151"/>
                </a:lnTo>
                <a:lnTo>
                  <a:pt x="408" y="140"/>
                </a:lnTo>
                <a:lnTo>
                  <a:pt x="389" y="73"/>
                </a:lnTo>
                <a:lnTo>
                  <a:pt x="343" y="28"/>
                </a:lnTo>
                <a:lnTo>
                  <a:pt x="304" y="14"/>
                </a:lnTo>
                <a:lnTo>
                  <a:pt x="295" y="12"/>
                </a:lnTo>
                <a:lnTo>
                  <a:pt x="229" y="0"/>
                </a:lnTo>
                <a:lnTo>
                  <a:pt x="220" y="1"/>
                </a:lnTo>
                <a:lnTo>
                  <a:pt x="157" y="30"/>
                </a:lnTo>
                <a:lnTo>
                  <a:pt x="126" y="80"/>
                </a:lnTo>
                <a:lnTo>
                  <a:pt x="125" y="84"/>
                </a:lnTo>
                <a:lnTo>
                  <a:pt x="89" y="124"/>
                </a:lnTo>
                <a:lnTo>
                  <a:pt x="84" y="126"/>
                </a:lnTo>
                <a:lnTo>
                  <a:pt x="32" y="163"/>
                </a:lnTo>
                <a:lnTo>
                  <a:pt x="1" y="220"/>
                </a:lnTo>
                <a:lnTo>
                  <a:pt x="0" y="243"/>
                </a:lnTo>
                <a:lnTo>
                  <a:pt x="0" y="249"/>
                </a:lnTo>
                <a:lnTo>
                  <a:pt x="17" y="310"/>
                </a:lnTo>
                <a:lnTo>
                  <a:pt x="27" y="320"/>
                </a:lnTo>
                <a:lnTo>
                  <a:pt x="31" y="323"/>
                </a:lnTo>
                <a:lnTo>
                  <a:pt x="35" y="326"/>
                </a:lnTo>
                <a:lnTo>
                  <a:pt x="39" y="330"/>
                </a:lnTo>
                <a:lnTo>
                  <a:pt x="43" y="334"/>
                </a:lnTo>
                <a:lnTo>
                  <a:pt x="47" y="338"/>
                </a:lnTo>
                <a:lnTo>
                  <a:pt x="98" y="375"/>
                </a:lnTo>
                <a:lnTo>
                  <a:pt x="159" y="390"/>
                </a:lnTo>
                <a:lnTo>
                  <a:pt x="175" y="393"/>
                </a:lnTo>
                <a:lnTo>
                  <a:pt x="183" y="394"/>
                </a:lnTo>
                <a:lnTo>
                  <a:pt x="244" y="408"/>
                </a:lnTo>
                <a:lnTo>
                  <a:pt x="298" y="444"/>
                </a:lnTo>
                <a:lnTo>
                  <a:pt x="307" y="490"/>
                </a:lnTo>
                <a:lnTo>
                  <a:pt x="308" y="498"/>
                </a:lnTo>
                <a:lnTo>
                  <a:pt x="338" y="536"/>
                </a:lnTo>
                <a:lnTo>
                  <a:pt x="347" y="53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10160" y="4481640"/>
            <a:ext cx="268200" cy="299880"/>
          </a:xfrm>
          <a:custGeom>
            <a:avLst/>
            <a:gdLst/>
            <a:ahLst/>
            <a:rect l="l" t="t" r="r" b="b"/>
            <a:pathLst>
              <a:path w="243" h="270">
                <a:moveTo>
                  <a:pt x="166" y="1"/>
                </a:moveTo>
                <a:lnTo>
                  <a:pt x="201" y="28"/>
                </a:lnTo>
                <a:lnTo>
                  <a:pt x="210" y="50"/>
                </a:lnTo>
                <a:lnTo>
                  <a:pt x="233" y="116"/>
                </a:lnTo>
                <a:lnTo>
                  <a:pt x="243" y="167"/>
                </a:lnTo>
                <a:lnTo>
                  <a:pt x="242" y="174"/>
                </a:lnTo>
                <a:lnTo>
                  <a:pt x="199" y="229"/>
                </a:lnTo>
                <a:lnTo>
                  <a:pt x="147" y="262"/>
                </a:lnTo>
                <a:lnTo>
                  <a:pt x="107" y="270"/>
                </a:lnTo>
                <a:lnTo>
                  <a:pt x="98" y="270"/>
                </a:lnTo>
                <a:lnTo>
                  <a:pt x="41" y="256"/>
                </a:lnTo>
                <a:lnTo>
                  <a:pt x="38" y="255"/>
                </a:lnTo>
                <a:lnTo>
                  <a:pt x="5" y="204"/>
                </a:lnTo>
                <a:lnTo>
                  <a:pt x="0" y="175"/>
                </a:lnTo>
                <a:lnTo>
                  <a:pt x="0" y="169"/>
                </a:lnTo>
                <a:lnTo>
                  <a:pt x="35" y="120"/>
                </a:lnTo>
                <a:lnTo>
                  <a:pt x="44" y="112"/>
                </a:lnTo>
                <a:lnTo>
                  <a:pt x="49" y="109"/>
                </a:lnTo>
                <a:lnTo>
                  <a:pt x="78" y="68"/>
                </a:lnTo>
                <a:lnTo>
                  <a:pt x="81" y="63"/>
                </a:lnTo>
                <a:lnTo>
                  <a:pt x="120" y="15"/>
                </a:lnTo>
                <a:lnTo>
                  <a:pt x="161" y="0"/>
                </a:lnTo>
                <a:lnTo>
                  <a:pt x="166" y="1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10160" y="4481640"/>
            <a:ext cx="268200" cy="299880"/>
          </a:xfrm>
          <a:custGeom>
            <a:avLst/>
            <a:gdLst/>
            <a:ahLst/>
            <a:rect l="l" t="t" r="r" b="b"/>
            <a:pathLst>
              <a:path w="243" h="270">
                <a:moveTo>
                  <a:pt x="41" y="256"/>
                </a:moveTo>
                <a:lnTo>
                  <a:pt x="5" y="204"/>
                </a:lnTo>
                <a:lnTo>
                  <a:pt x="0" y="175"/>
                </a:lnTo>
                <a:lnTo>
                  <a:pt x="0" y="169"/>
                </a:lnTo>
                <a:lnTo>
                  <a:pt x="35" y="120"/>
                </a:lnTo>
                <a:lnTo>
                  <a:pt x="44" y="112"/>
                </a:lnTo>
                <a:lnTo>
                  <a:pt x="49" y="109"/>
                </a:lnTo>
                <a:lnTo>
                  <a:pt x="78" y="68"/>
                </a:lnTo>
                <a:lnTo>
                  <a:pt x="81" y="63"/>
                </a:lnTo>
                <a:lnTo>
                  <a:pt x="120" y="15"/>
                </a:lnTo>
                <a:lnTo>
                  <a:pt x="161" y="0"/>
                </a:lnTo>
                <a:lnTo>
                  <a:pt x="166" y="1"/>
                </a:lnTo>
                <a:lnTo>
                  <a:pt x="201" y="28"/>
                </a:lnTo>
                <a:lnTo>
                  <a:pt x="210" y="50"/>
                </a:lnTo>
                <a:lnTo>
                  <a:pt x="233" y="116"/>
                </a:lnTo>
                <a:lnTo>
                  <a:pt x="243" y="167"/>
                </a:lnTo>
                <a:lnTo>
                  <a:pt x="242" y="174"/>
                </a:lnTo>
                <a:lnTo>
                  <a:pt x="199" y="229"/>
                </a:lnTo>
                <a:lnTo>
                  <a:pt x="147" y="262"/>
                </a:lnTo>
                <a:lnTo>
                  <a:pt x="107" y="270"/>
                </a:lnTo>
                <a:lnTo>
                  <a:pt x="98" y="270"/>
                </a:lnTo>
                <a:lnTo>
                  <a:pt x="41" y="256"/>
                </a:lnTo>
                <a:lnTo>
                  <a:pt x="41" y="25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2680" y="4549680"/>
            <a:ext cx="39600" cy="109800"/>
          </a:xfrm>
          <a:custGeom>
            <a:avLst/>
            <a:gdLst/>
            <a:ahLst/>
            <a:rect l="l" t="t" r="r" b="b"/>
            <a:pathLst>
              <a:path w="35" h="98">
                <a:moveTo>
                  <a:pt x="33" y="0"/>
                </a:moveTo>
                <a:lnTo>
                  <a:pt x="0" y="47"/>
                </a:lnTo>
                <a:lnTo>
                  <a:pt x="1" y="51"/>
                </a:lnTo>
                <a:lnTo>
                  <a:pt x="28" y="91"/>
                </a:lnTo>
                <a:lnTo>
                  <a:pt x="35" y="9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0" y="3460680"/>
            <a:ext cx="39600" cy="108000"/>
          </a:xfrm>
          <a:custGeom>
            <a:avLst/>
            <a:gdLst/>
            <a:ahLst/>
            <a:rect l="l" t="t" r="r" b="b"/>
            <a:pathLst>
              <a:path w="34" h="98">
                <a:moveTo>
                  <a:pt x="33" y="0"/>
                </a:moveTo>
                <a:lnTo>
                  <a:pt x="0" y="47"/>
                </a:lnTo>
                <a:lnTo>
                  <a:pt x="0" y="51"/>
                </a:lnTo>
                <a:lnTo>
                  <a:pt x="28" y="91"/>
                </a:lnTo>
                <a:lnTo>
                  <a:pt x="34" y="9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87880" y="3786120"/>
            <a:ext cx="944640" cy="55800"/>
          </a:xfrm>
          <a:custGeom>
            <a:avLst/>
            <a:gdLst/>
            <a:ahLst/>
            <a:rect l="l" t="t" r="r" b="b"/>
            <a:pathLst>
              <a:path w="852" h="49">
                <a:moveTo>
                  <a:pt x="842" y="33"/>
                </a:moveTo>
                <a:lnTo>
                  <a:pt x="852" y="24"/>
                </a:lnTo>
                <a:lnTo>
                  <a:pt x="852" y="23"/>
                </a:lnTo>
                <a:lnTo>
                  <a:pt x="831" y="20"/>
                </a:lnTo>
                <a:lnTo>
                  <a:pt x="824" y="20"/>
                </a:lnTo>
                <a:lnTo>
                  <a:pt x="755" y="22"/>
                </a:lnTo>
                <a:lnTo>
                  <a:pt x="685" y="28"/>
                </a:lnTo>
                <a:lnTo>
                  <a:pt x="627" y="34"/>
                </a:lnTo>
                <a:lnTo>
                  <a:pt x="606" y="36"/>
                </a:lnTo>
                <a:lnTo>
                  <a:pt x="542" y="43"/>
                </a:lnTo>
                <a:lnTo>
                  <a:pt x="474" y="47"/>
                </a:lnTo>
                <a:lnTo>
                  <a:pt x="403" y="49"/>
                </a:lnTo>
                <a:lnTo>
                  <a:pt x="379" y="49"/>
                </a:lnTo>
                <a:lnTo>
                  <a:pt x="306" y="44"/>
                </a:lnTo>
                <a:lnTo>
                  <a:pt x="236" y="36"/>
                </a:lnTo>
                <a:lnTo>
                  <a:pt x="171" y="26"/>
                </a:lnTo>
                <a:lnTo>
                  <a:pt x="97" y="14"/>
                </a:lnTo>
                <a:lnTo>
                  <a:pt x="81" y="11"/>
                </a:lnTo>
                <a:lnTo>
                  <a:pt x="66" y="9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1008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5840" y="3844800"/>
            <a:ext cx="674640" cy="389160"/>
          </a:xfrm>
          <a:custGeom>
            <a:avLst/>
            <a:gdLst/>
            <a:ahLst/>
            <a:rect l="l" t="t" r="r" b="b"/>
            <a:pathLst>
              <a:path w="608" h="350">
                <a:moveTo>
                  <a:pt x="486" y="26"/>
                </a:moveTo>
                <a:lnTo>
                  <a:pt x="539" y="73"/>
                </a:lnTo>
                <a:lnTo>
                  <a:pt x="573" y="127"/>
                </a:lnTo>
                <a:lnTo>
                  <a:pt x="597" y="187"/>
                </a:lnTo>
                <a:lnTo>
                  <a:pt x="608" y="240"/>
                </a:lnTo>
                <a:lnTo>
                  <a:pt x="607" y="254"/>
                </a:lnTo>
                <a:lnTo>
                  <a:pt x="605" y="266"/>
                </a:lnTo>
                <a:lnTo>
                  <a:pt x="600" y="276"/>
                </a:lnTo>
                <a:lnTo>
                  <a:pt x="593" y="281"/>
                </a:lnTo>
                <a:lnTo>
                  <a:pt x="583" y="284"/>
                </a:lnTo>
                <a:lnTo>
                  <a:pt x="571" y="282"/>
                </a:lnTo>
                <a:lnTo>
                  <a:pt x="555" y="276"/>
                </a:lnTo>
                <a:lnTo>
                  <a:pt x="542" y="269"/>
                </a:lnTo>
                <a:lnTo>
                  <a:pt x="528" y="263"/>
                </a:lnTo>
                <a:lnTo>
                  <a:pt x="461" y="243"/>
                </a:lnTo>
                <a:lnTo>
                  <a:pt x="395" y="237"/>
                </a:lnTo>
                <a:lnTo>
                  <a:pt x="382" y="237"/>
                </a:lnTo>
                <a:lnTo>
                  <a:pt x="322" y="244"/>
                </a:lnTo>
                <a:lnTo>
                  <a:pt x="265" y="272"/>
                </a:lnTo>
                <a:lnTo>
                  <a:pt x="224" y="321"/>
                </a:lnTo>
                <a:lnTo>
                  <a:pt x="221" y="327"/>
                </a:lnTo>
                <a:lnTo>
                  <a:pt x="217" y="332"/>
                </a:lnTo>
                <a:lnTo>
                  <a:pt x="161" y="350"/>
                </a:lnTo>
                <a:lnTo>
                  <a:pt x="150" y="349"/>
                </a:lnTo>
                <a:lnTo>
                  <a:pt x="82" y="336"/>
                </a:lnTo>
                <a:lnTo>
                  <a:pt x="30" y="303"/>
                </a:lnTo>
                <a:lnTo>
                  <a:pt x="2" y="242"/>
                </a:lnTo>
                <a:lnTo>
                  <a:pt x="0" y="212"/>
                </a:lnTo>
                <a:lnTo>
                  <a:pt x="0" y="202"/>
                </a:lnTo>
                <a:lnTo>
                  <a:pt x="15" y="141"/>
                </a:lnTo>
                <a:lnTo>
                  <a:pt x="59" y="89"/>
                </a:lnTo>
                <a:lnTo>
                  <a:pt x="104" y="80"/>
                </a:lnTo>
                <a:lnTo>
                  <a:pt x="114" y="80"/>
                </a:lnTo>
                <a:lnTo>
                  <a:pt x="181" y="88"/>
                </a:lnTo>
                <a:lnTo>
                  <a:pt x="193" y="90"/>
                </a:lnTo>
                <a:lnTo>
                  <a:pt x="205" y="92"/>
                </a:lnTo>
                <a:lnTo>
                  <a:pt x="217" y="94"/>
                </a:lnTo>
                <a:lnTo>
                  <a:pt x="229" y="95"/>
                </a:lnTo>
                <a:lnTo>
                  <a:pt x="242" y="95"/>
                </a:lnTo>
                <a:lnTo>
                  <a:pt x="254" y="95"/>
                </a:lnTo>
                <a:lnTo>
                  <a:pt x="316" y="84"/>
                </a:lnTo>
                <a:lnTo>
                  <a:pt x="371" y="58"/>
                </a:lnTo>
                <a:lnTo>
                  <a:pt x="412" y="10"/>
                </a:lnTo>
                <a:lnTo>
                  <a:pt x="416" y="0"/>
                </a:lnTo>
                <a:lnTo>
                  <a:pt x="486" y="2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5840" y="3844800"/>
            <a:ext cx="674640" cy="389160"/>
          </a:xfrm>
          <a:custGeom>
            <a:avLst/>
            <a:gdLst/>
            <a:ahLst/>
            <a:rect l="l" t="t" r="r" b="b"/>
            <a:pathLst>
              <a:path w="608" h="350">
                <a:moveTo>
                  <a:pt x="301" y="249"/>
                </a:moveTo>
                <a:lnTo>
                  <a:pt x="370" y="237"/>
                </a:lnTo>
                <a:lnTo>
                  <a:pt x="395" y="237"/>
                </a:lnTo>
                <a:lnTo>
                  <a:pt x="408" y="237"/>
                </a:lnTo>
                <a:lnTo>
                  <a:pt x="474" y="246"/>
                </a:lnTo>
                <a:lnTo>
                  <a:pt x="542" y="269"/>
                </a:lnTo>
                <a:lnTo>
                  <a:pt x="555" y="276"/>
                </a:lnTo>
                <a:lnTo>
                  <a:pt x="571" y="282"/>
                </a:lnTo>
                <a:lnTo>
                  <a:pt x="608" y="240"/>
                </a:lnTo>
                <a:lnTo>
                  <a:pt x="606" y="224"/>
                </a:lnTo>
                <a:lnTo>
                  <a:pt x="582" y="147"/>
                </a:lnTo>
                <a:lnTo>
                  <a:pt x="551" y="90"/>
                </a:lnTo>
                <a:lnTo>
                  <a:pt x="500" y="34"/>
                </a:lnTo>
                <a:lnTo>
                  <a:pt x="416" y="0"/>
                </a:lnTo>
                <a:lnTo>
                  <a:pt x="412" y="10"/>
                </a:lnTo>
                <a:lnTo>
                  <a:pt x="408" y="19"/>
                </a:lnTo>
                <a:lnTo>
                  <a:pt x="361" y="64"/>
                </a:lnTo>
                <a:lnTo>
                  <a:pt x="304" y="88"/>
                </a:lnTo>
                <a:lnTo>
                  <a:pt x="242" y="95"/>
                </a:lnTo>
                <a:lnTo>
                  <a:pt x="229" y="95"/>
                </a:lnTo>
                <a:lnTo>
                  <a:pt x="217" y="94"/>
                </a:lnTo>
                <a:lnTo>
                  <a:pt x="205" y="92"/>
                </a:lnTo>
                <a:lnTo>
                  <a:pt x="193" y="90"/>
                </a:lnTo>
                <a:lnTo>
                  <a:pt x="181" y="88"/>
                </a:lnTo>
                <a:lnTo>
                  <a:pt x="169" y="86"/>
                </a:lnTo>
                <a:lnTo>
                  <a:pt x="104" y="80"/>
                </a:lnTo>
                <a:lnTo>
                  <a:pt x="94" y="81"/>
                </a:lnTo>
                <a:lnTo>
                  <a:pt x="37" y="105"/>
                </a:lnTo>
                <a:lnTo>
                  <a:pt x="8" y="161"/>
                </a:lnTo>
                <a:lnTo>
                  <a:pt x="0" y="212"/>
                </a:lnTo>
                <a:lnTo>
                  <a:pt x="0" y="222"/>
                </a:lnTo>
                <a:lnTo>
                  <a:pt x="19" y="287"/>
                </a:lnTo>
                <a:lnTo>
                  <a:pt x="71" y="332"/>
                </a:lnTo>
                <a:lnTo>
                  <a:pt x="139" y="349"/>
                </a:lnTo>
                <a:lnTo>
                  <a:pt x="161" y="350"/>
                </a:lnTo>
                <a:lnTo>
                  <a:pt x="171" y="349"/>
                </a:lnTo>
                <a:lnTo>
                  <a:pt x="224" y="321"/>
                </a:lnTo>
                <a:lnTo>
                  <a:pt x="228" y="316"/>
                </a:lnTo>
                <a:lnTo>
                  <a:pt x="269" y="269"/>
                </a:lnTo>
                <a:lnTo>
                  <a:pt x="298" y="250"/>
                </a:lnTo>
                <a:lnTo>
                  <a:pt x="301" y="24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78360" y="3805200"/>
            <a:ext cx="253800" cy="341280"/>
          </a:xfrm>
          <a:custGeom>
            <a:avLst/>
            <a:gdLst/>
            <a:ahLst/>
            <a:rect l="l" t="t" r="r" b="b"/>
            <a:pathLst>
              <a:path w="227" h="308">
                <a:moveTo>
                  <a:pt x="101" y="1"/>
                </a:moveTo>
                <a:lnTo>
                  <a:pt x="161" y="25"/>
                </a:lnTo>
                <a:lnTo>
                  <a:pt x="189" y="81"/>
                </a:lnTo>
                <a:lnTo>
                  <a:pt x="190" y="88"/>
                </a:lnTo>
                <a:lnTo>
                  <a:pt x="190" y="97"/>
                </a:lnTo>
                <a:lnTo>
                  <a:pt x="204" y="158"/>
                </a:lnTo>
                <a:lnTo>
                  <a:pt x="208" y="172"/>
                </a:lnTo>
                <a:lnTo>
                  <a:pt x="212" y="187"/>
                </a:lnTo>
                <a:lnTo>
                  <a:pt x="226" y="258"/>
                </a:lnTo>
                <a:lnTo>
                  <a:pt x="227" y="281"/>
                </a:lnTo>
                <a:lnTo>
                  <a:pt x="226" y="290"/>
                </a:lnTo>
                <a:lnTo>
                  <a:pt x="224" y="298"/>
                </a:lnTo>
                <a:lnTo>
                  <a:pt x="220" y="303"/>
                </a:lnTo>
                <a:lnTo>
                  <a:pt x="215" y="307"/>
                </a:lnTo>
                <a:lnTo>
                  <a:pt x="208" y="308"/>
                </a:lnTo>
                <a:lnTo>
                  <a:pt x="199" y="307"/>
                </a:lnTo>
                <a:lnTo>
                  <a:pt x="140" y="271"/>
                </a:lnTo>
                <a:lnTo>
                  <a:pt x="85" y="219"/>
                </a:lnTo>
                <a:lnTo>
                  <a:pt x="36" y="161"/>
                </a:lnTo>
                <a:lnTo>
                  <a:pt x="1" y="100"/>
                </a:lnTo>
                <a:lnTo>
                  <a:pt x="0" y="92"/>
                </a:lnTo>
                <a:lnTo>
                  <a:pt x="0" y="84"/>
                </a:lnTo>
                <a:lnTo>
                  <a:pt x="27" y="28"/>
                </a:lnTo>
                <a:lnTo>
                  <a:pt x="86" y="1"/>
                </a:lnTo>
                <a:lnTo>
                  <a:pt x="93" y="0"/>
                </a:lnTo>
                <a:lnTo>
                  <a:pt x="101" y="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95840" y="3660840"/>
            <a:ext cx="63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73480" y="3532320"/>
            <a:ext cx="252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23640" y="372096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j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6520" y="321480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al end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26200" y="3408480"/>
            <a:ext cx="0" cy="123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26200" y="3408480"/>
            <a:ext cx="377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26200" y="3911760"/>
            <a:ext cx="377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40920" y="422424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tebral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95840" y="4416480"/>
            <a:ext cx="1008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26200" y="3660840"/>
            <a:ext cx="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3284640"/>
            <a:ext cx="252360" cy="755640"/>
          </a:xfrm>
          <a:custGeom>
            <a:avLst/>
            <a:gdLst>
              <a:gd name="textAreaLeft" fmla="*/ 0 w 252360"/>
              <a:gd name="textAreaRight" fmla="*/ 91080 w 252360"/>
              <a:gd name="textAreaTop" fmla="*/ 19440 h 755640"/>
              <a:gd name="textAreaBottom" fmla="*/ 7362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36920" y="345456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s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67080" y="3330720"/>
            <a:ext cx="185760" cy="582480"/>
          </a:xfrm>
          <a:custGeom>
            <a:avLst/>
            <a:gdLst/>
            <a:ahLst/>
            <a:rect l="l" t="t" r="r" b="b"/>
            <a:pathLst>
              <a:path w="168" h="526">
                <a:moveTo>
                  <a:pt x="88" y="0"/>
                </a:moveTo>
                <a:lnTo>
                  <a:pt x="117" y="28"/>
                </a:lnTo>
                <a:lnTo>
                  <a:pt x="125" y="44"/>
                </a:lnTo>
                <a:lnTo>
                  <a:pt x="153" y="105"/>
                </a:lnTo>
                <a:lnTo>
                  <a:pt x="167" y="167"/>
                </a:lnTo>
                <a:lnTo>
                  <a:pt x="168" y="177"/>
                </a:lnTo>
                <a:lnTo>
                  <a:pt x="168" y="187"/>
                </a:lnTo>
                <a:lnTo>
                  <a:pt x="164" y="257"/>
                </a:lnTo>
                <a:lnTo>
                  <a:pt x="158" y="323"/>
                </a:lnTo>
                <a:lnTo>
                  <a:pt x="150" y="393"/>
                </a:lnTo>
                <a:lnTo>
                  <a:pt x="142" y="454"/>
                </a:lnTo>
                <a:lnTo>
                  <a:pt x="107" y="507"/>
                </a:lnTo>
                <a:lnTo>
                  <a:pt x="82" y="526"/>
                </a:lnTo>
                <a:lnTo>
                  <a:pt x="78" y="526"/>
                </a:lnTo>
                <a:lnTo>
                  <a:pt x="29" y="487"/>
                </a:lnTo>
                <a:lnTo>
                  <a:pt x="10" y="454"/>
                </a:lnTo>
                <a:lnTo>
                  <a:pt x="10" y="448"/>
                </a:lnTo>
                <a:lnTo>
                  <a:pt x="19" y="401"/>
                </a:lnTo>
                <a:lnTo>
                  <a:pt x="22" y="389"/>
                </a:lnTo>
                <a:lnTo>
                  <a:pt x="31" y="328"/>
                </a:lnTo>
                <a:lnTo>
                  <a:pt x="33" y="297"/>
                </a:lnTo>
                <a:lnTo>
                  <a:pt x="33" y="281"/>
                </a:lnTo>
                <a:lnTo>
                  <a:pt x="26" y="207"/>
                </a:lnTo>
                <a:lnTo>
                  <a:pt x="13" y="143"/>
                </a:lnTo>
                <a:lnTo>
                  <a:pt x="5" y="112"/>
                </a:lnTo>
                <a:lnTo>
                  <a:pt x="3" y="103"/>
                </a:lnTo>
                <a:lnTo>
                  <a:pt x="1" y="94"/>
                </a:lnTo>
                <a:lnTo>
                  <a:pt x="0" y="86"/>
                </a:lnTo>
                <a:lnTo>
                  <a:pt x="1" y="78"/>
                </a:lnTo>
                <a:lnTo>
                  <a:pt x="38" y="20"/>
                </a:lnTo>
                <a:lnTo>
                  <a:pt x="80" y="0"/>
                </a:lnTo>
                <a:lnTo>
                  <a:pt x="88" y="0"/>
                </a:lnTo>
                <a:close/>
              </a:path>
            </a:pathLst>
          </a:custGeom>
          <a:solidFill>
            <a:srgbClr val="ddddd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3343320"/>
            <a:ext cx="169920" cy="587160"/>
          </a:xfrm>
          <a:custGeom>
            <a:avLst/>
            <a:gdLst/>
            <a:ahLst/>
            <a:rect l="l" t="t" r="r" b="b"/>
            <a:pathLst>
              <a:path w="151" h="526">
                <a:moveTo>
                  <a:pt x="73" y="1"/>
                </a:moveTo>
                <a:lnTo>
                  <a:pt x="129" y="41"/>
                </a:lnTo>
                <a:lnTo>
                  <a:pt x="148" y="84"/>
                </a:lnTo>
                <a:lnTo>
                  <a:pt x="147" y="92"/>
                </a:lnTo>
                <a:lnTo>
                  <a:pt x="145" y="100"/>
                </a:lnTo>
                <a:lnTo>
                  <a:pt x="144" y="109"/>
                </a:lnTo>
                <a:lnTo>
                  <a:pt x="141" y="119"/>
                </a:lnTo>
                <a:lnTo>
                  <a:pt x="139" y="130"/>
                </a:lnTo>
                <a:lnTo>
                  <a:pt x="128" y="191"/>
                </a:lnTo>
                <a:lnTo>
                  <a:pt x="122" y="264"/>
                </a:lnTo>
                <a:lnTo>
                  <a:pt x="122" y="279"/>
                </a:lnTo>
                <a:lnTo>
                  <a:pt x="122" y="295"/>
                </a:lnTo>
                <a:lnTo>
                  <a:pt x="130" y="358"/>
                </a:lnTo>
                <a:lnTo>
                  <a:pt x="143" y="409"/>
                </a:lnTo>
                <a:lnTo>
                  <a:pt x="145" y="418"/>
                </a:lnTo>
                <a:lnTo>
                  <a:pt x="151" y="451"/>
                </a:lnTo>
                <a:lnTo>
                  <a:pt x="151" y="456"/>
                </a:lnTo>
                <a:lnTo>
                  <a:pt x="111" y="508"/>
                </a:lnTo>
                <a:lnTo>
                  <a:pt x="82" y="526"/>
                </a:lnTo>
                <a:lnTo>
                  <a:pt x="78" y="525"/>
                </a:lnTo>
                <a:lnTo>
                  <a:pt x="29" y="477"/>
                </a:lnTo>
                <a:lnTo>
                  <a:pt x="12" y="411"/>
                </a:lnTo>
                <a:lnTo>
                  <a:pt x="5" y="341"/>
                </a:lnTo>
                <a:lnTo>
                  <a:pt x="1" y="265"/>
                </a:lnTo>
                <a:lnTo>
                  <a:pt x="0" y="198"/>
                </a:lnTo>
                <a:lnTo>
                  <a:pt x="0" y="185"/>
                </a:lnTo>
                <a:lnTo>
                  <a:pt x="0" y="174"/>
                </a:lnTo>
                <a:lnTo>
                  <a:pt x="5" y="113"/>
                </a:lnTo>
                <a:lnTo>
                  <a:pt x="24" y="44"/>
                </a:lnTo>
                <a:lnTo>
                  <a:pt x="65" y="0"/>
                </a:lnTo>
                <a:lnTo>
                  <a:pt x="73" y="1"/>
                </a:lnTo>
                <a:close/>
              </a:path>
            </a:pathLst>
          </a:custGeom>
          <a:solidFill>
            <a:srgbClr val="dddddd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28640" y="3368520"/>
            <a:ext cx="986040" cy="495360"/>
          </a:xfrm>
          <a:custGeom>
            <a:avLst/>
            <a:gdLst/>
            <a:ahLst/>
            <a:rect l="l" t="t" r="r" b="b"/>
            <a:pathLst>
              <a:path w="936" h="446">
                <a:moveTo>
                  <a:pt x="507" y="0"/>
                </a:moveTo>
                <a:lnTo>
                  <a:pt x="571" y="2"/>
                </a:lnTo>
                <a:lnTo>
                  <a:pt x="635" y="4"/>
                </a:lnTo>
                <a:lnTo>
                  <a:pt x="697" y="7"/>
                </a:lnTo>
                <a:lnTo>
                  <a:pt x="782" y="13"/>
                </a:lnTo>
                <a:lnTo>
                  <a:pt x="851" y="18"/>
                </a:lnTo>
                <a:lnTo>
                  <a:pt x="912" y="24"/>
                </a:lnTo>
                <a:lnTo>
                  <a:pt x="926" y="90"/>
                </a:lnTo>
                <a:lnTo>
                  <a:pt x="934" y="164"/>
                </a:lnTo>
                <a:lnTo>
                  <a:pt x="936" y="247"/>
                </a:lnTo>
                <a:lnTo>
                  <a:pt x="935" y="275"/>
                </a:lnTo>
                <a:lnTo>
                  <a:pt x="926" y="350"/>
                </a:lnTo>
                <a:lnTo>
                  <a:pt x="892" y="413"/>
                </a:lnTo>
                <a:lnTo>
                  <a:pt x="828" y="427"/>
                </a:lnTo>
                <a:lnTo>
                  <a:pt x="738" y="435"/>
                </a:lnTo>
                <a:lnTo>
                  <a:pt x="671" y="437"/>
                </a:lnTo>
                <a:lnTo>
                  <a:pt x="601" y="438"/>
                </a:lnTo>
                <a:lnTo>
                  <a:pt x="566" y="438"/>
                </a:lnTo>
                <a:lnTo>
                  <a:pt x="530" y="438"/>
                </a:lnTo>
                <a:lnTo>
                  <a:pt x="495" y="437"/>
                </a:lnTo>
                <a:lnTo>
                  <a:pt x="461" y="437"/>
                </a:lnTo>
                <a:lnTo>
                  <a:pt x="427" y="437"/>
                </a:lnTo>
                <a:lnTo>
                  <a:pt x="395" y="436"/>
                </a:lnTo>
                <a:lnTo>
                  <a:pt x="364" y="436"/>
                </a:lnTo>
                <a:lnTo>
                  <a:pt x="335" y="437"/>
                </a:lnTo>
                <a:lnTo>
                  <a:pt x="308" y="437"/>
                </a:lnTo>
                <a:lnTo>
                  <a:pt x="283" y="439"/>
                </a:lnTo>
                <a:lnTo>
                  <a:pt x="261" y="440"/>
                </a:lnTo>
                <a:lnTo>
                  <a:pt x="241" y="442"/>
                </a:lnTo>
                <a:lnTo>
                  <a:pt x="221" y="443"/>
                </a:lnTo>
                <a:lnTo>
                  <a:pt x="202" y="445"/>
                </a:lnTo>
                <a:lnTo>
                  <a:pt x="183" y="445"/>
                </a:lnTo>
                <a:lnTo>
                  <a:pt x="165" y="446"/>
                </a:lnTo>
                <a:lnTo>
                  <a:pt x="147" y="446"/>
                </a:lnTo>
                <a:lnTo>
                  <a:pt x="131" y="446"/>
                </a:lnTo>
                <a:lnTo>
                  <a:pt x="61" y="440"/>
                </a:lnTo>
                <a:lnTo>
                  <a:pt x="5" y="413"/>
                </a:lnTo>
                <a:lnTo>
                  <a:pt x="0" y="351"/>
                </a:lnTo>
                <a:lnTo>
                  <a:pt x="0" y="331"/>
                </a:lnTo>
                <a:lnTo>
                  <a:pt x="1" y="310"/>
                </a:lnTo>
                <a:lnTo>
                  <a:pt x="4" y="241"/>
                </a:lnTo>
                <a:lnTo>
                  <a:pt x="10" y="172"/>
                </a:lnTo>
                <a:lnTo>
                  <a:pt x="21" y="111"/>
                </a:lnTo>
                <a:lnTo>
                  <a:pt x="49" y="55"/>
                </a:lnTo>
                <a:lnTo>
                  <a:pt x="109" y="29"/>
                </a:lnTo>
                <a:lnTo>
                  <a:pt x="183" y="16"/>
                </a:lnTo>
                <a:lnTo>
                  <a:pt x="252" y="9"/>
                </a:lnTo>
                <a:lnTo>
                  <a:pt x="329" y="4"/>
                </a:lnTo>
                <a:lnTo>
                  <a:pt x="415" y="1"/>
                </a:lnTo>
                <a:lnTo>
                  <a:pt x="476" y="0"/>
                </a:lnTo>
                <a:lnTo>
                  <a:pt x="507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2600" y="3760920"/>
            <a:ext cx="2117520" cy="1162080"/>
          </a:xfrm>
          <a:custGeom>
            <a:avLst/>
            <a:gdLst/>
            <a:ahLst/>
            <a:rect l="l" t="t" r="r" b="b"/>
            <a:pathLst>
              <a:path w="1904" h="1044">
                <a:moveTo>
                  <a:pt x="1827" y="0"/>
                </a:moveTo>
                <a:lnTo>
                  <a:pt x="1883" y="24"/>
                </a:lnTo>
                <a:lnTo>
                  <a:pt x="1884" y="31"/>
                </a:lnTo>
                <a:lnTo>
                  <a:pt x="1883" y="40"/>
                </a:lnTo>
                <a:lnTo>
                  <a:pt x="1881" y="50"/>
                </a:lnTo>
                <a:lnTo>
                  <a:pt x="1878" y="61"/>
                </a:lnTo>
                <a:lnTo>
                  <a:pt x="1873" y="74"/>
                </a:lnTo>
                <a:lnTo>
                  <a:pt x="1859" y="149"/>
                </a:lnTo>
                <a:lnTo>
                  <a:pt x="1850" y="219"/>
                </a:lnTo>
                <a:lnTo>
                  <a:pt x="1845" y="295"/>
                </a:lnTo>
                <a:lnTo>
                  <a:pt x="1842" y="369"/>
                </a:lnTo>
                <a:lnTo>
                  <a:pt x="1841" y="392"/>
                </a:lnTo>
                <a:lnTo>
                  <a:pt x="1841" y="414"/>
                </a:lnTo>
                <a:lnTo>
                  <a:pt x="1845" y="485"/>
                </a:lnTo>
                <a:lnTo>
                  <a:pt x="1864" y="545"/>
                </a:lnTo>
                <a:lnTo>
                  <a:pt x="1885" y="583"/>
                </a:lnTo>
                <a:lnTo>
                  <a:pt x="1890" y="592"/>
                </a:lnTo>
                <a:lnTo>
                  <a:pt x="1904" y="630"/>
                </a:lnTo>
                <a:lnTo>
                  <a:pt x="1904" y="637"/>
                </a:lnTo>
                <a:lnTo>
                  <a:pt x="1859" y="679"/>
                </a:lnTo>
                <a:lnTo>
                  <a:pt x="1794" y="701"/>
                </a:lnTo>
                <a:lnTo>
                  <a:pt x="1730" y="714"/>
                </a:lnTo>
                <a:lnTo>
                  <a:pt x="1661" y="723"/>
                </a:lnTo>
                <a:lnTo>
                  <a:pt x="1594" y="729"/>
                </a:lnTo>
                <a:lnTo>
                  <a:pt x="1522" y="732"/>
                </a:lnTo>
                <a:lnTo>
                  <a:pt x="1493" y="733"/>
                </a:lnTo>
                <a:lnTo>
                  <a:pt x="1475" y="733"/>
                </a:lnTo>
                <a:lnTo>
                  <a:pt x="1397" y="731"/>
                </a:lnTo>
                <a:lnTo>
                  <a:pt x="1336" y="727"/>
                </a:lnTo>
                <a:lnTo>
                  <a:pt x="1275" y="722"/>
                </a:lnTo>
                <a:lnTo>
                  <a:pt x="1196" y="715"/>
                </a:lnTo>
                <a:lnTo>
                  <a:pt x="1127" y="707"/>
                </a:lnTo>
                <a:lnTo>
                  <a:pt x="1120" y="706"/>
                </a:lnTo>
                <a:lnTo>
                  <a:pt x="1112" y="706"/>
                </a:lnTo>
                <a:lnTo>
                  <a:pt x="1104" y="705"/>
                </a:lnTo>
                <a:lnTo>
                  <a:pt x="1096" y="705"/>
                </a:lnTo>
                <a:lnTo>
                  <a:pt x="1087" y="705"/>
                </a:lnTo>
                <a:lnTo>
                  <a:pt x="1079" y="705"/>
                </a:lnTo>
                <a:lnTo>
                  <a:pt x="1018" y="708"/>
                </a:lnTo>
                <a:lnTo>
                  <a:pt x="1010" y="709"/>
                </a:lnTo>
                <a:lnTo>
                  <a:pt x="1010" y="709"/>
                </a:lnTo>
                <a:lnTo>
                  <a:pt x="981" y="655"/>
                </a:lnTo>
                <a:lnTo>
                  <a:pt x="981" y="646"/>
                </a:lnTo>
                <a:lnTo>
                  <a:pt x="983" y="635"/>
                </a:lnTo>
                <a:lnTo>
                  <a:pt x="986" y="623"/>
                </a:lnTo>
                <a:lnTo>
                  <a:pt x="989" y="610"/>
                </a:lnTo>
                <a:lnTo>
                  <a:pt x="991" y="598"/>
                </a:lnTo>
                <a:lnTo>
                  <a:pt x="951" y="553"/>
                </a:lnTo>
                <a:lnTo>
                  <a:pt x="882" y="540"/>
                </a:lnTo>
                <a:lnTo>
                  <a:pt x="863" y="540"/>
                </a:lnTo>
                <a:lnTo>
                  <a:pt x="844" y="540"/>
                </a:lnTo>
                <a:lnTo>
                  <a:pt x="777" y="554"/>
                </a:lnTo>
                <a:lnTo>
                  <a:pt x="746" y="587"/>
                </a:lnTo>
                <a:lnTo>
                  <a:pt x="746" y="591"/>
                </a:lnTo>
                <a:lnTo>
                  <a:pt x="755" y="650"/>
                </a:lnTo>
                <a:lnTo>
                  <a:pt x="776" y="684"/>
                </a:lnTo>
                <a:lnTo>
                  <a:pt x="776" y="685"/>
                </a:lnTo>
                <a:lnTo>
                  <a:pt x="777" y="752"/>
                </a:lnTo>
                <a:lnTo>
                  <a:pt x="777" y="780"/>
                </a:lnTo>
                <a:lnTo>
                  <a:pt x="777" y="795"/>
                </a:lnTo>
                <a:lnTo>
                  <a:pt x="756" y="855"/>
                </a:lnTo>
                <a:lnTo>
                  <a:pt x="706" y="894"/>
                </a:lnTo>
                <a:lnTo>
                  <a:pt x="649" y="905"/>
                </a:lnTo>
                <a:lnTo>
                  <a:pt x="641" y="905"/>
                </a:lnTo>
                <a:lnTo>
                  <a:pt x="588" y="882"/>
                </a:lnTo>
                <a:lnTo>
                  <a:pt x="587" y="879"/>
                </a:lnTo>
                <a:lnTo>
                  <a:pt x="553" y="826"/>
                </a:lnTo>
                <a:lnTo>
                  <a:pt x="512" y="803"/>
                </a:lnTo>
                <a:lnTo>
                  <a:pt x="506" y="803"/>
                </a:lnTo>
                <a:lnTo>
                  <a:pt x="477" y="823"/>
                </a:lnTo>
                <a:lnTo>
                  <a:pt x="470" y="829"/>
                </a:lnTo>
                <a:lnTo>
                  <a:pt x="413" y="861"/>
                </a:lnTo>
                <a:lnTo>
                  <a:pt x="369" y="880"/>
                </a:lnTo>
                <a:lnTo>
                  <a:pt x="358" y="885"/>
                </a:lnTo>
                <a:lnTo>
                  <a:pt x="303" y="911"/>
                </a:lnTo>
                <a:lnTo>
                  <a:pt x="277" y="948"/>
                </a:lnTo>
                <a:lnTo>
                  <a:pt x="275" y="952"/>
                </a:lnTo>
                <a:lnTo>
                  <a:pt x="245" y="993"/>
                </a:lnTo>
                <a:lnTo>
                  <a:pt x="240" y="997"/>
                </a:lnTo>
                <a:lnTo>
                  <a:pt x="235" y="1001"/>
                </a:lnTo>
                <a:lnTo>
                  <a:pt x="230" y="1006"/>
                </a:lnTo>
                <a:lnTo>
                  <a:pt x="225" y="1012"/>
                </a:lnTo>
                <a:lnTo>
                  <a:pt x="219" y="1018"/>
                </a:lnTo>
                <a:lnTo>
                  <a:pt x="214" y="1024"/>
                </a:lnTo>
                <a:lnTo>
                  <a:pt x="178" y="1044"/>
                </a:lnTo>
                <a:lnTo>
                  <a:pt x="172" y="1043"/>
                </a:lnTo>
                <a:lnTo>
                  <a:pt x="129" y="983"/>
                </a:lnTo>
                <a:lnTo>
                  <a:pt x="114" y="940"/>
                </a:lnTo>
                <a:lnTo>
                  <a:pt x="105" y="920"/>
                </a:lnTo>
                <a:lnTo>
                  <a:pt x="77" y="864"/>
                </a:lnTo>
                <a:lnTo>
                  <a:pt x="58" y="830"/>
                </a:lnTo>
                <a:lnTo>
                  <a:pt x="48" y="813"/>
                </a:lnTo>
                <a:lnTo>
                  <a:pt x="17" y="749"/>
                </a:lnTo>
                <a:lnTo>
                  <a:pt x="1" y="680"/>
                </a:lnTo>
                <a:lnTo>
                  <a:pt x="0" y="660"/>
                </a:lnTo>
                <a:lnTo>
                  <a:pt x="1" y="640"/>
                </a:lnTo>
                <a:lnTo>
                  <a:pt x="4" y="619"/>
                </a:lnTo>
                <a:lnTo>
                  <a:pt x="9" y="596"/>
                </a:lnTo>
                <a:lnTo>
                  <a:pt x="14" y="574"/>
                </a:lnTo>
                <a:lnTo>
                  <a:pt x="17" y="555"/>
                </a:lnTo>
                <a:lnTo>
                  <a:pt x="20" y="540"/>
                </a:lnTo>
                <a:lnTo>
                  <a:pt x="21" y="526"/>
                </a:lnTo>
                <a:lnTo>
                  <a:pt x="22" y="515"/>
                </a:lnTo>
                <a:lnTo>
                  <a:pt x="22" y="506"/>
                </a:lnTo>
                <a:lnTo>
                  <a:pt x="13" y="479"/>
                </a:lnTo>
                <a:lnTo>
                  <a:pt x="12" y="476"/>
                </a:lnTo>
                <a:lnTo>
                  <a:pt x="11" y="472"/>
                </a:lnTo>
                <a:lnTo>
                  <a:pt x="10" y="469"/>
                </a:lnTo>
                <a:lnTo>
                  <a:pt x="11" y="464"/>
                </a:lnTo>
                <a:lnTo>
                  <a:pt x="38" y="401"/>
                </a:lnTo>
                <a:lnTo>
                  <a:pt x="78" y="357"/>
                </a:lnTo>
                <a:lnTo>
                  <a:pt x="103" y="350"/>
                </a:lnTo>
                <a:lnTo>
                  <a:pt x="108" y="350"/>
                </a:lnTo>
                <a:lnTo>
                  <a:pt x="113" y="351"/>
                </a:lnTo>
                <a:lnTo>
                  <a:pt x="118" y="351"/>
                </a:lnTo>
                <a:lnTo>
                  <a:pt x="123" y="352"/>
                </a:lnTo>
                <a:lnTo>
                  <a:pt x="129" y="354"/>
                </a:lnTo>
                <a:lnTo>
                  <a:pt x="136" y="355"/>
                </a:lnTo>
                <a:lnTo>
                  <a:pt x="203" y="367"/>
                </a:lnTo>
                <a:lnTo>
                  <a:pt x="268" y="375"/>
                </a:lnTo>
                <a:lnTo>
                  <a:pt x="303" y="377"/>
                </a:lnTo>
                <a:lnTo>
                  <a:pt x="312" y="376"/>
                </a:lnTo>
                <a:lnTo>
                  <a:pt x="320" y="376"/>
                </a:lnTo>
                <a:lnTo>
                  <a:pt x="327" y="375"/>
                </a:lnTo>
                <a:lnTo>
                  <a:pt x="332" y="373"/>
                </a:lnTo>
                <a:lnTo>
                  <a:pt x="340" y="373"/>
                </a:lnTo>
                <a:lnTo>
                  <a:pt x="401" y="345"/>
                </a:lnTo>
                <a:lnTo>
                  <a:pt x="449" y="296"/>
                </a:lnTo>
                <a:lnTo>
                  <a:pt x="456" y="289"/>
                </a:lnTo>
                <a:lnTo>
                  <a:pt x="482" y="264"/>
                </a:lnTo>
                <a:lnTo>
                  <a:pt x="486" y="261"/>
                </a:lnTo>
                <a:lnTo>
                  <a:pt x="509" y="235"/>
                </a:lnTo>
                <a:lnTo>
                  <a:pt x="511" y="232"/>
                </a:lnTo>
                <a:lnTo>
                  <a:pt x="564" y="203"/>
                </a:lnTo>
                <a:lnTo>
                  <a:pt x="640" y="178"/>
                </a:lnTo>
                <a:lnTo>
                  <a:pt x="711" y="157"/>
                </a:lnTo>
                <a:lnTo>
                  <a:pt x="725" y="153"/>
                </a:lnTo>
                <a:lnTo>
                  <a:pt x="787" y="129"/>
                </a:lnTo>
                <a:lnTo>
                  <a:pt x="811" y="110"/>
                </a:lnTo>
                <a:lnTo>
                  <a:pt x="816" y="105"/>
                </a:lnTo>
                <a:lnTo>
                  <a:pt x="860" y="83"/>
                </a:lnTo>
                <a:lnTo>
                  <a:pt x="865" y="82"/>
                </a:lnTo>
                <a:lnTo>
                  <a:pt x="909" y="49"/>
                </a:lnTo>
                <a:lnTo>
                  <a:pt x="916" y="41"/>
                </a:lnTo>
                <a:lnTo>
                  <a:pt x="972" y="13"/>
                </a:lnTo>
                <a:lnTo>
                  <a:pt x="1041" y="6"/>
                </a:lnTo>
                <a:lnTo>
                  <a:pt x="1057" y="6"/>
                </a:lnTo>
                <a:lnTo>
                  <a:pt x="1128" y="13"/>
                </a:lnTo>
                <a:lnTo>
                  <a:pt x="1188" y="24"/>
                </a:lnTo>
                <a:lnTo>
                  <a:pt x="1211" y="27"/>
                </a:lnTo>
                <a:lnTo>
                  <a:pt x="1235" y="30"/>
                </a:lnTo>
                <a:lnTo>
                  <a:pt x="1262" y="31"/>
                </a:lnTo>
                <a:lnTo>
                  <a:pt x="1290" y="32"/>
                </a:lnTo>
                <a:lnTo>
                  <a:pt x="1320" y="32"/>
                </a:lnTo>
                <a:lnTo>
                  <a:pt x="1350" y="32"/>
                </a:lnTo>
                <a:lnTo>
                  <a:pt x="1413" y="29"/>
                </a:lnTo>
                <a:lnTo>
                  <a:pt x="1475" y="25"/>
                </a:lnTo>
                <a:lnTo>
                  <a:pt x="1562" y="17"/>
                </a:lnTo>
                <a:lnTo>
                  <a:pt x="1633" y="10"/>
                </a:lnTo>
                <a:lnTo>
                  <a:pt x="1652" y="8"/>
                </a:lnTo>
                <a:lnTo>
                  <a:pt x="1667" y="6"/>
                </a:lnTo>
                <a:lnTo>
                  <a:pt x="1679" y="5"/>
                </a:lnTo>
                <a:lnTo>
                  <a:pt x="1687" y="5"/>
                </a:lnTo>
                <a:lnTo>
                  <a:pt x="1709" y="4"/>
                </a:lnTo>
                <a:lnTo>
                  <a:pt x="1729" y="3"/>
                </a:lnTo>
                <a:lnTo>
                  <a:pt x="1749" y="3"/>
                </a:lnTo>
                <a:lnTo>
                  <a:pt x="1767" y="2"/>
                </a:lnTo>
                <a:lnTo>
                  <a:pt x="1784" y="1"/>
                </a:lnTo>
                <a:lnTo>
                  <a:pt x="1800" y="0"/>
                </a:lnTo>
                <a:lnTo>
                  <a:pt x="1814" y="0"/>
                </a:lnTo>
                <a:lnTo>
                  <a:pt x="1827" y="0"/>
                </a:lnTo>
                <a:close/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400" y="2695680"/>
            <a:ext cx="2114640" cy="1162080"/>
          </a:xfrm>
          <a:custGeom>
            <a:avLst/>
            <a:gdLst/>
            <a:ahLst/>
            <a:rect l="l" t="t" r="r" b="b"/>
            <a:pathLst>
              <a:path w="1904" h="1044">
                <a:moveTo>
                  <a:pt x="1827" y="0"/>
                </a:moveTo>
                <a:lnTo>
                  <a:pt x="1883" y="24"/>
                </a:lnTo>
                <a:lnTo>
                  <a:pt x="1884" y="31"/>
                </a:lnTo>
                <a:lnTo>
                  <a:pt x="1883" y="39"/>
                </a:lnTo>
                <a:lnTo>
                  <a:pt x="1881" y="49"/>
                </a:lnTo>
                <a:lnTo>
                  <a:pt x="1877" y="61"/>
                </a:lnTo>
                <a:lnTo>
                  <a:pt x="1873" y="74"/>
                </a:lnTo>
                <a:lnTo>
                  <a:pt x="1859" y="148"/>
                </a:lnTo>
                <a:lnTo>
                  <a:pt x="1850" y="219"/>
                </a:lnTo>
                <a:lnTo>
                  <a:pt x="1845" y="295"/>
                </a:lnTo>
                <a:lnTo>
                  <a:pt x="1842" y="369"/>
                </a:lnTo>
                <a:lnTo>
                  <a:pt x="1841" y="392"/>
                </a:lnTo>
                <a:lnTo>
                  <a:pt x="1841" y="414"/>
                </a:lnTo>
                <a:lnTo>
                  <a:pt x="1845" y="485"/>
                </a:lnTo>
                <a:lnTo>
                  <a:pt x="1864" y="544"/>
                </a:lnTo>
                <a:lnTo>
                  <a:pt x="1885" y="583"/>
                </a:lnTo>
                <a:lnTo>
                  <a:pt x="1889" y="591"/>
                </a:lnTo>
                <a:lnTo>
                  <a:pt x="1904" y="629"/>
                </a:lnTo>
                <a:lnTo>
                  <a:pt x="1904" y="636"/>
                </a:lnTo>
                <a:lnTo>
                  <a:pt x="1858" y="678"/>
                </a:lnTo>
                <a:lnTo>
                  <a:pt x="1794" y="700"/>
                </a:lnTo>
                <a:lnTo>
                  <a:pt x="1730" y="714"/>
                </a:lnTo>
                <a:lnTo>
                  <a:pt x="1661" y="723"/>
                </a:lnTo>
                <a:lnTo>
                  <a:pt x="1594" y="728"/>
                </a:lnTo>
                <a:lnTo>
                  <a:pt x="1522" y="732"/>
                </a:lnTo>
                <a:lnTo>
                  <a:pt x="1493" y="732"/>
                </a:lnTo>
                <a:lnTo>
                  <a:pt x="1475" y="732"/>
                </a:lnTo>
                <a:lnTo>
                  <a:pt x="1397" y="730"/>
                </a:lnTo>
                <a:lnTo>
                  <a:pt x="1336" y="726"/>
                </a:lnTo>
                <a:lnTo>
                  <a:pt x="1274" y="722"/>
                </a:lnTo>
                <a:lnTo>
                  <a:pt x="1196" y="714"/>
                </a:lnTo>
                <a:lnTo>
                  <a:pt x="1127" y="706"/>
                </a:lnTo>
                <a:lnTo>
                  <a:pt x="1120" y="705"/>
                </a:lnTo>
                <a:lnTo>
                  <a:pt x="1113" y="705"/>
                </a:lnTo>
                <a:lnTo>
                  <a:pt x="1078" y="702"/>
                </a:lnTo>
                <a:lnTo>
                  <a:pt x="1074" y="702"/>
                </a:lnTo>
                <a:lnTo>
                  <a:pt x="1010" y="709"/>
                </a:lnTo>
                <a:lnTo>
                  <a:pt x="1010" y="708"/>
                </a:lnTo>
                <a:lnTo>
                  <a:pt x="980" y="655"/>
                </a:lnTo>
                <a:lnTo>
                  <a:pt x="981" y="645"/>
                </a:lnTo>
                <a:lnTo>
                  <a:pt x="983" y="634"/>
                </a:lnTo>
                <a:lnTo>
                  <a:pt x="985" y="623"/>
                </a:lnTo>
                <a:lnTo>
                  <a:pt x="989" y="610"/>
                </a:lnTo>
                <a:lnTo>
                  <a:pt x="991" y="597"/>
                </a:lnTo>
                <a:lnTo>
                  <a:pt x="951" y="553"/>
                </a:lnTo>
                <a:lnTo>
                  <a:pt x="881" y="540"/>
                </a:lnTo>
                <a:lnTo>
                  <a:pt x="862" y="539"/>
                </a:lnTo>
                <a:lnTo>
                  <a:pt x="843" y="540"/>
                </a:lnTo>
                <a:lnTo>
                  <a:pt x="777" y="553"/>
                </a:lnTo>
                <a:lnTo>
                  <a:pt x="746" y="587"/>
                </a:lnTo>
                <a:lnTo>
                  <a:pt x="746" y="590"/>
                </a:lnTo>
                <a:lnTo>
                  <a:pt x="755" y="650"/>
                </a:lnTo>
                <a:lnTo>
                  <a:pt x="777" y="684"/>
                </a:lnTo>
                <a:lnTo>
                  <a:pt x="777" y="684"/>
                </a:lnTo>
                <a:lnTo>
                  <a:pt x="777" y="685"/>
                </a:lnTo>
                <a:lnTo>
                  <a:pt x="778" y="685"/>
                </a:lnTo>
                <a:lnTo>
                  <a:pt x="778" y="686"/>
                </a:lnTo>
                <a:lnTo>
                  <a:pt x="778" y="687"/>
                </a:lnTo>
                <a:lnTo>
                  <a:pt x="778" y="689"/>
                </a:lnTo>
                <a:lnTo>
                  <a:pt x="748" y="742"/>
                </a:lnTo>
                <a:lnTo>
                  <a:pt x="742" y="750"/>
                </a:lnTo>
                <a:lnTo>
                  <a:pt x="710" y="813"/>
                </a:lnTo>
                <a:lnTo>
                  <a:pt x="705" y="824"/>
                </a:lnTo>
                <a:lnTo>
                  <a:pt x="673" y="882"/>
                </a:lnTo>
                <a:lnTo>
                  <a:pt x="640" y="904"/>
                </a:lnTo>
                <a:lnTo>
                  <a:pt x="632" y="903"/>
                </a:lnTo>
                <a:lnTo>
                  <a:pt x="587" y="881"/>
                </a:lnTo>
                <a:lnTo>
                  <a:pt x="587" y="878"/>
                </a:lnTo>
                <a:lnTo>
                  <a:pt x="552" y="825"/>
                </a:lnTo>
                <a:lnTo>
                  <a:pt x="512" y="803"/>
                </a:lnTo>
                <a:lnTo>
                  <a:pt x="506" y="803"/>
                </a:lnTo>
                <a:lnTo>
                  <a:pt x="477" y="822"/>
                </a:lnTo>
                <a:lnTo>
                  <a:pt x="470" y="828"/>
                </a:lnTo>
                <a:lnTo>
                  <a:pt x="413" y="861"/>
                </a:lnTo>
                <a:lnTo>
                  <a:pt x="369" y="880"/>
                </a:lnTo>
                <a:lnTo>
                  <a:pt x="358" y="884"/>
                </a:lnTo>
                <a:lnTo>
                  <a:pt x="303" y="911"/>
                </a:lnTo>
                <a:lnTo>
                  <a:pt x="277" y="947"/>
                </a:lnTo>
                <a:lnTo>
                  <a:pt x="275" y="951"/>
                </a:lnTo>
                <a:lnTo>
                  <a:pt x="245" y="992"/>
                </a:lnTo>
                <a:lnTo>
                  <a:pt x="240" y="996"/>
                </a:lnTo>
                <a:lnTo>
                  <a:pt x="235" y="1001"/>
                </a:lnTo>
                <a:lnTo>
                  <a:pt x="230" y="1006"/>
                </a:lnTo>
                <a:lnTo>
                  <a:pt x="225" y="1012"/>
                </a:lnTo>
                <a:lnTo>
                  <a:pt x="219" y="1018"/>
                </a:lnTo>
                <a:lnTo>
                  <a:pt x="214" y="1023"/>
                </a:lnTo>
                <a:lnTo>
                  <a:pt x="178" y="1044"/>
                </a:lnTo>
                <a:lnTo>
                  <a:pt x="171" y="1042"/>
                </a:lnTo>
                <a:lnTo>
                  <a:pt x="129" y="982"/>
                </a:lnTo>
                <a:lnTo>
                  <a:pt x="113" y="940"/>
                </a:lnTo>
                <a:lnTo>
                  <a:pt x="105" y="919"/>
                </a:lnTo>
                <a:lnTo>
                  <a:pt x="77" y="863"/>
                </a:lnTo>
                <a:lnTo>
                  <a:pt x="58" y="829"/>
                </a:lnTo>
                <a:lnTo>
                  <a:pt x="48" y="813"/>
                </a:lnTo>
                <a:lnTo>
                  <a:pt x="17" y="748"/>
                </a:lnTo>
                <a:lnTo>
                  <a:pt x="1" y="679"/>
                </a:lnTo>
                <a:lnTo>
                  <a:pt x="0" y="660"/>
                </a:lnTo>
                <a:lnTo>
                  <a:pt x="1" y="639"/>
                </a:lnTo>
                <a:lnTo>
                  <a:pt x="4" y="618"/>
                </a:lnTo>
                <a:lnTo>
                  <a:pt x="9" y="595"/>
                </a:lnTo>
                <a:lnTo>
                  <a:pt x="14" y="573"/>
                </a:lnTo>
                <a:lnTo>
                  <a:pt x="18" y="553"/>
                </a:lnTo>
                <a:lnTo>
                  <a:pt x="28" y="493"/>
                </a:lnTo>
                <a:lnTo>
                  <a:pt x="32" y="455"/>
                </a:lnTo>
                <a:lnTo>
                  <a:pt x="33" y="448"/>
                </a:lnTo>
                <a:lnTo>
                  <a:pt x="49" y="385"/>
                </a:lnTo>
                <a:lnTo>
                  <a:pt x="80" y="327"/>
                </a:lnTo>
                <a:lnTo>
                  <a:pt x="130" y="292"/>
                </a:lnTo>
                <a:lnTo>
                  <a:pt x="135" y="292"/>
                </a:lnTo>
                <a:lnTo>
                  <a:pt x="140" y="292"/>
                </a:lnTo>
                <a:lnTo>
                  <a:pt x="197" y="308"/>
                </a:lnTo>
                <a:lnTo>
                  <a:pt x="206" y="311"/>
                </a:lnTo>
                <a:lnTo>
                  <a:pt x="271" y="331"/>
                </a:lnTo>
                <a:lnTo>
                  <a:pt x="294" y="334"/>
                </a:lnTo>
                <a:lnTo>
                  <a:pt x="300" y="334"/>
                </a:lnTo>
                <a:lnTo>
                  <a:pt x="306" y="333"/>
                </a:lnTo>
                <a:lnTo>
                  <a:pt x="311" y="332"/>
                </a:lnTo>
                <a:lnTo>
                  <a:pt x="319" y="332"/>
                </a:lnTo>
                <a:lnTo>
                  <a:pt x="387" y="318"/>
                </a:lnTo>
                <a:lnTo>
                  <a:pt x="446" y="289"/>
                </a:lnTo>
                <a:lnTo>
                  <a:pt x="496" y="250"/>
                </a:lnTo>
                <a:lnTo>
                  <a:pt x="509" y="234"/>
                </a:lnTo>
                <a:lnTo>
                  <a:pt x="511" y="232"/>
                </a:lnTo>
                <a:lnTo>
                  <a:pt x="564" y="203"/>
                </a:lnTo>
                <a:lnTo>
                  <a:pt x="640" y="178"/>
                </a:lnTo>
                <a:lnTo>
                  <a:pt x="711" y="156"/>
                </a:lnTo>
                <a:lnTo>
                  <a:pt x="725" y="152"/>
                </a:lnTo>
                <a:lnTo>
                  <a:pt x="787" y="129"/>
                </a:lnTo>
                <a:lnTo>
                  <a:pt x="811" y="110"/>
                </a:lnTo>
                <a:lnTo>
                  <a:pt x="816" y="104"/>
                </a:lnTo>
                <a:lnTo>
                  <a:pt x="860" y="82"/>
                </a:lnTo>
                <a:lnTo>
                  <a:pt x="864" y="81"/>
                </a:lnTo>
                <a:lnTo>
                  <a:pt x="909" y="48"/>
                </a:lnTo>
                <a:lnTo>
                  <a:pt x="916" y="41"/>
                </a:lnTo>
                <a:lnTo>
                  <a:pt x="972" y="12"/>
                </a:lnTo>
                <a:lnTo>
                  <a:pt x="1041" y="5"/>
                </a:lnTo>
                <a:lnTo>
                  <a:pt x="1057" y="6"/>
                </a:lnTo>
                <a:lnTo>
                  <a:pt x="1128" y="13"/>
                </a:lnTo>
                <a:lnTo>
                  <a:pt x="1188" y="23"/>
                </a:lnTo>
                <a:lnTo>
                  <a:pt x="1211" y="27"/>
                </a:lnTo>
                <a:lnTo>
                  <a:pt x="1235" y="29"/>
                </a:lnTo>
                <a:lnTo>
                  <a:pt x="1262" y="31"/>
                </a:lnTo>
                <a:lnTo>
                  <a:pt x="1290" y="32"/>
                </a:lnTo>
                <a:lnTo>
                  <a:pt x="1320" y="32"/>
                </a:lnTo>
                <a:lnTo>
                  <a:pt x="1350" y="31"/>
                </a:lnTo>
                <a:lnTo>
                  <a:pt x="1413" y="28"/>
                </a:lnTo>
                <a:lnTo>
                  <a:pt x="1475" y="24"/>
                </a:lnTo>
                <a:lnTo>
                  <a:pt x="1562" y="16"/>
                </a:lnTo>
                <a:lnTo>
                  <a:pt x="1633" y="9"/>
                </a:lnTo>
                <a:lnTo>
                  <a:pt x="1652" y="7"/>
                </a:lnTo>
                <a:lnTo>
                  <a:pt x="1667" y="6"/>
                </a:lnTo>
                <a:lnTo>
                  <a:pt x="1679" y="5"/>
                </a:lnTo>
                <a:lnTo>
                  <a:pt x="1687" y="4"/>
                </a:lnTo>
                <a:lnTo>
                  <a:pt x="1709" y="4"/>
                </a:lnTo>
                <a:lnTo>
                  <a:pt x="1729" y="3"/>
                </a:lnTo>
                <a:lnTo>
                  <a:pt x="1749" y="2"/>
                </a:lnTo>
                <a:lnTo>
                  <a:pt x="1767" y="1"/>
                </a:lnTo>
                <a:lnTo>
                  <a:pt x="1784" y="0"/>
                </a:lnTo>
                <a:lnTo>
                  <a:pt x="1799" y="0"/>
                </a:lnTo>
                <a:lnTo>
                  <a:pt x="1814" y="0"/>
                </a:lnTo>
                <a:lnTo>
                  <a:pt x="1827" y="0"/>
                </a:lnTo>
                <a:close/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7760" y="2421000"/>
            <a:ext cx="675000" cy="654120"/>
          </a:xfrm>
          <a:custGeom>
            <a:avLst/>
            <a:gdLst/>
            <a:ahLst/>
            <a:rect l="l" t="t" r="r" b="b"/>
            <a:pathLst>
              <a:path w="606" h="589">
                <a:moveTo>
                  <a:pt x="241" y="0"/>
                </a:moveTo>
                <a:lnTo>
                  <a:pt x="296" y="24"/>
                </a:lnTo>
                <a:lnTo>
                  <a:pt x="344" y="76"/>
                </a:lnTo>
                <a:lnTo>
                  <a:pt x="377" y="139"/>
                </a:lnTo>
                <a:lnTo>
                  <a:pt x="401" y="202"/>
                </a:lnTo>
                <a:lnTo>
                  <a:pt x="409" y="229"/>
                </a:lnTo>
                <a:lnTo>
                  <a:pt x="413" y="240"/>
                </a:lnTo>
                <a:lnTo>
                  <a:pt x="440" y="296"/>
                </a:lnTo>
                <a:lnTo>
                  <a:pt x="502" y="322"/>
                </a:lnTo>
                <a:lnTo>
                  <a:pt x="561" y="336"/>
                </a:lnTo>
                <a:lnTo>
                  <a:pt x="579" y="348"/>
                </a:lnTo>
                <a:lnTo>
                  <a:pt x="593" y="359"/>
                </a:lnTo>
                <a:lnTo>
                  <a:pt x="602" y="371"/>
                </a:lnTo>
                <a:lnTo>
                  <a:pt x="606" y="383"/>
                </a:lnTo>
                <a:lnTo>
                  <a:pt x="606" y="395"/>
                </a:lnTo>
                <a:lnTo>
                  <a:pt x="603" y="407"/>
                </a:lnTo>
                <a:lnTo>
                  <a:pt x="559" y="457"/>
                </a:lnTo>
                <a:lnTo>
                  <a:pt x="504" y="495"/>
                </a:lnTo>
                <a:lnTo>
                  <a:pt x="440" y="535"/>
                </a:lnTo>
                <a:lnTo>
                  <a:pt x="418" y="548"/>
                </a:lnTo>
                <a:lnTo>
                  <a:pt x="397" y="562"/>
                </a:lnTo>
                <a:lnTo>
                  <a:pt x="376" y="575"/>
                </a:lnTo>
                <a:lnTo>
                  <a:pt x="356" y="589"/>
                </a:lnTo>
                <a:lnTo>
                  <a:pt x="347" y="585"/>
                </a:lnTo>
                <a:lnTo>
                  <a:pt x="307" y="540"/>
                </a:lnTo>
                <a:lnTo>
                  <a:pt x="306" y="532"/>
                </a:lnTo>
                <a:lnTo>
                  <a:pt x="305" y="524"/>
                </a:lnTo>
                <a:lnTo>
                  <a:pt x="272" y="469"/>
                </a:lnTo>
                <a:lnTo>
                  <a:pt x="214" y="450"/>
                </a:lnTo>
                <a:lnTo>
                  <a:pt x="167" y="441"/>
                </a:lnTo>
                <a:lnTo>
                  <a:pt x="159" y="440"/>
                </a:lnTo>
                <a:lnTo>
                  <a:pt x="98" y="424"/>
                </a:lnTo>
                <a:lnTo>
                  <a:pt x="47" y="387"/>
                </a:lnTo>
                <a:lnTo>
                  <a:pt x="39" y="380"/>
                </a:lnTo>
                <a:lnTo>
                  <a:pt x="35" y="376"/>
                </a:lnTo>
                <a:lnTo>
                  <a:pt x="31" y="373"/>
                </a:lnTo>
                <a:lnTo>
                  <a:pt x="27" y="369"/>
                </a:lnTo>
                <a:lnTo>
                  <a:pt x="23" y="366"/>
                </a:lnTo>
                <a:lnTo>
                  <a:pt x="20" y="363"/>
                </a:lnTo>
                <a:lnTo>
                  <a:pt x="0" y="304"/>
                </a:lnTo>
                <a:lnTo>
                  <a:pt x="0" y="293"/>
                </a:lnTo>
                <a:lnTo>
                  <a:pt x="0" y="287"/>
                </a:lnTo>
                <a:lnTo>
                  <a:pt x="15" y="224"/>
                </a:lnTo>
                <a:lnTo>
                  <a:pt x="55" y="170"/>
                </a:lnTo>
                <a:lnTo>
                  <a:pt x="89" y="147"/>
                </a:lnTo>
                <a:lnTo>
                  <a:pt x="93" y="145"/>
                </a:lnTo>
                <a:lnTo>
                  <a:pt x="116" y="94"/>
                </a:lnTo>
                <a:lnTo>
                  <a:pt x="117" y="90"/>
                </a:lnTo>
                <a:lnTo>
                  <a:pt x="156" y="36"/>
                </a:lnTo>
                <a:lnTo>
                  <a:pt x="214" y="2"/>
                </a:lnTo>
                <a:lnTo>
                  <a:pt x="232" y="0"/>
                </a:lnTo>
                <a:lnTo>
                  <a:pt x="24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7760" y="2421000"/>
            <a:ext cx="675000" cy="654120"/>
          </a:xfrm>
          <a:custGeom>
            <a:avLst/>
            <a:gdLst/>
            <a:ahLst/>
            <a:rect l="l" t="t" r="r" b="b"/>
            <a:pathLst>
              <a:path w="606" h="589">
                <a:moveTo>
                  <a:pt x="356" y="589"/>
                </a:moveTo>
                <a:lnTo>
                  <a:pt x="418" y="548"/>
                </a:lnTo>
                <a:lnTo>
                  <a:pt x="462" y="522"/>
                </a:lnTo>
                <a:lnTo>
                  <a:pt x="483" y="508"/>
                </a:lnTo>
                <a:lnTo>
                  <a:pt x="542" y="470"/>
                </a:lnTo>
                <a:lnTo>
                  <a:pt x="596" y="420"/>
                </a:lnTo>
                <a:lnTo>
                  <a:pt x="606" y="395"/>
                </a:lnTo>
                <a:lnTo>
                  <a:pt x="606" y="383"/>
                </a:lnTo>
                <a:lnTo>
                  <a:pt x="561" y="336"/>
                </a:lnTo>
                <a:lnTo>
                  <a:pt x="544" y="332"/>
                </a:lnTo>
                <a:lnTo>
                  <a:pt x="528" y="328"/>
                </a:lnTo>
                <a:lnTo>
                  <a:pt x="465" y="311"/>
                </a:lnTo>
                <a:lnTo>
                  <a:pt x="423" y="266"/>
                </a:lnTo>
                <a:lnTo>
                  <a:pt x="405" y="216"/>
                </a:lnTo>
                <a:lnTo>
                  <a:pt x="401" y="202"/>
                </a:lnTo>
                <a:lnTo>
                  <a:pt x="377" y="139"/>
                </a:lnTo>
                <a:lnTo>
                  <a:pt x="344" y="76"/>
                </a:lnTo>
                <a:lnTo>
                  <a:pt x="296" y="24"/>
                </a:lnTo>
                <a:lnTo>
                  <a:pt x="241" y="0"/>
                </a:lnTo>
                <a:lnTo>
                  <a:pt x="232" y="0"/>
                </a:lnTo>
                <a:lnTo>
                  <a:pt x="223" y="0"/>
                </a:lnTo>
                <a:lnTo>
                  <a:pt x="163" y="29"/>
                </a:lnTo>
                <a:lnTo>
                  <a:pt x="123" y="75"/>
                </a:lnTo>
                <a:lnTo>
                  <a:pt x="116" y="99"/>
                </a:lnTo>
                <a:lnTo>
                  <a:pt x="115" y="103"/>
                </a:lnTo>
                <a:lnTo>
                  <a:pt x="85" y="148"/>
                </a:lnTo>
                <a:lnTo>
                  <a:pt x="80" y="150"/>
                </a:lnTo>
                <a:lnTo>
                  <a:pt x="34" y="196"/>
                </a:lnTo>
                <a:lnTo>
                  <a:pt x="3" y="252"/>
                </a:lnTo>
                <a:lnTo>
                  <a:pt x="0" y="293"/>
                </a:lnTo>
                <a:lnTo>
                  <a:pt x="0" y="299"/>
                </a:lnTo>
                <a:lnTo>
                  <a:pt x="17" y="359"/>
                </a:lnTo>
                <a:lnTo>
                  <a:pt x="27" y="369"/>
                </a:lnTo>
                <a:lnTo>
                  <a:pt x="31" y="373"/>
                </a:lnTo>
                <a:lnTo>
                  <a:pt x="35" y="376"/>
                </a:lnTo>
                <a:lnTo>
                  <a:pt x="39" y="380"/>
                </a:lnTo>
                <a:lnTo>
                  <a:pt x="42" y="384"/>
                </a:lnTo>
                <a:lnTo>
                  <a:pt x="47" y="387"/>
                </a:lnTo>
                <a:lnTo>
                  <a:pt x="98" y="424"/>
                </a:lnTo>
                <a:lnTo>
                  <a:pt x="159" y="440"/>
                </a:lnTo>
                <a:lnTo>
                  <a:pt x="175" y="443"/>
                </a:lnTo>
                <a:lnTo>
                  <a:pt x="183" y="444"/>
                </a:lnTo>
                <a:lnTo>
                  <a:pt x="244" y="458"/>
                </a:lnTo>
                <a:lnTo>
                  <a:pt x="298" y="493"/>
                </a:lnTo>
                <a:lnTo>
                  <a:pt x="307" y="540"/>
                </a:lnTo>
                <a:lnTo>
                  <a:pt x="308" y="547"/>
                </a:lnTo>
                <a:lnTo>
                  <a:pt x="338" y="586"/>
                </a:lnTo>
                <a:lnTo>
                  <a:pt x="347" y="58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4880" y="2887560"/>
            <a:ext cx="676080" cy="389160"/>
          </a:xfrm>
          <a:custGeom>
            <a:avLst/>
            <a:gdLst/>
            <a:ahLst/>
            <a:rect l="l" t="t" r="r" b="b"/>
            <a:pathLst>
              <a:path w="607" h="349">
                <a:moveTo>
                  <a:pt x="486" y="26"/>
                </a:moveTo>
                <a:lnTo>
                  <a:pt x="539" y="72"/>
                </a:lnTo>
                <a:lnTo>
                  <a:pt x="573" y="127"/>
                </a:lnTo>
                <a:lnTo>
                  <a:pt x="597" y="187"/>
                </a:lnTo>
                <a:lnTo>
                  <a:pt x="607" y="240"/>
                </a:lnTo>
                <a:lnTo>
                  <a:pt x="607" y="254"/>
                </a:lnTo>
                <a:lnTo>
                  <a:pt x="605" y="266"/>
                </a:lnTo>
                <a:lnTo>
                  <a:pt x="600" y="275"/>
                </a:lnTo>
                <a:lnTo>
                  <a:pt x="593" y="281"/>
                </a:lnTo>
                <a:lnTo>
                  <a:pt x="583" y="283"/>
                </a:lnTo>
                <a:lnTo>
                  <a:pt x="570" y="281"/>
                </a:lnTo>
                <a:lnTo>
                  <a:pt x="555" y="275"/>
                </a:lnTo>
                <a:lnTo>
                  <a:pt x="541" y="269"/>
                </a:lnTo>
                <a:lnTo>
                  <a:pt x="528" y="263"/>
                </a:lnTo>
                <a:lnTo>
                  <a:pt x="460" y="243"/>
                </a:lnTo>
                <a:lnTo>
                  <a:pt x="394" y="236"/>
                </a:lnTo>
                <a:lnTo>
                  <a:pt x="382" y="236"/>
                </a:lnTo>
                <a:lnTo>
                  <a:pt x="322" y="243"/>
                </a:lnTo>
                <a:lnTo>
                  <a:pt x="265" y="272"/>
                </a:lnTo>
                <a:lnTo>
                  <a:pt x="224" y="321"/>
                </a:lnTo>
                <a:lnTo>
                  <a:pt x="221" y="326"/>
                </a:lnTo>
                <a:lnTo>
                  <a:pt x="217" y="332"/>
                </a:lnTo>
                <a:lnTo>
                  <a:pt x="160" y="349"/>
                </a:lnTo>
                <a:lnTo>
                  <a:pt x="149" y="349"/>
                </a:lnTo>
                <a:lnTo>
                  <a:pt x="82" y="336"/>
                </a:lnTo>
                <a:lnTo>
                  <a:pt x="30" y="302"/>
                </a:lnTo>
                <a:lnTo>
                  <a:pt x="2" y="242"/>
                </a:lnTo>
                <a:lnTo>
                  <a:pt x="0" y="212"/>
                </a:lnTo>
                <a:lnTo>
                  <a:pt x="0" y="201"/>
                </a:lnTo>
                <a:lnTo>
                  <a:pt x="15" y="140"/>
                </a:lnTo>
                <a:lnTo>
                  <a:pt x="58" y="89"/>
                </a:lnTo>
                <a:lnTo>
                  <a:pt x="103" y="80"/>
                </a:lnTo>
                <a:lnTo>
                  <a:pt x="113" y="80"/>
                </a:lnTo>
                <a:lnTo>
                  <a:pt x="180" y="88"/>
                </a:lnTo>
                <a:lnTo>
                  <a:pt x="192" y="90"/>
                </a:lnTo>
                <a:lnTo>
                  <a:pt x="204" y="91"/>
                </a:lnTo>
                <a:lnTo>
                  <a:pt x="217" y="93"/>
                </a:lnTo>
                <a:lnTo>
                  <a:pt x="229" y="94"/>
                </a:lnTo>
                <a:lnTo>
                  <a:pt x="241" y="95"/>
                </a:lnTo>
                <a:lnTo>
                  <a:pt x="254" y="95"/>
                </a:lnTo>
                <a:lnTo>
                  <a:pt x="316" y="84"/>
                </a:lnTo>
                <a:lnTo>
                  <a:pt x="370" y="58"/>
                </a:lnTo>
                <a:lnTo>
                  <a:pt x="412" y="9"/>
                </a:lnTo>
                <a:lnTo>
                  <a:pt x="415" y="0"/>
                </a:lnTo>
                <a:lnTo>
                  <a:pt x="486" y="2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4880" y="2887560"/>
            <a:ext cx="676080" cy="389160"/>
          </a:xfrm>
          <a:custGeom>
            <a:avLst/>
            <a:gdLst/>
            <a:ahLst/>
            <a:rect l="l" t="t" r="r" b="b"/>
            <a:pathLst>
              <a:path w="607" h="349">
                <a:moveTo>
                  <a:pt x="300" y="249"/>
                </a:moveTo>
                <a:lnTo>
                  <a:pt x="369" y="237"/>
                </a:lnTo>
                <a:lnTo>
                  <a:pt x="394" y="236"/>
                </a:lnTo>
                <a:lnTo>
                  <a:pt x="407" y="237"/>
                </a:lnTo>
                <a:lnTo>
                  <a:pt x="474" y="246"/>
                </a:lnTo>
                <a:lnTo>
                  <a:pt x="541" y="269"/>
                </a:lnTo>
                <a:lnTo>
                  <a:pt x="555" y="275"/>
                </a:lnTo>
                <a:lnTo>
                  <a:pt x="570" y="281"/>
                </a:lnTo>
                <a:lnTo>
                  <a:pt x="607" y="240"/>
                </a:lnTo>
                <a:lnTo>
                  <a:pt x="606" y="223"/>
                </a:lnTo>
                <a:lnTo>
                  <a:pt x="582" y="147"/>
                </a:lnTo>
                <a:lnTo>
                  <a:pt x="551" y="89"/>
                </a:lnTo>
                <a:lnTo>
                  <a:pt x="500" y="33"/>
                </a:lnTo>
                <a:lnTo>
                  <a:pt x="415" y="0"/>
                </a:lnTo>
                <a:lnTo>
                  <a:pt x="412" y="9"/>
                </a:lnTo>
                <a:lnTo>
                  <a:pt x="407" y="18"/>
                </a:lnTo>
                <a:lnTo>
                  <a:pt x="360" y="64"/>
                </a:lnTo>
                <a:lnTo>
                  <a:pt x="304" y="87"/>
                </a:lnTo>
                <a:lnTo>
                  <a:pt x="241" y="95"/>
                </a:lnTo>
                <a:lnTo>
                  <a:pt x="229" y="94"/>
                </a:lnTo>
                <a:lnTo>
                  <a:pt x="217" y="93"/>
                </a:lnTo>
                <a:lnTo>
                  <a:pt x="204" y="91"/>
                </a:lnTo>
                <a:lnTo>
                  <a:pt x="192" y="90"/>
                </a:lnTo>
                <a:lnTo>
                  <a:pt x="180" y="88"/>
                </a:lnTo>
                <a:lnTo>
                  <a:pt x="168" y="86"/>
                </a:lnTo>
                <a:lnTo>
                  <a:pt x="103" y="80"/>
                </a:lnTo>
                <a:lnTo>
                  <a:pt x="93" y="80"/>
                </a:lnTo>
                <a:lnTo>
                  <a:pt x="36" y="105"/>
                </a:lnTo>
                <a:lnTo>
                  <a:pt x="8" y="160"/>
                </a:lnTo>
                <a:lnTo>
                  <a:pt x="0" y="212"/>
                </a:lnTo>
                <a:lnTo>
                  <a:pt x="0" y="222"/>
                </a:lnTo>
                <a:lnTo>
                  <a:pt x="19" y="287"/>
                </a:lnTo>
                <a:lnTo>
                  <a:pt x="71" y="332"/>
                </a:lnTo>
                <a:lnTo>
                  <a:pt x="138" y="348"/>
                </a:lnTo>
                <a:lnTo>
                  <a:pt x="160" y="349"/>
                </a:lnTo>
                <a:lnTo>
                  <a:pt x="171" y="349"/>
                </a:lnTo>
                <a:lnTo>
                  <a:pt x="224" y="321"/>
                </a:lnTo>
                <a:lnTo>
                  <a:pt x="227" y="315"/>
                </a:lnTo>
                <a:lnTo>
                  <a:pt x="269" y="268"/>
                </a:lnTo>
                <a:lnTo>
                  <a:pt x="297" y="250"/>
                </a:lnTo>
                <a:lnTo>
                  <a:pt x="300" y="24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28840" y="2851200"/>
            <a:ext cx="252360" cy="342720"/>
          </a:xfrm>
          <a:custGeom>
            <a:avLst/>
            <a:gdLst/>
            <a:ahLst/>
            <a:rect l="l" t="t" r="r" b="b"/>
            <a:pathLst>
              <a:path w="227" h="308">
                <a:moveTo>
                  <a:pt x="101" y="0"/>
                </a:moveTo>
                <a:lnTo>
                  <a:pt x="160" y="25"/>
                </a:lnTo>
                <a:lnTo>
                  <a:pt x="189" y="81"/>
                </a:lnTo>
                <a:lnTo>
                  <a:pt x="189" y="88"/>
                </a:lnTo>
                <a:lnTo>
                  <a:pt x="190" y="96"/>
                </a:lnTo>
                <a:lnTo>
                  <a:pt x="204" y="157"/>
                </a:lnTo>
                <a:lnTo>
                  <a:pt x="207" y="172"/>
                </a:lnTo>
                <a:lnTo>
                  <a:pt x="211" y="187"/>
                </a:lnTo>
                <a:lnTo>
                  <a:pt x="226" y="258"/>
                </a:lnTo>
                <a:lnTo>
                  <a:pt x="227" y="280"/>
                </a:lnTo>
                <a:lnTo>
                  <a:pt x="226" y="290"/>
                </a:lnTo>
                <a:lnTo>
                  <a:pt x="224" y="297"/>
                </a:lnTo>
                <a:lnTo>
                  <a:pt x="220" y="303"/>
                </a:lnTo>
                <a:lnTo>
                  <a:pt x="215" y="307"/>
                </a:lnTo>
                <a:lnTo>
                  <a:pt x="208" y="308"/>
                </a:lnTo>
                <a:lnTo>
                  <a:pt x="199" y="307"/>
                </a:lnTo>
                <a:lnTo>
                  <a:pt x="140" y="271"/>
                </a:lnTo>
                <a:lnTo>
                  <a:pt x="84" y="219"/>
                </a:lnTo>
                <a:lnTo>
                  <a:pt x="35" y="160"/>
                </a:lnTo>
                <a:lnTo>
                  <a:pt x="1" y="100"/>
                </a:lnTo>
                <a:lnTo>
                  <a:pt x="0" y="91"/>
                </a:lnTo>
                <a:lnTo>
                  <a:pt x="0" y="84"/>
                </a:lnTo>
                <a:lnTo>
                  <a:pt x="26" y="27"/>
                </a:lnTo>
                <a:lnTo>
                  <a:pt x="85" y="0"/>
                </a:lnTo>
                <a:lnTo>
                  <a:pt x="93" y="0"/>
                </a:lnTo>
                <a:lnTo>
                  <a:pt x="10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50960" y="2724120"/>
            <a:ext cx="946080" cy="55440"/>
          </a:xfrm>
          <a:custGeom>
            <a:avLst/>
            <a:gdLst/>
            <a:ahLst/>
            <a:rect l="l" t="t" r="r" b="b"/>
            <a:pathLst>
              <a:path w="852" h="52">
                <a:moveTo>
                  <a:pt x="842" y="12"/>
                </a:moveTo>
                <a:lnTo>
                  <a:pt x="852" y="2"/>
                </a:lnTo>
                <a:lnTo>
                  <a:pt x="852" y="1"/>
                </a:lnTo>
                <a:lnTo>
                  <a:pt x="850" y="0"/>
                </a:lnTo>
                <a:lnTo>
                  <a:pt x="848" y="0"/>
                </a:lnTo>
                <a:lnTo>
                  <a:pt x="846" y="0"/>
                </a:lnTo>
                <a:lnTo>
                  <a:pt x="842" y="0"/>
                </a:lnTo>
                <a:lnTo>
                  <a:pt x="837" y="0"/>
                </a:lnTo>
                <a:lnTo>
                  <a:pt x="770" y="5"/>
                </a:lnTo>
                <a:lnTo>
                  <a:pt x="704" y="12"/>
                </a:lnTo>
                <a:lnTo>
                  <a:pt x="628" y="24"/>
                </a:lnTo>
                <a:lnTo>
                  <a:pt x="607" y="28"/>
                </a:lnTo>
                <a:lnTo>
                  <a:pt x="543" y="37"/>
                </a:lnTo>
                <a:lnTo>
                  <a:pt x="476" y="46"/>
                </a:lnTo>
                <a:lnTo>
                  <a:pt x="405" y="51"/>
                </a:lnTo>
                <a:lnTo>
                  <a:pt x="357" y="52"/>
                </a:lnTo>
                <a:lnTo>
                  <a:pt x="332" y="52"/>
                </a:lnTo>
                <a:lnTo>
                  <a:pt x="260" y="48"/>
                </a:lnTo>
                <a:lnTo>
                  <a:pt x="193" y="43"/>
                </a:lnTo>
                <a:lnTo>
                  <a:pt x="133" y="36"/>
                </a:lnTo>
                <a:lnTo>
                  <a:pt x="81" y="30"/>
                </a:lnTo>
                <a:lnTo>
                  <a:pt x="67" y="28"/>
                </a:lnTo>
                <a:lnTo>
                  <a:pt x="5" y="23"/>
                </a:lnTo>
                <a:lnTo>
                  <a:pt x="0" y="23"/>
                </a:lnTo>
              </a:path>
            </a:pathLst>
          </a:custGeom>
          <a:noFill/>
          <a:ln w="1008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5400" y="3430440"/>
            <a:ext cx="674640" cy="600120"/>
          </a:xfrm>
          <a:custGeom>
            <a:avLst/>
            <a:gdLst/>
            <a:ahLst/>
            <a:rect l="l" t="t" r="r" b="b"/>
            <a:pathLst>
              <a:path w="607" h="539">
                <a:moveTo>
                  <a:pt x="237" y="0"/>
                </a:moveTo>
                <a:lnTo>
                  <a:pt x="304" y="14"/>
                </a:lnTo>
                <a:lnTo>
                  <a:pt x="312" y="17"/>
                </a:lnTo>
                <a:lnTo>
                  <a:pt x="366" y="44"/>
                </a:lnTo>
                <a:lnTo>
                  <a:pt x="399" y="95"/>
                </a:lnTo>
                <a:lnTo>
                  <a:pt x="411" y="162"/>
                </a:lnTo>
                <a:lnTo>
                  <a:pt x="412" y="173"/>
                </a:lnTo>
                <a:lnTo>
                  <a:pt x="431" y="233"/>
                </a:lnTo>
                <a:lnTo>
                  <a:pt x="482" y="267"/>
                </a:lnTo>
                <a:lnTo>
                  <a:pt x="544" y="282"/>
                </a:lnTo>
                <a:lnTo>
                  <a:pt x="561" y="286"/>
                </a:lnTo>
                <a:lnTo>
                  <a:pt x="580" y="298"/>
                </a:lnTo>
                <a:lnTo>
                  <a:pt x="593" y="310"/>
                </a:lnTo>
                <a:lnTo>
                  <a:pt x="602" y="322"/>
                </a:lnTo>
                <a:lnTo>
                  <a:pt x="606" y="333"/>
                </a:lnTo>
                <a:lnTo>
                  <a:pt x="607" y="346"/>
                </a:lnTo>
                <a:lnTo>
                  <a:pt x="603" y="358"/>
                </a:lnTo>
                <a:lnTo>
                  <a:pt x="560" y="407"/>
                </a:lnTo>
                <a:lnTo>
                  <a:pt x="504" y="446"/>
                </a:lnTo>
                <a:lnTo>
                  <a:pt x="440" y="485"/>
                </a:lnTo>
                <a:lnTo>
                  <a:pt x="418" y="499"/>
                </a:lnTo>
                <a:lnTo>
                  <a:pt x="397" y="512"/>
                </a:lnTo>
                <a:lnTo>
                  <a:pt x="376" y="526"/>
                </a:lnTo>
                <a:lnTo>
                  <a:pt x="356" y="539"/>
                </a:lnTo>
                <a:lnTo>
                  <a:pt x="347" y="536"/>
                </a:lnTo>
                <a:lnTo>
                  <a:pt x="307" y="490"/>
                </a:lnTo>
                <a:lnTo>
                  <a:pt x="306" y="482"/>
                </a:lnTo>
                <a:lnTo>
                  <a:pt x="305" y="474"/>
                </a:lnTo>
                <a:lnTo>
                  <a:pt x="273" y="419"/>
                </a:lnTo>
                <a:lnTo>
                  <a:pt x="214" y="400"/>
                </a:lnTo>
                <a:lnTo>
                  <a:pt x="167" y="392"/>
                </a:lnTo>
                <a:lnTo>
                  <a:pt x="159" y="390"/>
                </a:lnTo>
                <a:lnTo>
                  <a:pt x="98" y="375"/>
                </a:lnTo>
                <a:lnTo>
                  <a:pt x="47" y="338"/>
                </a:lnTo>
                <a:lnTo>
                  <a:pt x="39" y="330"/>
                </a:lnTo>
                <a:lnTo>
                  <a:pt x="35" y="326"/>
                </a:lnTo>
                <a:lnTo>
                  <a:pt x="31" y="323"/>
                </a:lnTo>
                <a:lnTo>
                  <a:pt x="27" y="320"/>
                </a:lnTo>
                <a:lnTo>
                  <a:pt x="24" y="316"/>
                </a:lnTo>
                <a:lnTo>
                  <a:pt x="20" y="313"/>
                </a:lnTo>
                <a:lnTo>
                  <a:pt x="0" y="255"/>
                </a:lnTo>
                <a:lnTo>
                  <a:pt x="0" y="243"/>
                </a:lnTo>
                <a:lnTo>
                  <a:pt x="0" y="237"/>
                </a:lnTo>
                <a:lnTo>
                  <a:pt x="22" y="174"/>
                </a:lnTo>
                <a:lnTo>
                  <a:pt x="73" y="132"/>
                </a:lnTo>
                <a:lnTo>
                  <a:pt x="93" y="123"/>
                </a:lnTo>
                <a:lnTo>
                  <a:pt x="99" y="121"/>
                </a:lnTo>
                <a:lnTo>
                  <a:pt x="126" y="76"/>
                </a:lnTo>
                <a:lnTo>
                  <a:pt x="127" y="71"/>
                </a:lnTo>
                <a:lnTo>
                  <a:pt x="166" y="23"/>
                </a:lnTo>
                <a:lnTo>
                  <a:pt x="229" y="0"/>
                </a:lnTo>
                <a:lnTo>
                  <a:pt x="237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95400" y="3430440"/>
            <a:ext cx="674640" cy="600120"/>
          </a:xfrm>
          <a:custGeom>
            <a:avLst/>
            <a:gdLst/>
            <a:ahLst/>
            <a:rect l="l" t="t" r="r" b="b"/>
            <a:pathLst>
              <a:path w="607" h="539">
                <a:moveTo>
                  <a:pt x="356" y="539"/>
                </a:moveTo>
                <a:lnTo>
                  <a:pt x="418" y="499"/>
                </a:lnTo>
                <a:lnTo>
                  <a:pt x="462" y="472"/>
                </a:lnTo>
                <a:lnTo>
                  <a:pt x="484" y="459"/>
                </a:lnTo>
                <a:lnTo>
                  <a:pt x="543" y="420"/>
                </a:lnTo>
                <a:lnTo>
                  <a:pt x="597" y="370"/>
                </a:lnTo>
                <a:lnTo>
                  <a:pt x="607" y="346"/>
                </a:lnTo>
                <a:lnTo>
                  <a:pt x="606" y="333"/>
                </a:lnTo>
                <a:lnTo>
                  <a:pt x="561" y="286"/>
                </a:lnTo>
                <a:lnTo>
                  <a:pt x="544" y="282"/>
                </a:lnTo>
                <a:lnTo>
                  <a:pt x="529" y="279"/>
                </a:lnTo>
                <a:lnTo>
                  <a:pt x="466" y="261"/>
                </a:lnTo>
                <a:lnTo>
                  <a:pt x="423" y="216"/>
                </a:lnTo>
                <a:lnTo>
                  <a:pt x="410" y="151"/>
                </a:lnTo>
                <a:lnTo>
                  <a:pt x="408" y="140"/>
                </a:lnTo>
                <a:lnTo>
                  <a:pt x="389" y="73"/>
                </a:lnTo>
                <a:lnTo>
                  <a:pt x="343" y="28"/>
                </a:lnTo>
                <a:lnTo>
                  <a:pt x="304" y="14"/>
                </a:lnTo>
                <a:lnTo>
                  <a:pt x="295" y="12"/>
                </a:lnTo>
                <a:lnTo>
                  <a:pt x="229" y="0"/>
                </a:lnTo>
                <a:lnTo>
                  <a:pt x="220" y="1"/>
                </a:lnTo>
                <a:lnTo>
                  <a:pt x="157" y="30"/>
                </a:lnTo>
                <a:lnTo>
                  <a:pt x="126" y="80"/>
                </a:lnTo>
                <a:lnTo>
                  <a:pt x="125" y="84"/>
                </a:lnTo>
                <a:lnTo>
                  <a:pt x="89" y="124"/>
                </a:lnTo>
                <a:lnTo>
                  <a:pt x="84" y="126"/>
                </a:lnTo>
                <a:lnTo>
                  <a:pt x="32" y="163"/>
                </a:lnTo>
                <a:lnTo>
                  <a:pt x="1" y="220"/>
                </a:lnTo>
                <a:lnTo>
                  <a:pt x="0" y="243"/>
                </a:lnTo>
                <a:lnTo>
                  <a:pt x="0" y="249"/>
                </a:lnTo>
                <a:lnTo>
                  <a:pt x="17" y="310"/>
                </a:lnTo>
                <a:lnTo>
                  <a:pt x="27" y="320"/>
                </a:lnTo>
                <a:lnTo>
                  <a:pt x="31" y="323"/>
                </a:lnTo>
                <a:lnTo>
                  <a:pt x="35" y="326"/>
                </a:lnTo>
                <a:lnTo>
                  <a:pt x="39" y="330"/>
                </a:lnTo>
                <a:lnTo>
                  <a:pt x="43" y="334"/>
                </a:lnTo>
                <a:lnTo>
                  <a:pt x="47" y="338"/>
                </a:lnTo>
                <a:lnTo>
                  <a:pt x="98" y="375"/>
                </a:lnTo>
                <a:lnTo>
                  <a:pt x="159" y="390"/>
                </a:lnTo>
                <a:lnTo>
                  <a:pt x="175" y="393"/>
                </a:lnTo>
                <a:lnTo>
                  <a:pt x="183" y="394"/>
                </a:lnTo>
                <a:lnTo>
                  <a:pt x="244" y="408"/>
                </a:lnTo>
                <a:lnTo>
                  <a:pt x="298" y="444"/>
                </a:lnTo>
                <a:lnTo>
                  <a:pt x="307" y="490"/>
                </a:lnTo>
                <a:lnTo>
                  <a:pt x="308" y="498"/>
                </a:lnTo>
                <a:lnTo>
                  <a:pt x="338" y="536"/>
                </a:lnTo>
                <a:lnTo>
                  <a:pt x="347" y="53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74680" y="4481640"/>
            <a:ext cx="270000" cy="299880"/>
          </a:xfrm>
          <a:custGeom>
            <a:avLst/>
            <a:gdLst/>
            <a:ahLst/>
            <a:rect l="l" t="t" r="r" b="b"/>
            <a:pathLst>
              <a:path w="243" h="270">
                <a:moveTo>
                  <a:pt x="166" y="1"/>
                </a:moveTo>
                <a:lnTo>
                  <a:pt x="201" y="28"/>
                </a:lnTo>
                <a:lnTo>
                  <a:pt x="210" y="50"/>
                </a:lnTo>
                <a:lnTo>
                  <a:pt x="233" y="116"/>
                </a:lnTo>
                <a:lnTo>
                  <a:pt x="243" y="167"/>
                </a:lnTo>
                <a:lnTo>
                  <a:pt x="242" y="174"/>
                </a:lnTo>
                <a:lnTo>
                  <a:pt x="199" y="229"/>
                </a:lnTo>
                <a:lnTo>
                  <a:pt x="147" y="262"/>
                </a:lnTo>
                <a:lnTo>
                  <a:pt x="107" y="270"/>
                </a:lnTo>
                <a:lnTo>
                  <a:pt x="98" y="270"/>
                </a:lnTo>
                <a:lnTo>
                  <a:pt x="41" y="256"/>
                </a:lnTo>
                <a:lnTo>
                  <a:pt x="38" y="255"/>
                </a:lnTo>
                <a:lnTo>
                  <a:pt x="5" y="204"/>
                </a:lnTo>
                <a:lnTo>
                  <a:pt x="0" y="175"/>
                </a:lnTo>
                <a:lnTo>
                  <a:pt x="0" y="169"/>
                </a:lnTo>
                <a:lnTo>
                  <a:pt x="35" y="120"/>
                </a:lnTo>
                <a:lnTo>
                  <a:pt x="44" y="112"/>
                </a:lnTo>
                <a:lnTo>
                  <a:pt x="49" y="109"/>
                </a:lnTo>
                <a:lnTo>
                  <a:pt x="78" y="68"/>
                </a:lnTo>
                <a:lnTo>
                  <a:pt x="81" y="63"/>
                </a:lnTo>
                <a:lnTo>
                  <a:pt x="120" y="15"/>
                </a:lnTo>
                <a:lnTo>
                  <a:pt x="161" y="0"/>
                </a:lnTo>
                <a:lnTo>
                  <a:pt x="166" y="1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4680" y="4481640"/>
            <a:ext cx="270000" cy="299880"/>
          </a:xfrm>
          <a:custGeom>
            <a:avLst/>
            <a:gdLst/>
            <a:ahLst/>
            <a:rect l="l" t="t" r="r" b="b"/>
            <a:pathLst>
              <a:path w="243" h="270">
                <a:moveTo>
                  <a:pt x="41" y="256"/>
                </a:moveTo>
                <a:lnTo>
                  <a:pt x="5" y="204"/>
                </a:lnTo>
                <a:lnTo>
                  <a:pt x="0" y="175"/>
                </a:lnTo>
                <a:lnTo>
                  <a:pt x="0" y="169"/>
                </a:lnTo>
                <a:lnTo>
                  <a:pt x="35" y="120"/>
                </a:lnTo>
                <a:lnTo>
                  <a:pt x="44" y="112"/>
                </a:lnTo>
                <a:lnTo>
                  <a:pt x="49" y="109"/>
                </a:lnTo>
                <a:lnTo>
                  <a:pt x="78" y="68"/>
                </a:lnTo>
                <a:lnTo>
                  <a:pt x="81" y="63"/>
                </a:lnTo>
                <a:lnTo>
                  <a:pt x="120" y="15"/>
                </a:lnTo>
                <a:lnTo>
                  <a:pt x="161" y="0"/>
                </a:lnTo>
                <a:lnTo>
                  <a:pt x="166" y="1"/>
                </a:lnTo>
                <a:lnTo>
                  <a:pt x="201" y="28"/>
                </a:lnTo>
                <a:lnTo>
                  <a:pt x="210" y="50"/>
                </a:lnTo>
                <a:lnTo>
                  <a:pt x="233" y="116"/>
                </a:lnTo>
                <a:lnTo>
                  <a:pt x="243" y="167"/>
                </a:lnTo>
                <a:lnTo>
                  <a:pt x="242" y="174"/>
                </a:lnTo>
                <a:lnTo>
                  <a:pt x="199" y="229"/>
                </a:lnTo>
                <a:lnTo>
                  <a:pt x="147" y="262"/>
                </a:lnTo>
                <a:lnTo>
                  <a:pt x="107" y="270"/>
                </a:lnTo>
                <a:lnTo>
                  <a:pt x="98" y="270"/>
                </a:lnTo>
                <a:lnTo>
                  <a:pt x="41" y="256"/>
                </a:lnTo>
                <a:lnTo>
                  <a:pt x="41" y="25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89000" y="4549680"/>
            <a:ext cx="39600" cy="109800"/>
          </a:xfrm>
          <a:custGeom>
            <a:avLst/>
            <a:gdLst/>
            <a:ahLst/>
            <a:rect l="l" t="t" r="r" b="b"/>
            <a:pathLst>
              <a:path w="35" h="98">
                <a:moveTo>
                  <a:pt x="33" y="0"/>
                </a:moveTo>
                <a:lnTo>
                  <a:pt x="0" y="47"/>
                </a:lnTo>
                <a:lnTo>
                  <a:pt x="1" y="51"/>
                </a:lnTo>
                <a:lnTo>
                  <a:pt x="28" y="91"/>
                </a:lnTo>
                <a:lnTo>
                  <a:pt x="35" y="9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9920" y="3460680"/>
            <a:ext cx="38160" cy="108000"/>
          </a:xfrm>
          <a:custGeom>
            <a:avLst/>
            <a:gdLst/>
            <a:ahLst/>
            <a:rect l="l" t="t" r="r" b="b"/>
            <a:pathLst>
              <a:path w="34" h="98">
                <a:moveTo>
                  <a:pt x="33" y="0"/>
                </a:moveTo>
                <a:lnTo>
                  <a:pt x="0" y="47"/>
                </a:lnTo>
                <a:lnTo>
                  <a:pt x="0" y="51"/>
                </a:lnTo>
                <a:lnTo>
                  <a:pt x="28" y="91"/>
                </a:lnTo>
                <a:lnTo>
                  <a:pt x="34" y="9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52760" y="3786120"/>
            <a:ext cx="944280" cy="55800"/>
          </a:xfrm>
          <a:custGeom>
            <a:avLst/>
            <a:gdLst/>
            <a:ahLst/>
            <a:rect l="l" t="t" r="r" b="b"/>
            <a:pathLst>
              <a:path w="852" h="49">
                <a:moveTo>
                  <a:pt x="842" y="33"/>
                </a:moveTo>
                <a:lnTo>
                  <a:pt x="852" y="24"/>
                </a:lnTo>
                <a:lnTo>
                  <a:pt x="852" y="23"/>
                </a:lnTo>
                <a:lnTo>
                  <a:pt x="831" y="20"/>
                </a:lnTo>
                <a:lnTo>
                  <a:pt x="824" y="20"/>
                </a:lnTo>
                <a:lnTo>
                  <a:pt x="755" y="22"/>
                </a:lnTo>
                <a:lnTo>
                  <a:pt x="685" y="28"/>
                </a:lnTo>
                <a:lnTo>
                  <a:pt x="627" y="34"/>
                </a:lnTo>
                <a:lnTo>
                  <a:pt x="606" y="36"/>
                </a:lnTo>
                <a:lnTo>
                  <a:pt x="542" y="43"/>
                </a:lnTo>
                <a:lnTo>
                  <a:pt x="474" y="47"/>
                </a:lnTo>
                <a:lnTo>
                  <a:pt x="403" y="49"/>
                </a:lnTo>
                <a:lnTo>
                  <a:pt x="379" y="49"/>
                </a:lnTo>
                <a:lnTo>
                  <a:pt x="306" y="44"/>
                </a:lnTo>
                <a:lnTo>
                  <a:pt x="236" y="36"/>
                </a:lnTo>
                <a:lnTo>
                  <a:pt x="171" y="26"/>
                </a:lnTo>
                <a:lnTo>
                  <a:pt x="97" y="14"/>
                </a:lnTo>
                <a:lnTo>
                  <a:pt x="81" y="11"/>
                </a:lnTo>
                <a:lnTo>
                  <a:pt x="66" y="9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1008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2160" y="3844800"/>
            <a:ext cx="674640" cy="389160"/>
          </a:xfrm>
          <a:custGeom>
            <a:avLst/>
            <a:gdLst/>
            <a:ahLst/>
            <a:rect l="l" t="t" r="r" b="b"/>
            <a:pathLst>
              <a:path w="608" h="350">
                <a:moveTo>
                  <a:pt x="486" y="26"/>
                </a:moveTo>
                <a:lnTo>
                  <a:pt x="539" y="73"/>
                </a:lnTo>
                <a:lnTo>
                  <a:pt x="573" y="127"/>
                </a:lnTo>
                <a:lnTo>
                  <a:pt x="597" y="187"/>
                </a:lnTo>
                <a:lnTo>
                  <a:pt x="608" y="240"/>
                </a:lnTo>
                <a:lnTo>
                  <a:pt x="607" y="254"/>
                </a:lnTo>
                <a:lnTo>
                  <a:pt x="605" y="266"/>
                </a:lnTo>
                <a:lnTo>
                  <a:pt x="600" y="276"/>
                </a:lnTo>
                <a:lnTo>
                  <a:pt x="593" y="281"/>
                </a:lnTo>
                <a:lnTo>
                  <a:pt x="583" y="284"/>
                </a:lnTo>
                <a:lnTo>
                  <a:pt x="571" y="282"/>
                </a:lnTo>
                <a:lnTo>
                  <a:pt x="555" y="276"/>
                </a:lnTo>
                <a:lnTo>
                  <a:pt x="542" y="269"/>
                </a:lnTo>
                <a:lnTo>
                  <a:pt x="528" y="263"/>
                </a:lnTo>
                <a:lnTo>
                  <a:pt x="461" y="243"/>
                </a:lnTo>
                <a:lnTo>
                  <a:pt x="395" y="237"/>
                </a:lnTo>
                <a:lnTo>
                  <a:pt x="382" y="237"/>
                </a:lnTo>
                <a:lnTo>
                  <a:pt x="322" y="244"/>
                </a:lnTo>
                <a:lnTo>
                  <a:pt x="265" y="272"/>
                </a:lnTo>
                <a:lnTo>
                  <a:pt x="224" y="321"/>
                </a:lnTo>
                <a:lnTo>
                  <a:pt x="221" y="327"/>
                </a:lnTo>
                <a:lnTo>
                  <a:pt x="217" y="332"/>
                </a:lnTo>
                <a:lnTo>
                  <a:pt x="161" y="350"/>
                </a:lnTo>
                <a:lnTo>
                  <a:pt x="150" y="349"/>
                </a:lnTo>
                <a:lnTo>
                  <a:pt x="82" y="336"/>
                </a:lnTo>
                <a:lnTo>
                  <a:pt x="30" y="303"/>
                </a:lnTo>
                <a:lnTo>
                  <a:pt x="2" y="242"/>
                </a:lnTo>
                <a:lnTo>
                  <a:pt x="0" y="212"/>
                </a:lnTo>
                <a:lnTo>
                  <a:pt x="0" y="202"/>
                </a:lnTo>
                <a:lnTo>
                  <a:pt x="15" y="141"/>
                </a:lnTo>
                <a:lnTo>
                  <a:pt x="59" y="89"/>
                </a:lnTo>
                <a:lnTo>
                  <a:pt x="104" y="80"/>
                </a:lnTo>
                <a:lnTo>
                  <a:pt x="114" y="80"/>
                </a:lnTo>
                <a:lnTo>
                  <a:pt x="181" y="88"/>
                </a:lnTo>
                <a:lnTo>
                  <a:pt x="193" y="90"/>
                </a:lnTo>
                <a:lnTo>
                  <a:pt x="205" y="92"/>
                </a:lnTo>
                <a:lnTo>
                  <a:pt x="217" y="94"/>
                </a:lnTo>
                <a:lnTo>
                  <a:pt x="229" y="95"/>
                </a:lnTo>
                <a:lnTo>
                  <a:pt x="242" y="95"/>
                </a:lnTo>
                <a:lnTo>
                  <a:pt x="254" y="95"/>
                </a:lnTo>
                <a:lnTo>
                  <a:pt x="316" y="84"/>
                </a:lnTo>
                <a:lnTo>
                  <a:pt x="371" y="58"/>
                </a:lnTo>
                <a:lnTo>
                  <a:pt x="412" y="10"/>
                </a:lnTo>
                <a:lnTo>
                  <a:pt x="416" y="0"/>
                </a:lnTo>
                <a:lnTo>
                  <a:pt x="486" y="2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2160" y="3844800"/>
            <a:ext cx="674640" cy="389160"/>
          </a:xfrm>
          <a:custGeom>
            <a:avLst/>
            <a:gdLst/>
            <a:ahLst/>
            <a:rect l="l" t="t" r="r" b="b"/>
            <a:pathLst>
              <a:path w="608" h="350">
                <a:moveTo>
                  <a:pt x="301" y="249"/>
                </a:moveTo>
                <a:lnTo>
                  <a:pt x="370" y="237"/>
                </a:lnTo>
                <a:lnTo>
                  <a:pt x="395" y="237"/>
                </a:lnTo>
                <a:lnTo>
                  <a:pt x="408" y="237"/>
                </a:lnTo>
                <a:lnTo>
                  <a:pt x="474" y="246"/>
                </a:lnTo>
                <a:lnTo>
                  <a:pt x="542" y="269"/>
                </a:lnTo>
                <a:lnTo>
                  <a:pt x="555" y="276"/>
                </a:lnTo>
                <a:lnTo>
                  <a:pt x="571" y="282"/>
                </a:lnTo>
                <a:lnTo>
                  <a:pt x="608" y="240"/>
                </a:lnTo>
                <a:lnTo>
                  <a:pt x="606" y="224"/>
                </a:lnTo>
                <a:lnTo>
                  <a:pt x="582" y="147"/>
                </a:lnTo>
                <a:lnTo>
                  <a:pt x="551" y="90"/>
                </a:lnTo>
                <a:lnTo>
                  <a:pt x="500" y="34"/>
                </a:lnTo>
                <a:lnTo>
                  <a:pt x="416" y="0"/>
                </a:lnTo>
                <a:lnTo>
                  <a:pt x="412" y="10"/>
                </a:lnTo>
                <a:lnTo>
                  <a:pt x="408" y="19"/>
                </a:lnTo>
                <a:lnTo>
                  <a:pt x="361" y="64"/>
                </a:lnTo>
                <a:lnTo>
                  <a:pt x="304" y="88"/>
                </a:lnTo>
                <a:lnTo>
                  <a:pt x="242" y="95"/>
                </a:lnTo>
                <a:lnTo>
                  <a:pt x="229" y="95"/>
                </a:lnTo>
                <a:lnTo>
                  <a:pt x="217" y="94"/>
                </a:lnTo>
                <a:lnTo>
                  <a:pt x="205" y="92"/>
                </a:lnTo>
                <a:lnTo>
                  <a:pt x="193" y="90"/>
                </a:lnTo>
                <a:lnTo>
                  <a:pt x="181" y="88"/>
                </a:lnTo>
                <a:lnTo>
                  <a:pt x="169" y="86"/>
                </a:lnTo>
                <a:lnTo>
                  <a:pt x="104" y="80"/>
                </a:lnTo>
                <a:lnTo>
                  <a:pt x="94" y="81"/>
                </a:lnTo>
                <a:lnTo>
                  <a:pt x="37" y="105"/>
                </a:lnTo>
                <a:lnTo>
                  <a:pt x="8" y="161"/>
                </a:lnTo>
                <a:lnTo>
                  <a:pt x="0" y="212"/>
                </a:lnTo>
                <a:lnTo>
                  <a:pt x="0" y="222"/>
                </a:lnTo>
                <a:lnTo>
                  <a:pt x="19" y="287"/>
                </a:lnTo>
                <a:lnTo>
                  <a:pt x="71" y="332"/>
                </a:lnTo>
                <a:lnTo>
                  <a:pt x="139" y="349"/>
                </a:lnTo>
                <a:lnTo>
                  <a:pt x="161" y="350"/>
                </a:lnTo>
                <a:lnTo>
                  <a:pt x="171" y="349"/>
                </a:lnTo>
                <a:lnTo>
                  <a:pt x="224" y="321"/>
                </a:lnTo>
                <a:lnTo>
                  <a:pt x="228" y="316"/>
                </a:lnTo>
                <a:lnTo>
                  <a:pt x="269" y="269"/>
                </a:lnTo>
                <a:lnTo>
                  <a:pt x="298" y="250"/>
                </a:lnTo>
                <a:lnTo>
                  <a:pt x="301" y="24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4680" y="3805200"/>
            <a:ext cx="252360" cy="341280"/>
          </a:xfrm>
          <a:custGeom>
            <a:avLst/>
            <a:gdLst/>
            <a:ahLst/>
            <a:rect l="l" t="t" r="r" b="b"/>
            <a:pathLst>
              <a:path w="227" h="308">
                <a:moveTo>
                  <a:pt x="101" y="1"/>
                </a:moveTo>
                <a:lnTo>
                  <a:pt x="161" y="25"/>
                </a:lnTo>
                <a:lnTo>
                  <a:pt x="189" y="81"/>
                </a:lnTo>
                <a:lnTo>
                  <a:pt x="190" y="88"/>
                </a:lnTo>
                <a:lnTo>
                  <a:pt x="190" y="97"/>
                </a:lnTo>
                <a:lnTo>
                  <a:pt x="204" y="158"/>
                </a:lnTo>
                <a:lnTo>
                  <a:pt x="208" y="172"/>
                </a:lnTo>
                <a:lnTo>
                  <a:pt x="212" y="187"/>
                </a:lnTo>
                <a:lnTo>
                  <a:pt x="226" y="258"/>
                </a:lnTo>
                <a:lnTo>
                  <a:pt x="227" y="281"/>
                </a:lnTo>
                <a:lnTo>
                  <a:pt x="226" y="290"/>
                </a:lnTo>
                <a:lnTo>
                  <a:pt x="224" y="298"/>
                </a:lnTo>
                <a:lnTo>
                  <a:pt x="220" y="303"/>
                </a:lnTo>
                <a:lnTo>
                  <a:pt x="215" y="307"/>
                </a:lnTo>
                <a:lnTo>
                  <a:pt x="208" y="308"/>
                </a:lnTo>
                <a:lnTo>
                  <a:pt x="199" y="307"/>
                </a:lnTo>
                <a:lnTo>
                  <a:pt x="140" y="271"/>
                </a:lnTo>
                <a:lnTo>
                  <a:pt x="85" y="219"/>
                </a:lnTo>
                <a:lnTo>
                  <a:pt x="36" y="161"/>
                </a:lnTo>
                <a:lnTo>
                  <a:pt x="1" y="100"/>
                </a:lnTo>
                <a:lnTo>
                  <a:pt x="0" y="92"/>
                </a:lnTo>
                <a:lnTo>
                  <a:pt x="0" y="84"/>
                </a:lnTo>
                <a:lnTo>
                  <a:pt x="27" y="28"/>
                </a:lnTo>
                <a:lnTo>
                  <a:pt x="86" y="1"/>
                </a:lnTo>
                <a:lnTo>
                  <a:pt x="93" y="0"/>
                </a:lnTo>
                <a:lnTo>
                  <a:pt x="101" y="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3429000"/>
            <a:ext cx="73080" cy="73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30920" y="3429000"/>
            <a:ext cx="72720" cy="73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4355640" y="3765240"/>
            <a:ext cx="73080" cy="73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4930920" y="3766680"/>
            <a:ext cx="72720" cy="73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at to do?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1840" y="2847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5440" y="249228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28360" y="2492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4360" y="249228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270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49840" y="249228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94160" y="239220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48000" y="270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8160" y="239220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54560" y="270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95240" y="2392200"/>
            <a:ext cx="120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64000" y="46893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54920" y="4111560"/>
            <a:ext cx="255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ertebral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3440" y="426240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COM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om CT 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3720" y="44496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L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835280" y="2924280"/>
            <a:ext cx="1152360" cy="129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92720" y="2924280"/>
            <a:ext cx="1655640" cy="129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80"/>
                </a:solidFill>
                <a:latin typeface="Arial"/>
              </a:rPr>
              <a:t>Why use </a:t>
            </a:r>
            <a:r>
              <a:rPr b="0" i="1" lang="nl-NL" sz="3200" spc="-1" strike="noStrike">
                <a:solidFill>
                  <a:srgbClr val="808080"/>
                </a:solidFill>
                <a:latin typeface="Arial"/>
              </a:rPr>
              <a:t>Mathematica</a:t>
            </a:r>
            <a:r>
              <a:rPr b="0" lang="nl-NL" sz="32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s capable of importing DICOM and exporting ST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thVisionTool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package contains various image analysis func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programming language delivers unrivalled speed in prototy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80"/>
                </a:solidFill>
                <a:latin typeface="Arial"/>
              </a:rPr>
              <a:t>What kind of algorithm to develop?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tive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gorithms have the features we w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closed surfa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easy to understa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ngulated surface can be exported to ST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07:16:33Z</dcterms:created>
  <dc:creator>Bennink, H.E.</dc:creator>
  <dc:description/>
  <dc:language>en-US</dc:language>
  <cp:lastModifiedBy>Bennink, H.E.</cp:lastModifiedBy>
  <dcterms:modified xsi:type="dcterms:W3CDTF">2005-09-30T07:45:24Z</dcterms:modified>
  <cp:revision>19</cp:revision>
  <dc:subject/>
  <dc:title>Slide 1</dc:title>
</cp:coreProperties>
</file>